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21.gif" ContentType="image/gif"/>
  <Override PartName="/ppt/media/image20.gif" ContentType="image/gif"/>
  <Override PartName="/ppt/media/image18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9.jpeg" ContentType="image/jpeg"/>
  <Override PartName="/ppt/media/image11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CB7-E5A0-4E5D-82A6-B6C2A252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1AC9-B3CE-4787-B384-4E1FD85C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686-3AC7-4ABD-92FA-02A507E9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FAC4-03DC-4478-9786-4BC62BDB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279B-E6E7-44D8-AE41-746C8AE7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C7D0-F876-4369-88DE-96BBA658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983B-9EC5-4E7B-B2AF-0F51EDC8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131B-A8D0-4F8E-B17A-0E0AE5A9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D248-BC79-4500-B3AC-B18A9CE1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7051-BE95-47EB-95FD-522C673D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07F1-FB77-4C20-9187-51340F3A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72C-F8C0-4FF4-A098-60C02DD9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8611-DD32-46A3-84E8-E9E34157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532D-135A-4DB3-A36A-2BC056E5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F9A0-4BD5-4BCB-ABF3-7539F8A7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09CC-4C9E-42CC-8CAC-D3C48FEF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C0E8-26CD-4C65-A17E-7859F4E9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1197C-C36C-4CD6-9195-4ACD49A7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4EF0B-2223-4DDB-BC31-1943CE58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1824-F474-4B76-8032-7279F95B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64103-B276-446E-949D-EA522303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6BF35-E515-4D76-8B06-8E0254C4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107-9221-44AF-A008-9FE386AA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08F78-F20A-4BF0-8658-02C5F68D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D8AF2-2E67-4DD7-81A4-76CE5BD1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DE4D7-1FD0-4A3A-85A3-3330E253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393BF-C0FA-4BBE-BE2A-4077BD62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E416B-D65F-4AD0-8F74-6C8A1C9C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49616-AD2E-4496-8DAE-76A38B0A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CB042-D2A6-42B9-A1CE-A8F5BED0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D9F0-74B7-4E98-AF95-ECA03EF2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233-A99B-41E2-A6FE-98151B03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D0F-E152-4195-A6CF-E3ED9F22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D97-4D85-46A6-B133-030FD251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23B-7023-4268-85D6-6DCC0A98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11B-2930-4ADF-8C4C-70966B28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AC0C-9833-4381-94CF-913F70D6B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360A-5936-46A0-B383-A7133878478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09D1-4C12-4AA2-8D9F-B6AEEB2951B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3-2 Angles and Parallel Lines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age 180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443320" y="2405160"/>
            <a:ext cx="4286160" cy="307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142040" y="4510080"/>
            <a:ext cx="101304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. 2 Find the values of x, y, and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 //HT and NG//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 = 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y + 2 = 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y =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z + 72 = 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z = 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= 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30800" y="3106800"/>
            <a:ext cx="3508200" cy="12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075200" y="4343400"/>
            <a:ext cx="3414600" cy="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867200" y="2259000"/>
            <a:ext cx="928800" cy="322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159600" y="2379600"/>
            <a:ext cx="752400" cy="3146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64080" y="30891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83080" y="3102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99080" y="3990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67080" y="44751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y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77400" y="1946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116840" y="2243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68880" y="2657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404400" y="2684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44160" y="40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440" y="3963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66200" y="493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18440" y="5025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Given p//q , m&lt;1 =107, and m&lt;11 = 48. Find the measure of each angle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>
            <a:off x="5108400" y="2728800"/>
            <a:ext cx="2192400" cy="313560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270480" y="2452680"/>
            <a:ext cx="1973520" cy="28591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4150800" y="2379600"/>
            <a:ext cx="3497400" cy="283068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498840" y="4397400"/>
            <a:ext cx="4673520" cy="39204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303640" y="4324320"/>
            <a:ext cx="1054080" cy="12286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98720" y="4962600"/>
            <a:ext cx="647640" cy="619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5295960" y="35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985080" y="3992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91240" y="220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31000" y="19810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Find x and y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400040"/>
            <a:ext cx="77724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384880" y="1481040"/>
            <a:ext cx="2914560" cy="367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08760" y="3556080"/>
            <a:ext cx="1639800" cy="586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19560" y="3114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4x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76720" y="34909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y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52560" y="471168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x+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15200" y="3503520"/>
            <a:ext cx="284040" cy="125640"/>
          </a:xfrm>
          <a:prstGeom prst="triangle">
            <a:avLst>
              <a:gd name="adj" fmla="val 5475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467480" y="5033880"/>
            <a:ext cx="284400" cy="125640"/>
          </a:xfrm>
          <a:prstGeom prst="triangle">
            <a:avLst>
              <a:gd name="adj" fmla="val 5475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ind x and y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501560"/>
            <a:ext cx="7772400" cy="45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iven that a//b, find x and 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"/>
          <p:cNvSpPr/>
          <p:nvPr/>
        </p:nvSpPr>
        <p:spPr>
          <a:xfrm>
            <a:off x="4498920" y="2859120"/>
            <a:ext cx="3513240" cy="4284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00440" y="3948120"/>
            <a:ext cx="3454560" cy="4284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6124320" y="2090880"/>
            <a:ext cx="842760" cy="309060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208560" y="283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6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02120" y="29131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9x+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511600" y="3519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3y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84280" y="2585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00840" y="378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ass work on page 183 problems 1-10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mework on page 183 problems 11-2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19040" y="781200"/>
            <a:ext cx="7539120" cy="48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1440" y="618012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195120" y="195120"/>
            <a:ext cx="5690880" cy="446400"/>
            <a:chOff x="195120" y="195120"/>
            <a:chExt cx="5690880" cy="44640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348200" y="20628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578400" y="2724120"/>
            <a:ext cx="3671640" cy="198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18040" y="77940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6480" y="1282680"/>
            <a:ext cx="575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ULATE 1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Corresponding Angles Postul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3520" y="3079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611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235240" y="1752480"/>
            <a:ext cx="4789080" cy="2817360"/>
            <a:chOff x="2235240" y="1752480"/>
            <a:chExt cx="4789080" cy="2817360"/>
          </a:xfrm>
        </p:grpSpPr>
        <p:sp>
          <p:nvSpPr>
            <p:cNvPr id="224" name=""/>
            <p:cNvSpPr/>
            <p:nvPr/>
          </p:nvSpPr>
          <p:spPr>
            <a:xfrm>
              <a:off x="2235240" y="1752480"/>
              <a:ext cx="1524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847320" y="3138840"/>
              <a:ext cx="3177000" cy="1431000"/>
              <a:chOff x="3847320" y="3138840"/>
              <a:chExt cx="3177000" cy="1431000"/>
            </a:xfrm>
          </p:grpSpPr>
          <p:sp>
            <p:nvSpPr>
              <p:cNvPr id="226" name=""/>
              <p:cNvSpPr/>
              <p:nvPr/>
            </p:nvSpPr>
            <p:spPr>
              <a:xfrm rot="20970600">
                <a:off x="3835440" y="3428640"/>
                <a:ext cx="3200400" cy="1652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970600">
                <a:off x="3835440" y="4114440"/>
                <a:ext cx="3200400" cy="1652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5124240" y="1752480"/>
            <a:ext cx="1530720" cy="2739600"/>
            <a:chOff x="5124240" y="1752480"/>
            <a:chExt cx="1530720" cy="2739600"/>
          </a:xfrm>
        </p:grpSpPr>
        <p:sp>
          <p:nvSpPr>
            <p:cNvPr id="229" name=""/>
            <p:cNvSpPr/>
            <p:nvPr/>
          </p:nvSpPr>
          <p:spPr>
            <a:xfrm>
              <a:off x="5207040" y="1752480"/>
              <a:ext cx="144792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7114400">
              <a:off x="4619520" y="3612960"/>
              <a:ext cx="1595520" cy="1731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527200" y="2082960"/>
            <a:ext cx="3675240" cy="2735280"/>
            <a:chOff x="2527200" y="2082960"/>
            <a:chExt cx="3675240" cy="2735280"/>
          </a:xfrm>
        </p:grpSpPr>
        <p:sp>
          <p:nvSpPr>
            <p:cNvPr id="232" name=""/>
            <p:cNvSpPr/>
            <p:nvPr/>
          </p:nvSpPr>
          <p:spPr>
            <a:xfrm>
              <a:off x="2527200" y="2082960"/>
              <a:ext cx="64764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94240" y="2082960"/>
              <a:ext cx="2514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4765680" y="2841840"/>
              <a:ext cx="1436760" cy="1976400"/>
              <a:chOff x="4765680" y="2841840"/>
              <a:chExt cx="1436760" cy="1976400"/>
            </a:xfrm>
          </p:grpSpPr>
          <p:sp>
            <p:nvSpPr>
              <p:cNvPr id="235" name=""/>
              <p:cNvSpPr/>
              <p:nvPr/>
            </p:nvSpPr>
            <p:spPr>
              <a:xfrm rot="2433600">
                <a:off x="5128920" y="3024360"/>
                <a:ext cx="890640" cy="890280"/>
              </a:xfrm>
              <a:prstGeom prst="blockArc">
                <a:avLst>
                  <a:gd name="adj1" fmla="val 13773794"/>
                  <a:gd name="adj2" fmla="val 18626206"/>
                  <a:gd name="adj3" fmla="val 8731"/>
                </a:avLst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433600">
                <a:off x="4947840" y="3745080"/>
                <a:ext cx="890640" cy="890280"/>
              </a:xfrm>
              <a:prstGeom prst="blockArc">
                <a:avLst>
                  <a:gd name="adj1" fmla="val 13773794"/>
                  <a:gd name="adj2" fmla="val 18626206"/>
                  <a:gd name="adj3" fmla="val 8731"/>
                </a:avLst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1930320" y="2400480"/>
            <a:ext cx="4241880" cy="2997000"/>
            <a:chOff x="1930320" y="2400480"/>
            <a:chExt cx="4241880" cy="2997000"/>
          </a:xfrm>
        </p:grpSpPr>
        <p:sp>
          <p:nvSpPr>
            <p:cNvPr id="238" name=""/>
            <p:cNvSpPr/>
            <p:nvPr/>
          </p:nvSpPr>
          <p:spPr>
            <a:xfrm>
              <a:off x="1930320" y="240048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95680" y="4886280"/>
              <a:ext cx="167652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57920" y="4933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   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99160" y="507204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27800" y="507204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259240" y="5060880"/>
              <a:ext cx="1731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>
            <a:off x="1434240" y="1763640"/>
            <a:ext cx="534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corresponding ang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congr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7308720" y="3743280"/>
            <a:ext cx="1447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19040" y="781200"/>
            <a:ext cx="7539120" cy="48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346560" y="3156120"/>
            <a:ext cx="3251160" cy="16603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6840" y="1282680"/>
            <a:ext cx="4632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Alternate Interior Ang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3640" y="346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56320" y="399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222640" y="1778040"/>
            <a:ext cx="4186080" cy="2670120"/>
            <a:chOff x="2222640" y="1778040"/>
            <a:chExt cx="4186080" cy="2670120"/>
          </a:xfrm>
        </p:grpSpPr>
        <p:sp>
          <p:nvSpPr>
            <p:cNvPr id="259" name=""/>
            <p:cNvSpPr/>
            <p:nvPr/>
          </p:nvSpPr>
          <p:spPr>
            <a:xfrm>
              <a:off x="2222640" y="177804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3000">
              <a:off x="3525480" y="348300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3000">
              <a:off x="3538440" y="42703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943800" y="1752480"/>
            <a:ext cx="2723760" cy="2991600"/>
            <a:chOff x="3943800" y="1752480"/>
            <a:chExt cx="2723760" cy="2991600"/>
          </a:xfrm>
        </p:grpSpPr>
        <p:sp>
          <p:nvSpPr>
            <p:cNvPr id="263" name=""/>
            <p:cNvSpPr/>
            <p:nvPr/>
          </p:nvSpPr>
          <p:spPr>
            <a:xfrm>
              <a:off x="5220000" y="1752480"/>
              <a:ext cx="14475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9422600">
              <a:off x="3768840" y="3878280"/>
              <a:ext cx="2363760" cy="1839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502000" y="2082960"/>
            <a:ext cx="3848040" cy="2827080"/>
            <a:chOff x="2502000" y="2082960"/>
            <a:chExt cx="3848040" cy="2827080"/>
          </a:xfrm>
        </p:grpSpPr>
        <p:sp>
          <p:nvSpPr>
            <p:cNvPr id="266" name=""/>
            <p:cNvSpPr/>
            <p:nvPr/>
          </p:nvSpPr>
          <p:spPr>
            <a:xfrm>
              <a:off x="2502000" y="2082960"/>
              <a:ext cx="7239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68680" y="2082960"/>
              <a:ext cx="27813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4803200">
              <a:off x="4784760" y="3215520"/>
              <a:ext cx="831960" cy="831960"/>
            </a:xfrm>
            <a:prstGeom prst="blockArc">
              <a:avLst>
                <a:gd name="adj1" fmla="val 14185927"/>
                <a:gd name="adj2" fmla="val 18214073"/>
                <a:gd name="adj3" fmla="val 7852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3543600">
              <a:off x="4368600" y="3947760"/>
              <a:ext cx="811080" cy="811080"/>
            </a:xfrm>
            <a:prstGeom prst="blockArc">
              <a:avLst>
                <a:gd name="adj1" fmla="val 14185927"/>
                <a:gd name="adj2" fmla="val 18214073"/>
                <a:gd name="adj3" fmla="val 7852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447920" y="2387520"/>
            <a:ext cx="4406760" cy="3057120"/>
            <a:chOff x="1447920" y="2387520"/>
            <a:chExt cx="4406760" cy="3057120"/>
          </a:xfrm>
        </p:grpSpPr>
        <p:sp>
          <p:nvSpPr>
            <p:cNvPr id="271" name=""/>
            <p:cNvSpPr/>
            <p:nvPr/>
          </p:nvSpPr>
          <p:spPr>
            <a:xfrm>
              <a:off x="1447920" y="238752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78160" y="4924440"/>
              <a:ext cx="167652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27440" y="4984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    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68680" y="509760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7320" y="509760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4929120" y="5086440"/>
              <a:ext cx="1731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"/>
          <p:cNvSpPr/>
          <p:nvPr/>
        </p:nvSpPr>
        <p:spPr>
          <a:xfrm>
            <a:off x="1433880" y="1763640"/>
            <a:ext cx="552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alternate interior angles 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6848640" y="339408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19040" y="781200"/>
            <a:ext cx="7539120" cy="52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200" y="1282680"/>
            <a:ext cx="5022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Consecutive Interior Ang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3346560" y="3156120"/>
            <a:ext cx="3251160" cy="16603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438880" y="3484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30760" y="3979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222640" y="1778040"/>
            <a:ext cx="4186080" cy="2670120"/>
            <a:chOff x="2222640" y="1778040"/>
            <a:chExt cx="4186080" cy="2670120"/>
          </a:xfrm>
        </p:grpSpPr>
        <p:sp>
          <p:nvSpPr>
            <p:cNvPr id="292" name=""/>
            <p:cNvSpPr/>
            <p:nvPr/>
          </p:nvSpPr>
          <p:spPr>
            <a:xfrm>
              <a:off x="2222640" y="177804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3000">
              <a:off x="3525480" y="348300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3000">
              <a:off x="3538440" y="42703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943800" y="1752480"/>
            <a:ext cx="2723760" cy="2991600"/>
            <a:chOff x="3943800" y="1752480"/>
            <a:chExt cx="2723760" cy="2991600"/>
          </a:xfrm>
        </p:grpSpPr>
        <p:sp>
          <p:nvSpPr>
            <p:cNvPr id="296" name=""/>
            <p:cNvSpPr/>
            <p:nvPr/>
          </p:nvSpPr>
          <p:spPr>
            <a:xfrm>
              <a:off x="5220000" y="1752480"/>
              <a:ext cx="14475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9422600">
              <a:off x="3768840" y="3878280"/>
              <a:ext cx="2363760" cy="1839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473120" y="2387520"/>
            <a:ext cx="4845960" cy="3228480"/>
            <a:chOff x="1473120" y="2387520"/>
            <a:chExt cx="4845960" cy="3228480"/>
          </a:xfrm>
        </p:grpSpPr>
        <p:sp>
          <p:nvSpPr>
            <p:cNvPr id="299" name=""/>
            <p:cNvSpPr/>
            <p:nvPr/>
          </p:nvSpPr>
          <p:spPr>
            <a:xfrm>
              <a:off x="1473120" y="2387520"/>
              <a:ext cx="189252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60680" y="5102280"/>
              <a:ext cx="285768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56440" y="5156280"/>
              <a:ext cx="27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5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 = 18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35520" y="52624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0280" y="52624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514600" y="2082960"/>
            <a:ext cx="4191120" cy="2812320"/>
            <a:chOff x="2514600" y="2082960"/>
            <a:chExt cx="4191120" cy="2812320"/>
          </a:xfrm>
        </p:grpSpPr>
        <p:sp>
          <p:nvSpPr>
            <p:cNvPr id="305" name=""/>
            <p:cNvSpPr/>
            <p:nvPr/>
          </p:nvSpPr>
          <p:spPr>
            <a:xfrm>
              <a:off x="2514600" y="2082960"/>
              <a:ext cx="6984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81280" y="2082960"/>
              <a:ext cx="312444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830400">
              <a:off x="5173200" y="3152520"/>
              <a:ext cx="790560" cy="790560"/>
            </a:xfrm>
            <a:prstGeom prst="blockArc">
              <a:avLst>
                <a:gd name="adj1" fmla="val 11794423"/>
                <a:gd name="adj2" fmla="val 20605577"/>
                <a:gd name="adj3" fmla="val 9120"/>
              </a:avLst>
            </a:prstGeom>
            <a:solidFill>
              <a:srgbClr val="c2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3304800">
              <a:off x="4440240" y="3949200"/>
              <a:ext cx="790560" cy="790560"/>
            </a:xfrm>
            <a:prstGeom prst="blockArc">
              <a:avLst>
                <a:gd name="adj1" fmla="val 13917282"/>
                <a:gd name="adj2" fmla="val 18482718"/>
                <a:gd name="adj3" fmla="val 8204"/>
              </a:avLst>
            </a:prstGeom>
            <a:solidFill>
              <a:srgbClr val="faa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432800" y="1763640"/>
            <a:ext cx="588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consecutive interior angles 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ement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975360" y="3637080"/>
            <a:ext cx="1457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19040" y="781200"/>
            <a:ext cx="7539120" cy="50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22360" y="1282680"/>
            <a:ext cx="4711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Alternate Exterior Ang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3321000" y="3156120"/>
            <a:ext cx="3251160" cy="16603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305680" y="317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92640" y="432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222640" y="1778040"/>
            <a:ext cx="4186080" cy="2670120"/>
            <a:chOff x="2222640" y="1778040"/>
            <a:chExt cx="4186080" cy="2670120"/>
          </a:xfrm>
        </p:grpSpPr>
        <p:sp>
          <p:nvSpPr>
            <p:cNvPr id="324" name=""/>
            <p:cNvSpPr/>
            <p:nvPr/>
          </p:nvSpPr>
          <p:spPr>
            <a:xfrm>
              <a:off x="2222640" y="177804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3000">
              <a:off x="3525480" y="348300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3000">
              <a:off x="3538440" y="42703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943800" y="1752480"/>
            <a:ext cx="2723760" cy="2991600"/>
            <a:chOff x="3943800" y="1752480"/>
            <a:chExt cx="2723760" cy="2991600"/>
          </a:xfrm>
        </p:grpSpPr>
        <p:sp>
          <p:nvSpPr>
            <p:cNvPr id="328" name=""/>
            <p:cNvSpPr/>
            <p:nvPr/>
          </p:nvSpPr>
          <p:spPr>
            <a:xfrm>
              <a:off x="5220000" y="1752480"/>
              <a:ext cx="14475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9422600">
              <a:off x="3768840" y="3878280"/>
              <a:ext cx="2363760" cy="1839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476440" y="2082960"/>
            <a:ext cx="4483080" cy="2827800"/>
            <a:chOff x="2476440" y="2082960"/>
            <a:chExt cx="4483080" cy="2827800"/>
          </a:xfrm>
        </p:grpSpPr>
        <p:sp>
          <p:nvSpPr>
            <p:cNvPr id="331" name=""/>
            <p:cNvSpPr/>
            <p:nvPr/>
          </p:nvSpPr>
          <p:spPr>
            <a:xfrm>
              <a:off x="2476440" y="2082960"/>
              <a:ext cx="7239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30520" y="2082960"/>
              <a:ext cx="34290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465400">
              <a:off x="5138640" y="3146040"/>
              <a:ext cx="720720" cy="720720"/>
            </a:xfrm>
            <a:prstGeom prst="blockArc">
              <a:avLst>
                <a:gd name="adj1" fmla="val 11357330"/>
                <a:gd name="adj2" fmla="val 21042670"/>
                <a:gd name="adj3" fmla="val 8528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9805200">
              <a:off x="4090680" y="4102200"/>
              <a:ext cx="720720" cy="720720"/>
            </a:xfrm>
            <a:prstGeom prst="blockArc">
              <a:avLst>
                <a:gd name="adj1" fmla="val 10773708"/>
                <a:gd name="adj2" fmla="val 26292"/>
                <a:gd name="adj3" fmla="val 8231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425600" y="2387520"/>
            <a:ext cx="4349880" cy="3238560"/>
            <a:chOff x="1425600" y="2387520"/>
            <a:chExt cx="4349880" cy="3238560"/>
          </a:xfrm>
        </p:grpSpPr>
        <p:sp>
          <p:nvSpPr>
            <p:cNvPr id="336" name=""/>
            <p:cNvSpPr/>
            <p:nvPr/>
          </p:nvSpPr>
          <p:spPr>
            <a:xfrm>
              <a:off x="1425600" y="238752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75280" y="5114880"/>
              <a:ext cx="160020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25920" y="51642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      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67160" y="52768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95800" y="52768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4"/>
            <a:stretch/>
          </p:blipFill>
          <p:spPr>
            <a:xfrm>
              <a:off x="4846680" y="5283360"/>
              <a:ext cx="1731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"/>
          <p:cNvSpPr/>
          <p:nvPr/>
        </p:nvSpPr>
        <p:spPr>
          <a:xfrm>
            <a:off x="1407600" y="1763640"/>
            <a:ext cx="559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alternate exterior angles 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7066080" y="379728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346" name="" descr=""/>
            <p:cNvPicPr/>
            <p:nvPr/>
          </p:nvPicPr>
          <p:blipFill>
            <a:blip r:embed="rId2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19040" y="781200"/>
            <a:ext cx="7539120" cy="52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48280" y="1282680"/>
            <a:ext cx="4845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Perpendicular Transvers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333600" y="3124080"/>
            <a:ext cx="3600720" cy="193068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1930320" y="1752480"/>
            <a:ext cx="3291480" cy="3054600"/>
            <a:chOff x="1930320" y="1752480"/>
            <a:chExt cx="3291480" cy="3054600"/>
          </a:xfrm>
        </p:grpSpPr>
        <p:sp>
          <p:nvSpPr>
            <p:cNvPr id="355" name=""/>
            <p:cNvSpPr/>
            <p:nvPr/>
          </p:nvSpPr>
          <p:spPr>
            <a:xfrm>
              <a:off x="1930320" y="1752480"/>
              <a:ext cx="129564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18600">
              <a:off x="4437000" y="4025160"/>
              <a:ext cx="1349640" cy="2127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5880" y="1752480"/>
            <a:ext cx="6356520" cy="2898720"/>
            <a:chOff x="1415880" y="1752480"/>
            <a:chExt cx="6356520" cy="2898720"/>
          </a:xfrm>
        </p:grpSpPr>
        <p:sp>
          <p:nvSpPr>
            <p:cNvPr id="358" name=""/>
            <p:cNvSpPr/>
            <p:nvPr/>
          </p:nvSpPr>
          <p:spPr>
            <a:xfrm rot="3000">
              <a:off x="3546000" y="3812760"/>
              <a:ext cx="316548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3000">
              <a:off x="3547800" y="4473360"/>
              <a:ext cx="31654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1415880" y="1752480"/>
              <a:ext cx="6356520" cy="698760"/>
              <a:chOff x="1415880" y="1752480"/>
              <a:chExt cx="6356520" cy="698760"/>
            </a:xfrm>
          </p:grpSpPr>
          <p:sp>
            <p:nvSpPr>
              <p:cNvPr id="361" name=""/>
              <p:cNvSpPr/>
              <p:nvPr/>
            </p:nvSpPr>
            <p:spPr>
              <a:xfrm>
                <a:off x="6203880" y="1752480"/>
                <a:ext cx="1568520" cy="381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415880" y="2070000"/>
                <a:ext cx="806760" cy="381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"/>
          <p:cNvGrpSpPr/>
          <p:nvPr/>
        </p:nvGrpSpPr>
        <p:grpSpPr>
          <a:xfrm>
            <a:off x="3301920" y="2082960"/>
            <a:ext cx="2833920" cy="3733560"/>
            <a:chOff x="3301920" y="2082960"/>
            <a:chExt cx="2833920" cy="3733560"/>
          </a:xfrm>
        </p:grpSpPr>
        <p:pic>
          <p:nvPicPr>
            <p:cNvPr id="364" name="" descr=""/>
            <p:cNvPicPr/>
            <p:nvPr/>
          </p:nvPicPr>
          <p:blipFill>
            <a:blip r:embed="rId4"/>
            <a:stretch/>
          </p:blipFill>
          <p:spPr>
            <a:xfrm>
              <a:off x="5124600" y="4248000"/>
              <a:ext cx="3348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3301920" y="2082960"/>
              <a:ext cx="170172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4476600" y="5305320"/>
              <a:ext cx="1659240" cy="511200"/>
              <a:chOff x="4476600" y="5305320"/>
              <a:chExt cx="1659240" cy="511200"/>
            </a:xfrm>
          </p:grpSpPr>
          <p:sp>
            <p:nvSpPr>
              <p:cNvPr id="367" name=""/>
              <p:cNvSpPr/>
              <p:nvPr/>
            </p:nvSpPr>
            <p:spPr>
              <a:xfrm>
                <a:off x="4476600" y="5305320"/>
                <a:ext cx="1231920" cy="511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3bb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4740120" y="5321160"/>
                <a:ext cx="1395720" cy="459720"/>
                <a:chOff x="4740120" y="5321160"/>
                <a:chExt cx="1395720" cy="4597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4740120" y="5321160"/>
                  <a:ext cx="1395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0" name=""/>
                <p:cNvGrpSpPr/>
                <p:nvPr/>
              </p:nvGrpSpPr>
              <p:grpSpPr>
                <a:xfrm>
                  <a:off x="5021280" y="5446800"/>
                  <a:ext cx="174600" cy="193680"/>
                  <a:chOff x="5021280" y="5446800"/>
                  <a:chExt cx="174600" cy="19368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5021280" y="5640480"/>
                    <a:ext cx="174600" cy="0"/>
                  </a:xfrm>
                  <a:prstGeom prst="line">
                    <a:avLst/>
                  </a:prstGeom>
                  <a:ln w="19080">
                    <a:solidFill>
                      <a:srgbClr val="fe000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116680" y="5446800"/>
                    <a:ext cx="0" cy="193680"/>
                  </a:xfrm>
                  <a:prstGeom prst="line">
                    <a:avLst/>
                  </a:prstGeom>
                  <a:ln w="19080">
                    <a:solidFill>
                      <a:srgbClr val="fe000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73" name=""/>
          <p:cNvSpPr/>
          <p:nvPr/>
        </p:nvSpPr>
        <p:spPr>
          <a:xfrm>
            <a:off x="1447560" y="1763640"/>
            <a:ext cx="620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transversal is perpendicular to one of  two parall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s,  then it is  perpendicular  to the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604880" y="3986280"/>
            <a:ext cx="71582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177840" y="117360"/>
            <a:ext cx="6575760" cy="460440"/>
            <a:chOff x="177840" y="117360"/>
            <a:chExt cx="6575760" cy="460440"/>
          </a:xfrm>
        </p:grpSpPr>
        <p:sp>
          <p:nvSpPr>
            <p:cNvPr id="377" name=""/>
            <p:cNvSpPr/>
            <p:nvPr/>
          </p:nvSpPr>
          <p:spPr>
            <a:xfrm>
              <a:off x="1554480" y="154080"/>
              <a:ext cx="519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ving the Alternate Interior Angles Theor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4200" y="711360"/>
            <a:ext cx="526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e the Alternate Interior Angles Theor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96960" y="1227240"/>
            <a:ext cx="14479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93720" y="1251000"/>
            <a:ext cx="1411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515960" y="2073240"/>
            <a:ext cx="2188080" cy="459720"/>
            <a:chOff x="1515960" y="2073240"/>
            <a:chExt cx="2188080" cy="459720"/>
          </a:xfrm>
        </p:grpSpPr>
        <p:sp>
          <p:nvSpPr>
            <p:cNvPr id="384" name=""/>
            <p:cNvSpPr/>
            <p:nvPr/>
          </p:nvSpPr>
          <p:spPr>
            <a:xfrm>
              <a:off x="1515960" y="211932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IV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5400000">
              <a:off x="2510280" y="2185200"/>
              <a:ext cx="250920" cy="261720"/>
            </a:xfrm>
            <a:prstGeom prst="flowChartExtra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44440" y="2073240"/>
              <a:ext cx="7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||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4888080" y="1182600"/>
            <a:ext cx="3504960" cy="22068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503360" y="3897360"/>
            <a:ext cx="73994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39760" y="397044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4880" y="4570560"/>
            <a:ext cx="71708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08120" y="5116680"/>
            <a:ext cx="71708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11360" y="5624640"/>
            <a:ext cx="731052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8920" y="4456080"/>
            <a:ext cx="7399080" cy="6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15960" y="5040360"/>
            <a:ext cx="73994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612800" y="3498840"/>
            <a:ext cx="7137360" cy="2498760"/>
            <a:chOff x="1612800" y="3498840"/>
            <a:chExt cx="7137360" cy="2498760"/>
          </a:xfrm>
        </p:grpSpPr>
        <p:sp>
          <p:nvSpPr>
            <p:cNvPr id="396" name=""/>
            <p:cNvSpPr/>
            <p:nvPr/>
          </p:nvSpPr>
          <p:spPr>
            <a:xfrm>
              <a:off x="1869480" y="349884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01320" y="349884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s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12800" y="3860640"/>
              <a:ext cx="713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52840" y="3500280"/>
              <a:ext cx="0" cy="249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225440" y="4037760"/>
            <a:ext cx="304920" cy="368280"/>
            <a:chOff x="1225440" y="4037760"/>
            <a:chExt cx="304920" cy="368280"/>
          </a:xfrm>
        </p:grpSpPr>
        <p:sp>
          <p:nvSpPr>
            <p:cNvPr id="401" name=""/>
            <p:cNvSpPr/>
            <p:nvPr/>
          </p:nvSpPr>
          <p:spPr>
            <a:xfrm>
              <a:off x="1225440" y="406368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25440" y="40377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225440" y="4614120"/>
            <a:ext cx="304920" cy="368280"/>
            <a:chOff x="1225440" y="4614120"/>
            <a:chExt cx="304920" cy="368280"/>
          </a:xfrm>
        </p:grpSpPr>
        <p:sp>
          <p:nvSpPr>
            <p:cNvPr id="404" name=""/>
            <p:cNvSpPr/>
            <p:nvPr/>
          </p:nvSpPr>
          <p:spPr>
            <a:xfrm>
              <a:off x="1225440" y="464004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25440" y="461412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225440" y="5144400"/>
            <a:ext cx="304920" cy="368280"/>
            <a:chOff x="1225440" y="5144400"/>
            <a:chExt cx="304920" cy="368280"/>
          </a:xfrm>
        </p:grpSpPr>
        <p:sp>
          <p:nvSpPr>
            <p:cNvPr id="407" name=""/>
            <p:cNvSpPr/>
            <p:nvPr/>
          </p:nvSpPr>
          <p:spPr>
            <a:xfrm>
              <a:off x="1225440" y="517032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25440" y="51444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225440" y="5677920"/>
            <a:ext cx="304920" cy="368280"/>
            <a:chOff x="1225440" y="5677920"/>
            <a:chExt cx="304920" cy="368280"/>
          </a:xfrm>
        </p:grpSpPr>
        <p:sp>
          <p:nvSpPr>
            <p:cNvPr id="410" name=""/>
            <p:cNvSpPr/>
            <p:nvPr/>
          </p:nvSpPr>
          <p:spPr>
            <a:xfrm>
              <a:off x="1225440" y="570384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25440" y="567792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515960" y="2687760"/>
            <a:ext cx="2738520" cy="459720"/>
            <a:chOff x="1515960" y="2687760"/>
            <a:chExt cx="2738520" cy="459720"/>
          </a:xfrm>
        </p:grpSpPr>
        <p:grpSp>
          <p:nvGrpSpPr>
            <p:cNvPr id="413" name=""/>
            <p:cNvGrpSpPr/>
            <p:nvPr/>
          </p:nvGrpSpPr>
          <p:grpSpPr>
            <a:xfrm>
              <a:off x="1515960" y="2687760"/>
              <a:ext cx="2738520" cy="459720"/>
              <a:chOff x="1515960" y="2687760"/>
              <a:chExt cx="2738520" cy="459720"/>
            </a:xfrm>
          </p:grpSpPr>
          <p:sp>
            <p:nvSpPr>
              <p:cNvPr id="414" name=""/>
              <p:cNvSpPr/>
              <p:nvPr/>
            </p:nvSpPr>
            <p:spPr>
              <a:xfrm>
                <a:off x="1515960" y="2746440"/>
                <a:ext cx="98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RO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5400000">
                <a:off x="2510280" y="2793240"/>
                <a:ext cx="250920" cy="261720"/>
              </a:xfrm>
              <a:prstGeom prst="flowChartExtra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98800" y="2687760"/>
                <a:ext cx="12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      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59120" y="2820960"/>
                <a:ext cx="198360" cy="1904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96"/>
                    </a:lnTo>
                    <a:lnTo>
                      <a:pt x="96" y="9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83000" y="2828880"/>
                <a:ext cx="198360" cy="1904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96"/>
                    </a:lnTo>
                    <a:lnTo>
                      <a:pt x="96" y="9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19" name="" descr=""/>
            <p:cNvPicPr/>
            <p:nvPr/>
          </p:nvPicPr>
          <p:blipFill>
            <a:blip r:embed="rId4"/>
            <a:stretch/>
          </p:blipFill>
          <p:spPr>
            <a:xfrm>
              <a:off x="3262320" y="2830680"/>
              <a:ext cx="181080" cy="18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0" name=""/>
          <p:cNvGrpSpPr/>
          <p:nvPr/>
        </p:nvGrpSpPr>
        <p:grpSpPr>
          <a:xfrm>
            <a:off x="1876320" y="4532400"/>
            <a:ext cx="6774120" cy="489960"/>
            <a:chOff x="1876320" y="4532400"/>
            <a:chExt cx="6774120" cy="489960"/>
          </a:xfrm>
        </p:grpSpPr>
        <p:sp>
          <p:nvSpPr>
            <p:cNvPr id="421" name=""/>
            <p:cNvSpPr/>
            <p:nvPr/>
          </p:nvSpPr>
          <p:spPr>
            <a:xfrm>
              <a:off x="2038320" y="4532400"/>
              <a:ext cx="661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3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orresponding Angles Postul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76320" y="471168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33760" y="4697280"/>
              <a:ext cx="198360" cy="190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905120" y="5099040"/>
            <a:ext cx="5918760" cy="489960"/>
            <a:chOff x="1905120" y="5099040"/>
            <a:chExt cx="5918760" cy="489960"/>
          </a:xfrm>
        </p:grpSpPr>
        <p:sp>
          <p:nvSpPr>
            <p:cNvPr id="425" name=""/>
            <p:cNvSpPr/>
            <p:nvPr/>
          </p:nvSpPr>
          <p:spPr>
            <a:xfrm>
              <a:off x="2063880" y="5099040"/>
              <a:ext cx="5760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2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Vertical Angles Theore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05120" y="5257800"/>
              <a:ext cx="19800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95240" y="5265720"/>
              <a:ext cx="19800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911240" y="5605560"/>
            <a:ext cx="6926400" cy="489960"/>
            <a:chOff x="1911240" y="5605560"/>
            <a:chExt cx="6926400" cy="489960"/>
          </a:xfrm>
        </p:grpSpPr>
        <p:sp>
          <p:nvSpPr>
            <p:cNvPr id="429" name=""/>
            <p:cNvSpPr/>
            <p:nvPr/>
          </p:nvSpPr>
          <p:spPr>
            <a:xfrm>
              <a:off x="2039760" y="5605560"/>
              <a:ext cx="6797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ransitive property of Congru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11240" y="576252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02080" y="5770440"/>
              <a:ext cx="198360" cy="190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4576680" y="3516480"/>
            <a:ext cx="356400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11520" y="3427560"/>
            <a:ext cx="46688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64080" y="4151160"/>
            <a:ext cx="3576600" cy="462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49200" y="4024440"/>
            <a:ext cx="703116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64080" y="4761000"/>
            <a:ext cx="441468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68600" y="4621320"/>
            <a:ext cx="747540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64080" y="5345280"/>
            <a:ext cx="44276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177840" y="117360"/>
            <a:ext cx="5204160" cy="460440"/>
            <a:chOff x="177840" y="117360"/>
            <a:chExt cx="5204160" cy="460440"/>
          </a:xfrm>
        </p:grpSpPr>
        <p:sp>
          <p:nvSpPr>
            <p:cNvPr id="441" name=""/>
            <p:cNvSpPr/>
            <p:nvPr/>
          </p:nvSpPr>
          <p:spPr>
            <a:xfrm>
              <a:off x="1554480" y="154080"/>
              <a:ext cx="382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Properties of Parallel 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28880" y="2614680"/>
            <a:ext cx="144756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25640" y="263844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02000" y="846000"/>
            <a:ext cx="323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 = 65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d each measure. T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ich postulate or theor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ou u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18040" y="939960"/>
            <a:ext cx="198360" cy="19044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0"/>
                </a:moveTo>
                <a:lnTo>
                  <a:pt x="0" y="96"/>
                </a:lnTo>
                <a:lnTo>
                  <a:pt x="96" y="9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66680" y="4165560"/>
            <a:ext cx="80028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22560" y="4191120"/>
            <a:ext cx="80028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98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035000" y="4146480"/>
            <a:ext cx="6206400" cy="432360"/>
            <a:chOff x="1035000" y="4146480"/>
            <a:chExt cx="6206400" cy="432360"/>
          </a:xfrm>
        </p:grpSpPr>
        <p:sp>
          <p:nvSpPr>
            <p:cNvPr id="451" name=""/>
            <p:cNvSpPr/>
            <p:nvPr/>
          </p:nvSpPr>
          <p:spPr>
            <a:xfrm>
              <a:off x="3373560" y="423720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98360" y="4179960"/>
              <a:ext cx="25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Linear Pair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35000" y="4146480"/>
              <a:ext cx="3642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7 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–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1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07960" y="423864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2158920" y="5384880"/>
            <a:ext cx="80028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41480" y="5372280"/>
            <a:ext cx="79992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017000" y="5348160"/>
            <a:ext cx="7763760" cy="471960"/>
            <a:chOff x="1017000" y="5348160"/>
            <a:chExt cx="7763760" cy="471960"/>
          </a:xfrm>
        </p:grpSpPr>
        <p:sp>
          <p:nvSpPr>
            <p:cNvPr id="458" name=""/>
            <p:cNvSpPr/>
            <p:nvPr/>
          </p:nvSpPr>
          <p:spPr>
            <a:xfrm>
              <a:off x="4695480" y="5421240"/>
              <a:ext cx="40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Alternate Exterior Angles Theor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17000" y="5348160"/>
              <a:ext cx="283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9 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7 = 11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73040" y="541656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08120" y="545472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171880" y="4737240"/>
            <a:ext cx="79992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91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41480" y="4737240"/>
            <a:ext cx="79992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3bb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017000" y="4702320"/>
            <a:ext cx="7512840" cy="497160"/>
            <a:chOff x="1017000" y="4702320"/>
            <a:chExt cx="7512840" cy="497160"/>
          </a:xfrm>
        </p:grpSpPr>
        <p:sp>
          <p:nvSpPr>
            <p:cNvPr id="465" name=""/>
            <p:cNvSpPr/>
            <p:nvPr/>
          </p:nvSpPr>
          <p:spPr>
            <a:xfrm>
              <a:off x="4696200" y="4800600"/>
              <a:ext cx="383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Corresponding Angles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17000" y="4702320"/>
              <a:ext cx="2690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8 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 = 6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90680" y="478152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29000" y="4794120"/>
              <a:ext cx="198360" cy="190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1054080" y="3530520"/>
            <a:ext cx="80028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58920" y="3530520"/>
            <a:ext cx="80028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b8e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017720" y="3511440"/>
            <a:ext cx="6648120" cy="448200"/>
            <a:chOff x="1017720" y="3511440"/>
            <a:chExt cx="6648120" cy="448200"/>
          </a:xfrm>
        </p:grpSpPr>
        <p:sp>
          <p:nvSpPr>
            <p:cNvPr id="472" name=""/>
            <p:cNvSpPr/>
            <p:nvPr/>
          </p:nvSpPr>
          <p:spPr>
            <a:xfrm>
              <a:off x="1017720" y="3511440"/>
              <a:ext cx="272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6 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6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97640" y="3560760"/>
              <a:ext cx="29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Vertical Angles Theor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87440" y="361476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21080" y="361332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 rot="18363600">
            <a:off x="5648040" y="1314360"/>
            <a:ext cx="120672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2228600">
            <a:off x="5800680" y="1196640"/>
            <a:ext cx="1206720" cy="1206360"/>
          </a:xfrm>
          <a:prstGeom prst="blockArc">
            <a:avLst>
              <a:gd name="adj1" fmla="val 13121043"/>
              <a:gd name="adj2" fmla="val 19278957"/>
              <a:gd name="adj3" fmla="val 726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738200">
            <a:off x="6702120" y="1123560"/>
            <a:ext cx="1206360" cy="1206360"/>
          </a:xfrm>
          <a:prstGeom prst="blockArc">
            <a:avLst>
              <a:gd name="adj1" fmla="val 13065547"/>
              <a:gd name="adj2" fmla="val 19334453"/>
              <a:gd name="adj3" fmla="val 6032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6385800">
            <a:off x="6844680" y="124740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03b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6385800">
            <a:off x="5892120" y="138708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6385800">
            <a:off x="5892120" y="137448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6385800">
            <a:off x="5892120" y="138708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2228600">
            <a:off x="5787360" y="1209240"/>
            <a:ext cx="1206360" cy="1206720"/>
          </a:xfrm>
          <a:prstGeom prst="blockArc">
            <a:avLst>
              <a:gd name="adj1" fmla="val 13121043"/>
              <a:gd name="adj2" fmla="val 19278957"/>
              <a:gd name="adj3" fmla="val 726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0" dur="1" fill="hold"/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597560" y="3959280"/>
            <a:ext cx="409716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-268200" y="5186520"/>
            <a:ext cx="753912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59400" y="4518000"/>
            <a:ext cx="413532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76280" y="4429080"/>
            <a:ext cx="7767720" cy="6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59400" y="5089680"/>
            <a:ext cx="413532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87360" y="5013360"/>
            <a:ext cx="78566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59400" y="5673600"/>
            <a:ext cx="4135320" cy="462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320840" y="803160"/>
            <a:ext cx="5204160" cy="460440"/>
            <a:chOff x="1320840" y="803160"/>
            <a:chExt cx="5204160" cy="460440"/>
          </a:xfrm>
        </p:grpSpPr>
        <p:sp>
          <p:nvSpPr>
            <p:cNvPr id="492" name=""/>
            <p:cNvSpPr/>
            <p:nvPr/>
          </p:nvSpPr>
          <p:spPr>
            <a:xfrm>
              <a:off x="2697480" y="839880"/>
              <a:ext cx="382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Properties of Parallel 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1"/>
            <a:stretch/>
          </p:blipFill>
          <p:spPr>
            <a:xfrm>
              <a:off x="1320840" y="8031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"/>
          <p:cNvSpPr/>
          <p:nvPr/>
        </p:nvSpPr>
        <p:spPr>
          <a:xfrm>
            <a:off x="2811600" y="1201680"/>
            <a:ext cx="59212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4670280" y="1355760"/>
            <a:ext cx="3684600" cy="24559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614960" y="1643040"/>
            <a:ext cx="263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roperti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 lines to f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20840" y="3236760"/>
            <a:ext cx="1447920" cy="419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17600" y="326088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629080" y="3998880"/>
            <a:ext cx="5957280" cy="429120"/>
            <a:chOff x="2629080" y="3998880"/>
            <a:chExt cx="5957280" cy="429120"/>
          </a:xfrm>
        </p:grpSpPr>
        <p:sp>
          <p:nvSpPr>
            <p:cNvPr id="500" name=""/>
            <p:cNvSpPr/>
            <p:nvPr/>
          </p:nvSpPr>
          <p:spPr>
            <a:xfrm>
              <a:off x="4752720" y="4025880"/>
              <a:ext cx="383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Corresponding Angles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29080" y="3998880"/>
              <a:ext cx="1701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2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87640" y="4081680"/>
              <a:ext cx="19800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14360" y="4535640"/>
            <a:ext cx="5983920" cy="429120"/>
            <a:chOff x="1314360" y="4535640"/>
            <a:chExt cx="5983920" cy="429120"/>
          </a:xfrm>
        </p:grpSpPr>
        <p:sp>
          <p:nvSpPr>
            <p:cNvPr id="504" name=""/>
            <p:cNvSpPr/>
            <p:nvPr/>
          </p:nvSpPr>
          <p:spPr>
            <a:xfrm>
              <a:off x="4755240" y="4560840"/>
              <a:ext cx="25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Linear Pair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14360" y="4535640"/>
              <a:ext cx="3013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 + (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+ 15)°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84440" y="4630680"/>
              <a:ext cx="198360" cy="190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454040" y="5089680"/>
            <a:ext cx="4684320" cy="429120"/>
            <a:chOff x="1454040" y="5089680"/>
            <a:chExt cx="4684320" cy="429120"/>
          </a:xfrm>
        </p:grpSpPr>
        <p:sp>
          <p:nvSpPr>
            <p:cNvPr id="508" name=""/>
            <p:cNvSpPr/>
            <p:nvPr/>
          </p:nvSpPr>
          <p:spPr>
            <a:xfrm>
              <a:off x="4756680" y="510840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Substitu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54040" y="5089680"/>
              <a:ext cx="2853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25° + (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+ 15)°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346760" y="212760"/>
            <a:ext cx="588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PERTIE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CI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176040" y="225360"/>
            <a:ext cx="1097280" cy="4334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19440" y="5524560"/>
            <a:ext cx="685800" cy="6858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188880" y="5675400"/>
            <a:ext cx="2765880" cy="429120"/>
            <a:chOff x="3188880" y="5675400"/>
            <a:chExt cx="2765880" cy="429120"/>
          </a:xfrm>
        </p:grpSpPr>
        <p:sp>
          <p:nvSpPr>
            <p:cNvPr id="516" name=""/>
            <p:cNvSpPr/>
            <p:nvPr/>
          </p:nvSpPr>
          <p:spPr>
            <a:xfrm>
              <a:off x="4755960" y="56944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Subtrac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88880" y="5675400"/>
              <a:ext cx="106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19:08:34Z</dcterms:created>
  <dc:creator>McDougal Littell</dc:creator>
  <dc:description/>
  <dc:language>en-US</dc:language>
  <cp:lastModifiedBy>Administrative Services</cp:lastModifiedBy>
  <dcterms:modified xsi:type="dcterms:W3CDTF">2013-02-19T20:02:25Z</dcterms:modified>
  <cp:revision>139</cp:revision>
  <dc:subject/>
  <dc:title>No Slide Title</dc:title>
</cp:coreProperties>
</file>