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40A-FA3C-40D8-AA82-DF2E5677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9A6-59EB-41E6-A940-E500476D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B76-C6F6-4117-9A4C-7C4CA57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FD7-BE4B-43D7-9782-A4CC7F55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270-D66F-4EA5-B66A-9C75D5CE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CE46-23BB-4F21-855B-DCB42C4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4B47-F531-444C-AB15-F86F3D9E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9BAC-7CEB-400E-87B0-1FC2718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3DAA-51E7-4768-A85E-CBB07088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CAFA-4999-4C88-B588-9FFC4F6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1EFD-324A-48B5-8F81-5AC5769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EAD-D08D-4FAB-AE1F-688B35D3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891-ADB3-4EC6-848D-05DE109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F52-6D2B-47B1-928F-8BCEFA7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EA33-0B8B-4CFD-BD9E-CB9EBA7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61F7-8F43-4D79-97F8-B022304A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D959-351E-48DC-9EAB-0BCB5B92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7E3D-D4DF-4662-93AC-891E9D03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086C-E8E2-45B4-9693-F5CADE6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FC91-A0FC-432E-9DA8-1E003519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4C3B-EC02-45E5-9D22-5C83EA7D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F79A-2E1A-413D-BB88-5F4DF094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1C2-7FF1-4F66-81AB-0957D2E3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3DCE-ADC2-4C3B-921F-619C85A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BCAA-676F-4D69-8CCD-200F1B6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5F1D-7ED8-407B-AC4E-8808F93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BE14-4002-4042-B2D8-7C86296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683A-9D96-44EC-BA06-42551F30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7606-A7D0-4143-A4C4-84ECC88E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106C-4BE8-4CE4-A90D-10C5BC8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B34-2369-4E15-9553-E047E98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544-A8A8-487F-AD75-1F585B1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DC4-4B8F-4F30-A07E-D3588B1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CB8-9B40-44F4-9C07-AEFA5E6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7E5-6953-4E07-99F4-451327D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11E-ECF2-46E1-8066-161DE8E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2B3-39E8-4D50-B8A2-BBFBA0374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062-D198-4897-8062-F6491674B17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DB8-C3BD-4F4C-8650-88ED351949C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-2 Angles and Parallel Line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age 18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43320" y="2405160"/>
            <a:ext cx="428616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142040" y="4510080"/>
            <a:ext cx="1013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2 Find the values of x, y, and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//HT and NG//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+ 2 =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y =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+ 72 = 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z = 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30800" y="3106800"/>
            <a:ext cx="3508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075200" y="4343400"/>
            <a:ext cx="3414600" cy="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67200" y="2259000"/>
            <a:ext cx="928800" cy="322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159600" y="2379600"/>
            <a:ext cx="752400" cy="3146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3089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308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99080" y="399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475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74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16840" y="224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8880" y="265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4400" y="268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44160" y="40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440" y="3963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66200" y="493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18440" y="502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iven p//q , m&lt;1 =107, and m&lt;11 = 48. Find the measure of each angle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5108400" y="2728800"/>
            <a:ext cx="2192400" cy="3135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0480" y="2452680"/>
            <a:ext cx="1973520" cy="285912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150800" y="2379600"/>
            <a:ext cx="3497400" cy="283068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98840" y="4397400"/>
            <a:ext cx="4673520" cy="3920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03640" y="4324320"/>
            <a:ext cx="1054080" cy="12286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98720" y="49626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95960" y="35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5080" y="399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91240" y="22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31000" y="1981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384880" y="1481040"/>
            <a:ext cx="2914560" cy="367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08760" y="3556080"/>
            <a:ext cx="1639800" cy="586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560" y="3114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4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76720" y="3490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y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52560" y="47116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x+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5200" y="3503520"/>
            <a:ext cx="28404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033880"/>
            <a:ext cx="284400" cy="125640"/>
          </a:xfrm>
          <a:prstGeom prst="triangle">
            <a:avLst>
              <a:gd name="adj" fmla="val 547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nd x and y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ven that a//b, find x and 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4498920" y="2859120"/>
            <a:ext cx="351324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00440" y="3948120"/>
            <a:ext cx="3454560" cy="4284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124320" y="2090880"/>
            <a:ext cx="842760" cy="309060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08560" y="28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6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2120" y="2913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9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11600" y="351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3y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84280" y="258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00840" y="378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ass work on page 183 problems 1-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ework on page 183 problems 11-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440" y="618012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5120" y="195120"/>
            <a:ext cx="5690880" cy="446400"/>
            <a:chOff x="195120" y="195120"/>
            <a:chExt cx="5690880" cy="4464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11289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48200" y="20628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60520" y="614520"/>
            <a:ext cx="7378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578400" y="2724120"/>
            <a:ext cx="3671640" cy="198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8040" y="7794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6480" y="1282680"/>
            <a:ext cx="575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ULATE 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rresponding Angles Postu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520" y="30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611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35240" y="1752480"/>
            <a:ext cx="4789080" cy="2817360"/>
            <a:chOff x="2235240" y="1752480"/>
            <a:chExt cx="4789080" cy="2817360"/>
          </a:xfrm>
        </p:grpSpPr>
        <p:sp>
          <p:nvSpPr>
            <p:cNvPr id="224" name=""/>
            <p:cNvSpPr/>
            <p:nvPr/>
          </p:nvSpPr>
          <p:spPr>
            <a:xfrm>
              <a:off x="2235240" y="1752480"/>
              <a:ext cx="1524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47320" y="3138840"/>
              <a:ext cx="3177000" cy="1431000"/>
              <a:chOff x="3847320" y="3138840"/>
              <a:chExt cx="3177000" cy="1431000"/>
            </a:xfrm>
          </p:grpSpPr>
          <p:sp>
            <p:nvSpPr>
              <p:cNvPr id="226" name=""/>
              <p:cNvSpPr/>
              <p:nvPr/>
            </p:nvSpPr>
            <p:spPr>
              <a:xfrm rot="20970600">
                <a:off x="3835440" y="34286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970600">
                <a:off x="3835440" y="4114440"/>
                <a:ext cx="3200400" cy="1652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5124240" y="1752480"/>
            <a:ext cx="1530720" cy="2739600"/>
            <a:chOff x="5124240" y="1752480"/>
            <a:chExt cx="1530720" cy="2739600"/>
          </a:xfrm>
        </p:grpSpPr>
        <p:sp>
          <p:nvSpPr>
            <p:cNvPr id="229" name=""/>
            <p:cNvSpPr/>
            <p:nvPr/>
          </p:nvSpPr>
          <p:spPr>
            <a:xfrm>
              <a:off x="5207040" y="1752480"/>
              <a:ext cx="14479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7114400">
              <a:off x="4619520" y="3612960"/>
              <a:ext cx="1595520" cy="1731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27200" y="2082960"/>
            <a:ext cx="3675240" cy="2735280"/>
            <a:chOff x="2527200" y="2082960"/>
            <a:chExt cx="3675240" cy="2735280"/>
          </a:xfrm>
        </p:grpSpPr>
        <p:sp>
          <p:nvSpPr>
            <p:cNvPr id="232" name=""/>
            <p:cNvSpPr/>
            <p:nvPr/>
          </p:nvSpPr>
          <p:spPr>
            <a:xfrm>
              <a:off x="2527200" y="2082960"/>
              <a:ext cx="647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4240" y="2082960"/>
              <a:ext cx="2514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765680" y="2841840"/>
              <a:ext cx="1436760" cy="1976400"/>
              <a:chOff x="4765680" y="2841840"/>
              <a:chExt cx="1436760" cy="1976400"/>
            </a:xfrm>
          </p:grpSpPr>
          <p:sp>
            <p:nvSpPr>
              <p:cNvPr id="235" name=""/>
              <p:cNvSpPr/>
              <p:nvPr/>
            </p:nvSpPr>
            <p:spPr>
              <a:xfrm rot="2433600">
                <a:off x="5128920" y="302436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433600">
                <a:off x="4947840" y="3745080"/>
                <a:ext cx="890640" cy="890280"/>
              </a:xfrm>
              <a:prstGeom prst="blockArc">
                <a:avLst>
                  <a:gd name="adj1" fmla="val 13773794"/>
                  <a:gd name="adj2" fmla="val 18626206"/>
                  <a:gd name="adj3" fmla="val 8731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930320" y="2400480"/>
            <a:ext cx="4241880" cy="2997000"/>
            <a:chOff x="1930320" y="2400480"/>
            <a:chExt cx="4241880" cy="2997000"/>
          </a:xfrm>
        </p:grpSpPr>
        <p:sp>
          <p:nvSpPr>
            <p:cNvPr id="238" name=""/>
            <p:cNvSpPr/>
            <p:nvPr/>
          </p:nvSpPr>
          <p:spPr>
            <a:xfrm>
              <a:off x="1930320" y="24004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488628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7920" y="4933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916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7800" y="507204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259240" y="506088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434240" y="1763640"/>
            <a:ext cx="534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rresponding ang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308720" y="3743280"/>
            <a:ext cx="1447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9040" y="781200"/>
            <a:ext cx="753912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840" y="1282680"/>
            <a:ext cx="463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3640" y="34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632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59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63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502000" y="2082960"/>
            <a:ext cx="3848040" cy="2827080"/>
            <a:chOff x="2502000" y="2082960"/>
            <a:chExt cx="3848040" cy="2827080"/>
          </a:xfrm>
        </p:grpSpPr>
        <p:sp>
          <p:nvSpPr>
            <p:cNvPr id="266" name=""/>
            <p:cNvSpPr/>
            <p:nvPr/>
          </p:nvSpPr>
          <p:spPr>
            <a:xfrm>
              <a:off x="250200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8680" y="2082960"/>
              <a:ext cx="27813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803200">
              <a:off x="4784760" y="3215520"/>
              <a:ext cx="831960" cy="83196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3543600">
              <a:off x="4368600" y="3947760"/>
              <a:ext cx="811080" cy="811080"/>
            </a:xfrm>
            <a:prstGeom prst="blockArc">
              <a:avLst>
                <a:gd name="adj1" fmla="val 14185927"/>
                <a:gd name="adj2" fmla="val 18214073"/>
                <a:gd name="adj3" fmla="val 785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2387520"/>
            <a:ext cx="4406760" cy="3057120"/>
            <a:chOff x="1447920" y="2387520"/>
            <a:chExt cx="4406760" cy="3057120"/>
          </a:xfrm>
        </p:grpSpPr>
        <p:sp>
          <p:nvSpPr>
            <p:cNvPr id="271" name=""/>
            <p:cNvSpPr/>
            <p:nvPr/>
          </p:nvSpPr>
          <p:spPr>
            <a:xfrm>
              <a:off x="144792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4924440"/>
              <a:ext cx="167652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440" y="4984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6868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7320" y="509760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4929120" y="508644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433880" y="1763640"/>
            <a:ext cx="552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848640" y="33940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19040" y="781200"/>
            <a:ext cx="753912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200" y="1282680"/>
            <a:ext cx="50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Consecutive In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656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38880" y="348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292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296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73120" y="2387520"/>
            <a:ext cx="4845960" cy="3228480"/>
            <a:chOff x="1473120" y="2387520"/>
            <a:chExt cx="4845960" cy="3228480"/>
          </a:xfrm>
        </p:grpSpPr>
        <p:sp>
          <p:nvSpPr>
            <p:cNvPr id="299" name=""/>
            <p:cNvSpPr/>
            <p:nvPr/>
          </p:nvSpPr>
          <p:spPr>
            <a:xfrm>
              <a:off x="1473120" y="2387520"/>
              <a:ext cx="18925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0680" y="5102280"/>
              <a:ext cx="285768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6440" y="5156280"/>
              <a:ext cx="27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5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 = 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552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52624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14600" y="2082960"/>
            <a:ext cx="4191120" cy="2812320"/>
            <a:chOff x="2514600" y="2082960"/>
            <a:chExt cx="4191120" cy="2812320"/>
          </a:xfrm>
        </p:grpSpPr>
        <p:sp>
          <p:nvSpPr>
            <p:cNvPr id="305" name=""/>
            <p:cNvSpPr/>
            <p:nvPr/>
          </p:nvSpPr>
          <p:spPr>
            <a:xfrm>
              <a:off x="2514600" y="2082960"/>
              <a:ext cx="6984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082960"/>
              <a:ext cx="31244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830400">
              <a:off x="5173200" y="3152520"/>
              <a:ext cx="790560" cy="790560"/>
            </a:xfrm>
            <a:prstGeom prst="blockArc">
              <a:avLst>
                <a:gd name="adj1" fmla="val 11794423"/>
                <a:gd name="adj2" fmla="val 20605577"/>
                <a:gd name="adj3" fmla="val 9120"/>
              </a:avLst>
            </a:prstGeom>
            <a:solidFill>
              <a:srgbClr val="c2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304800">
              <a:off x="4440240" y="3949200"/>
              <a:ext cx="790560" cy="790560"/>
            </a:xfrm>
            <a:prstGeom prst="blockArc">
              <a:avLst>
                <a:gd name="adj1" fmla="val 13917282"/>
                <a:gd name="adj2" fmla="val 18482718"/>
                <a:gd name="adj3" fmla="val 8204"/>
              </a:avLst>
            </a:prstGeom>
            <a:solidFill>
              <a:srgbClr val="faa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432800" y="1763640"/>
            <a:ext cx="58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consecutive in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975360" y="3637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9040" y="781200"/>
            <a:ext cx="7539120" cy="50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2360" y="1282680"/>
            <a:ext cx="47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Alternate Exterior Ang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321000" y="3156120"/>
            <a:ext cx="3251160" cy="166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05680" y="31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92640" y="432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22640" y="1778040"/>
            <a:ext cx="4186080" cy="2670120"/>
            <a:chOff x="2222640" y="1778040"/>
            <a:chExt cx="4186080" cy="2670120"/>
          </a:xfrm>
        </p:grpSpPr>
        <p:sp>
          <p:nvSpPr>
            <p:cNvPr id="324" name=""/>
            <p:cNvSpPr/>
            <p:nvPr/>
          </p:nvSpPr>
          <p:spPr>
            <a:xfrm>
              <a:off x="2222640" y="177804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000">
              <a:off x="3525480" y="348300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000">
              <a:off x="3538440" y="42703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43800" y="1752480"/>
            <a:ext cx="2723760" cy="2991600"/>
            <a:chOff x="3943800" y="1752480"/>
            <a:chExt cx="2723760" cy="2991600"/>
          </a:xfrm>
        </p:grpSpPr>
        <p:sp>
          <p:nvSpPr>
            <p:cNvPr id="328" name=""/>
            <p:cNvSpPr/>
            <p:nvPr/>
          </p:nvSpPr>
          <p:spPr>
            <a:xfrm>
              <a:off x="5220000" y="1752480"/>
              <a:ext cx="14475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9422600">
              <a:off x="3768840" y="3878280"/>
              <a:ext cx="2363760" cy="1839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476440" y="2082960"/>
            <a:ext cx="4483080" cy="2827800"/>
            <a:chOff x="2476440" y="2082960"/>
            <a:chExt cx="4483080" cy="2827800"/>
          </a:xfrm>
        </p:grpSpPr>
        <p:sp>
          <p:nvSpPr>
            <p:cNvPr id="331" name=""/>
            <p:cNvSpPr/>
            <p:nvPr/>
          </p:nvSpPr>
          <p:spPr>
            <a:xfrm>
              <a:off x="2476440" y="2082960"/>
              <a:ext cx="72396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0520" y="2082960"/>
              <a:ext cx="34290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465400">
              <a:off x="5138640" y="3146040"/>
              <a:ext cx="720720" cy="720720"/>
            </a:xfrm>
            <a:prstGeom prst="blockArc">
              <a:avLst>
                <a:gd name="adj1" fmla="val 11357330"/>
                <a:gd name="adj2" fmla="val 21042670"/>
                <a:gd name="adj3" fmla="val 8528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805200">
              <a:off x="4090680" y="4102200"/>
              <a:ext cx="720720" cy="720720"/>
            </a:xfrm>
            <a:prstGeom prst="blockArc">
              <a:avLst>
                <a:gd name="adj1" fmla="val 10773708"/>
                <a:gd name="adj2" fmla="val 26292"/>
                <a:gd name="adj3" fmla="val 8231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425600" y="2387520"/>
            <a:ext cx="4349880" cy="3238560"/>
            <a:chOff x="1425600" y="2387520"/>
            <a:chExt cx="4349880" cy="3238560"/>
          </a:xfrm>
        </p:grpSpPr>
        <p:sp>
          <p:nvSpPr>
            <p:cNvPr id="336" name=""/>
            <p:cNvSpPr/>
            <p:nvPr/>
          </p:nvSpPr>
          <p:spPr>
            <a:xfrm>
              <a:off x="1425600" y="238752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75280" y="5114880"/>
              <a:ext cx="1600200" cy="51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5920" y="5164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716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5800" y="527688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846680" y="5283360"/>
              <a:ext cx="1731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407600" y="1763640"/>
            <a:ext cx="559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 parallel lines  are cut by a  transvers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 pairs  of  alternate exterior angles 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066080" y="3797280"/>
            <a:ext cx="1447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17544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96920" y="190440"/>
            <a:ext cx="5690160" cy="446040"/>
            <a:chOff x="196920" y="190440"/>
            <a:chExt cx="5690160" cy="4460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96920" y="190440"/>
              <a:ext cx="1128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49280" y="201240"/>
              <a:ext cx="453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PERTIES OF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ALLEL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61960" y="609480"/>
            <a:ext cx="7378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19040" y="781200"/>
            <a:ext cx="7539120" cy="52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19040" y="781200"/>
            <a:ext cx="7537680" cy="380880"/>
          </a:xfrm>
          <a:prstGeom prst="rect">
            <a:avLst/>
          </a:prstGeom>
          <a:solidFill>
            <a:srgbClr val="0587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7320" y="779400"/>
            <a:ext cx="48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EMS ABOUT PARALLE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8280" y="1282680"/>
            <a:ext cx="4845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3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5875c"/>
                </a:solidFill>
                <a:latin typeface="Arial"/>
              </a:rPr>
              <a:t>Perpendicular Transve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333600" y="3124080"/>
            <a:ext cx="3600720" cy="19306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930320" y="1752480"/>
            <a:ext cx="3291480" cy="3054600"/>
            <a:chOff x="1930320" y="1752480"/>
            <a:chExt cx="3291480" cy="3054600"/>
          </a:xfrm>
        </p:grpSpPr>
        <p:sp>
          <p:nvSpPr>
            <p:cNvPr id="355" name=""/>
            <p:cNvSpPr/>
            <p:nvPr/>
          </p:nvSpPr>
          <p:spPr>
            <a:xfrm>
              <a:off x="1930320" y="1752480"/>
              <a:ext cx="129564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18600">
              <a:off x="4437000" y="4025160"/>
              <a:ext cx="1349640" cy="21276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5880" y="1752480"/>
            <a:ext cx="6356520" cy="2898720"/>
            <a:chOff x="1415880" y="1752480"/>
            <a:chExt cx="6356520" cy="2898720"/>
          </a:xfrm>
        </p:grpSpPr>
        <p:sp>
          <p:nvSpPr>
            <p:cNvPr id="358" name=""/>
            <p:cNvSpPr/>
            <p:nvPr/>
          </p:nvSpPr>
          <p:spPr>
            <a:xfrm rot="3000">
              <a:off x="3546000" y="3812760"/>
              <a:ext cx="316548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000">
              <a:off x="3547800" y="4473360"/>
              <a:ext cx="31654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15880" y="1752480"/>
              <a:ext cx="6356520" cy="698760"/>
              <a:chOff x="1415880" y="1752480"/>
              <a:chExt cx="6356520" cy="698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203880" y="1752480"/>
                <a:ext cx="156852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15880" y="2070000"/>
                <a:ext cx="80676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3301920" y="2082960"/>
            <a:ext cx="2833920" cy="3733560"/>
            <a:chOff x="3301920" y="2082960"/>
            <a:chExt cx="2833920" cy="373356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124600" y="4248000"/>
              <a:ext cx="334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301920" y="2082960"/>
              <a:ext cx="1701720" cy="38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3bb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476600" y="5305320"/>
              <a:ext cx="1659240" cy="511200"/>
              <a:chOff x="4476600" y="5305320"/>
              <a:chExt cx="1659240" cy="511200"/>
            </a:xfrm>
          </p:grpSpPr>
          <p:sp>
            <p:nvSpPr>
              <p:cNvPr id="367" name=""/>
              <p:cNvSpPr/>
              <p:nvPr/>
            </p:nvSpPr>
            <p:spPr>
              <a:xfrm>
                <a:off x="4476600" y="5305320"/>
                <a:ext cx="1231920" cy="51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3bb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4740120" y="5321160"/>
                <a:ext cx="1395720" cy="459720"/>
                <a:chOff x="4740120" y="5321160"/>
                <a:chExt cx="139572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740120" y="5321160"/>
                  <a:ext cx="1395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5021280" y="5446800"/>
                  <a:ext cx="174600" cy="193680"/>
                  <a:chOff x="5021280" y="5446800"/>
                  <a:chExt cx="174600" cy="193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21280" y="564048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116680" y="5446800"/>
                    <a:ext cx="0" cy="193680"/>
                  </a:xfrm>
                  <a:prstGeom prst="line">
                    <a:avLst/>
                  </a:prstGeom>
                  <a:ln w="19080">
                    <a:solidFill>
                      <a:srgbClr val="fe000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3" name=""/>
          <p:cNvSpPr/>
          <p:nvPr/>
        </p:nvSpPr>
        <p:spPr>
          <a:xfrm>
            <a:off x="1447560" y="1763640"/>
            <a:ext cx="62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ransversal is perpendicular to one of  two parall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,  then it is  perpendicular 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4880" y="3986280"/>
            <a:ext cx="71582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77840" y="117360"/>
            <a:ext cx="6575760" cy="460440"/>
            <a:chOff x="177840" y="117360"/>
            <a:chExt cx="6575760" cy="460440"/>
          </a:xfrm>
        </p:grpSpPr>
        <p:sp>
          <p:nvSpPr>
            <p:cNvPr id="377" name=""/>
            <p:cNvSpPr/>
            <p:nvPr/>
          </p:nvSpPr>
          <p:spPr>
            <a:xfrm>
              <a:off x="1554480" y="154080"/>
              <a:ext cx="519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ng the Alternate Interior Angles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4200" y="711360"/>
            <a:ext cx="52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e the Alternate Interior Angles Theor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6960" y="1227240"/>
            <a:ext cx="144792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3720" y="1251000"/>
            <a:ext cx="1411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515960" y="2073240"/>
            <a:ext cx="2188080" cy="459720"/>
            <a:chOff x="1515960" y="2073240"/>
            <a:chExt cx="2188080" cy="459720"/>
          </a:xfrm>
        </p:grpSpPr>
        <p:sp>
          <p:nvSpPr>
            <p:cNvPr id="384" name=""/>
            <p:cNvSpPr/>
            <p:nvPr/>
          </p:nvSpPr>
          <p:spPr>
            <a:xfrm>
              <a:off x="1515960" y="211932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510280" y="2185200"/>
              <a:ext cx="250920" cy="26172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4440" y="20732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888080" y="1182600"/>
            <a:ext cx="3504960" cy="2206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503360" y="3897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39760" y="39704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4880" y="457056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8120" y="5116680"/>
            <a:ext cx="71708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11360" y="5624640"/>
            <a:ext cx="73105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8920" y="4456080"/>
            <a:ext cx="73990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15960" y="5040360"/>
            <a:ext cx="73994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612800" y="3498840"/>
            <a:ext cx="7137360" cy="2498760"/>
            <a:chOff x="1612800" y="3498840"/>
            <a:chExt cx="7137360" cy="2498760"/>
          </a:xfrm>
        </p:grpSpPr>
        <p:sp>
          <p:nvSpPr>
            <p:cNvPr id="396" name=""/>
            <p:cNvSpPr/>
            <p:nvPr/>
          </p:nvSpPr>
          <p:spPr>
            <a:xfrm>
              <a:off x="1869480" y="34988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1320" y="34988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s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2800" y="3860640"/>
              <a:ext cx="71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3500280"/>
              <a:ext cx="0" cy="249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25440" y="4037760"/>
            <a:ext cx="304920" cy="368280"/>
            <a:chOff x="1225440" y="4037760"/>
            <a:chExt cx="304920" cy="368280"/>
          </a:xfrm>
        </p:grpSpPr>
        <p:sp>
          <p:nvSpPr>
            <p:cNvPr id="401" name=""/>
            <p:cNvSpPr/>
            <p:nvPr/>
          </p:nvSpPr>
          <p:spPr>
            <a:xfrm>
              <a:off x="1225440" y="406368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440" y="40377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25440" y="4614120"/>
            <a:ext cx="304920" cy="368280"/>
            <a:chOff x="1225440" y="4614120"/>
            <a:chExt cx="304920" cy="368280"/>
          </a:xfrm>
        </p:grpSpPr>
        <p:sp>
          <p:nvSpPr>
            <p:cNvPr id="404" name=""/>
            <p:cNvSpPr/>
            <p:nvPr/>
          </p:nvSpPr>
          <p:spPr>
            <a:xfrm>
              <a:off x="1225440" y="46400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25440" y="46141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25440" y="5144400"/>
            <a:ext cx="304920" cy="368280"/>
            <a:chOff x="1225440" y="5144400"/>
            <a:chExt cx="304920" cy="368280"/>
          </a:xfrm>
        </p:grpSpPr>
        <p:sp>
          <p:nvSpPr>
            <p:cNvPr id="407" name=""/>
            <p:cNvSpPr/>
            <p:nvPr/>
          </p:nvSpPr>
          <p:spPr>
            <a:xfrm>
              <a:off x="1225440" y="517032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25440" y="51444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25440" y="5677920"/>
            <a:ext cx="304920" cy="368280"/>
            <a:chOff x="1225440" y="5677920"/>
            <a:chExt cx="304920" cy="368280"/>
          </a:xfrm>
        </p:grpSpPr>
        <p:sp>
          <p:nvSpPr>
            <p:cNvPr id="410" name=""/>
            <p:cNvSpPr/>
            <p:nvPr/>
          </p:nvSpPr>
          <p:spPr>
            <a:xfrm>
              <a:off x="1225440" y="5703840"/>
              <a:ext cx="304920" cy="304920"/>
            </a:xfrm>
            <a:prstGeom prst="ellipse">
              <a:avLst/>
            </a:prstGeom>
            <a:solidFill>
              <a:srgbClr val="0a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25440" y="567792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15960" y="2687760"/>
            <a:ext cx="2738520" cy="459720"/>
            <a:chOff x="1515960" y="2687760"/>
            <a:chExt cx="2738520" cy="459720"/>
          </a:xfrm>
        </p:grpSpPr>
        <p:grpSp>
          <p:nvGrpSpPr>
            <p:cNvPr id="413" name=""/>
            <p:cNvGrpSpPr/>
            <p:nvPr/>
          </p:nvGrpSpPr>
          <p:grpSpPr>
            <a:xfrm>
              <a:off x="1515960" y="2687760"/>
              <a:ext cx="2738520" cy="459720"/>
              <a:chOff x="1515960" y="2687760"/>
              <a:chExt cx="273852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1515960" y="274644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510280" y="2793240"/>
                <a:ext cx="250920" cy="26172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98800" y="2687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59120" y="28209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28288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3262320" y="2830680"/>
              <a:ext cx="18108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"/>
          <p:cNvGrpSpPr/>
          <p:nvPr/>
        </p:nvGrpSpPr>
        <p:grpSpPr>
          <a:xfrm>
            <a:off x="1876320" y="4532400"/>
            <a:ext cx="6774120" cy="489960"/>
            <a:chOff x="1876320" y="4532400"/>
            <a:chExt cx="6774120" cy="489960"/>
          </a:xfrm>
        </p:grpSpPr>
        <p:sp>
          <p:nvSpPr>
            <p:cNvPr id="421" name=""/>
            <p:cNvSpPr/>
            <p:nvPr/>
          </p:nvSpPr>
          <p:spPr>
            <a:xfrm>
              <a:off x="2038320" y="4532400"/>
              <a:ext cx="661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3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responding Angles Postul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6320" y="471168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33760" y="469728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905120" y="5099040"/>
            <a:ext cx="5918760" cy="489960"/>
            <a:chOff x="1905120" y="5099040"/>
            <a:chExt cx="5918760" cy="489960"/>
          </a:xfrm>
        </p:grpSpPr>
        <p:sp>
          <p:nvSpPr>
            <p:cNvPr id="425" name=""/>
            <p:cNvSpPr/>
            <p:nvPr/>
          </p:nvSpPr>
          <p:spPr>
            <a:xfrm>
              <a:off x="2063880" y="5099040"/>
              <a:ext cx="57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ertical Angles Theor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5120" y="525780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5240" y="526572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11240" y="5605560"/>
            <a:ext cx="6926400" cy="489960"/>
            <a:chOff x="1911240" y="5605560"/>
            <a:chExt cx="6926400" cy="489960"/>
          </a:xfrm>
        </p:grpSpPr>
        <p:sp>
          <p:nvSpPr>
            <p:cNvPr id="429" name=""/>
            <p:cNvSpPr/>
            <p:nvPr/>
          </p:nvSpPr>
          <p:spPr>
            <a:xfrm>
              <a:off x="2039760" y="5605560"/>
              <a:ext cx="6797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ransitive property of Congru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1240" y="57625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2080" y="577044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6680" y="3516480"/>
            <a:ext cx="356400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11520" y="3427560"/>
            <a:ext cx="46688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080" y="4151160"/>
            <a:ext cx="357660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49200" y="4024440"/>
            <a:ext cx="70311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4761000"/>
            <a:ext cx="441468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68600" y="4621320"/>
            <a:ext cx="7475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4080" y="5345280"/>
            <a:ext cx="442764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177840" y="117360"/>
            <a:ext cx="5204160" cy="460440"/>
            <a:chOff x="177840" y="117360"/>
            <a:chExt cx="5204160" cy="460440"/>
          </a:xfrm>
        </p:grpSpPr>
        <p:sp>
          <p:nvSpPr>
            <p:cNvPr id="441" name=""/>
            <p:cNvSpPr/>
            <p:nvPr/>
          </p:nvSpPr>
          <p:spPr>
            <a:xfrm>
              <a:off x="1554480" y="1540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77840" y="1173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1668600" y="515880"/>
            <a:ext cx="7191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28880" y="2614680"/>
            <a:ext cx="1447560" cy="4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5640" y="263844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2000" y="846000"/>
            <a:ext cx="32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= 65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each measure. T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postulate or theor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18040" y="939960"/>
            <a:ext cx="198360" cy="1904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0" y="96"/>
                </a:lnTo>
                <a:lnTo>
                  <a:pt x="96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16556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22560" y="419112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98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35000" y="4146480"/>
            <a:ext cx="6206400" cy="432360"/>
            <a:chOff x="1035000" y="4146480"/>
            <a:chExt cx="6206400" cy="432360"/>
          </a:xfrm>
        </p:grpSpPr>
        <p:sp>
          <p:nvSpPr>
            <p:cNvPr id="451" name=""/>
            <p:cNvSpPr/>
            <p:nvPr/>
          </p:nvSpPr>
          <p:spPr>
            <a:xfrm>
              <a:off x="3373560" y="423720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98360" y="417996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35000" y="4146480"/>
              <a:ext cx="3642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–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7960" y="423864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58920" y="5384880"/>
            <a:ext cx="80028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41480" y="537228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17000" y="5348160"/>
            <a:ext cx="7763760" cy="471960"/>
            <a:chOff x="1017000" y="5348160"/>
            <a:chExt cx="7763760" cy="471960"/>
          </a:xfrm>
        </p:grpSpPr>
        <p:sp>
          <p:nvSpPr>
            <p:cNvPr id="458" name=""/>
            <p:cNvSpPr/>
            <p:nvPr/>
          </p:nvSpPr>
          <p:spPr>
            <a:xfrm>
              <a:off x="4695480" y="5421240"/>
              <a:ext cx="408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Alternate Exterior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17000" y="534816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 = 11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3040" y="541656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8120" y="5454720"/>
              <a:ext cx="19872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1718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91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1480" y="4737240"/>
            <a:ext cx="7999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3bb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17000" y="4702320"/>
            <a:ext cx="7512840" cy="497160"/>
            <a:chOff x="1017000" y="4702320"/>
            <a:chExt cx="7512840" cy="497160"/>
          </a:xfrm>
        </p:grpSpPr>
        <p:sp>
          <p:nvSpPr>
            <p:cNvPr id="465" name=""/>
            <p:cNvSpPr/>
            <p:nvPr/>
          </p:nvSpPr>
          <p:spPr>
            <a:xfrm>
              <a:off x="4696200" y="480060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000" y="4702320"/>
              <a:ext cx="269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= 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90680" y="47815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9000" y="4794120"/>
              <a:ext cx="198360" cy="190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5408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58920" y="3530520"/>
            <a:ext cx="80028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8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17720" y="3511440"/>
            <a:ext cx="6648120" cy="448200"/>
            <a:chOff x="1017720" y="3511440"/>
            <a:chExt cx="6648120" cy="448200"/>
          </a:xfrm>
        </p:grpSpPr>
        <p:sp>
          <p:nvSpPr>
            <p:cNvPr id="472" name=""/>
            <p:cNvSpPr/>
            <p:nvPr/>
          </p:nvSpPr>
          <p:spPr>
            <a:xfrm>
              <a:off x="1017720" y="3511440"/>
              <a:ext cx="272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 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97640" y="3560760"/>
              <a:ext cx="29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Vertical Angles Theor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87440" y="361476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1080" y="3613320"/>
              <a:ext cx="19836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rot="18363600">
            <a:off x="5648040" y="1314360"/>
            <a:ext cx="120672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2228600">
            <a:off x="5800680" y="1196640"/>
            <a:ext cx="1206720" cy="120636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738200">
            <a:off x="6702120" y="1123560"/>
            <a:ext cx="1206360" cy="1206360"/>
          </a:xfrm>
          <a:prstGeom prst="blockArc">
            <a:avLst>
              <a:gd name="adj1" fmla="val 13065547"/>
              <a:gd name="adj2" fmla="val 19334453"/>
              <a:gd name="adj3" fmla="val 603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6385800">
            <a:off x="6844680" y="124740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03b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6385800">
            <a:off x="5892120" y="13744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6385800">
            <a:off x="5892120" y="1387080"/>
            <a:ext cx="1206360" cy="1206360"/>
          </a:xfrm>
          <a:prstGeom prst="blockArc">
            <a:avLst>
              <a:gd name="adj1" fmla="val 13775573"/>
              <a:gd name="adj2" fmla="val 18624427"/>
              <a:gd name="adj3" fmla="val 658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2228600">
            <a:off x="5787360" y="1209240"/>
            <a:ext cx="1206360" cy="1206720"/>
          </a:xfrm>
          <a:prstGeom prst="blockArc">
            <a:avLst>
              <a:gd name="adj1" fmla="val 13121043"/>
              <a:gd name="adj2" fmla="val 19278957"/>
              <a:gd name="adj3" fmla="val 726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0" dur="1" fill="hold"/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97560" y="3959280"/>
            <a:ext cx="409716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268200" y="5186520"/>
            <a:ext cx="75391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59400" y="451800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6280" y="4429080"/>
            <a:ext cx="776772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5089680"/>
            <a:ext cx="4135320" cy="46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87360" y="5013360"/>
            <a:ext cx="785664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5673600"/>
            <a:ext cx="4135320" cy="462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20840" y="803160"/>
            <a:ext cx="5204160" cy="460440"/>
            <a:chOff x="1320840" y="803160"/>
            <a:chExt cx="5204160" cy="460440"/>
          </a:xfrm>
        </p:grpSpPr>
        <p:sp>
          <p:nvSpPr>
            <p:cNvPr id="492" name=""/>
            <p:cNvSpPr/>
            <p:nvPr/>
          </p:nvSpPr>
          <p:spPr>
            <a:xfrm>
              <a:off x="2697480" y="839880"/>
              <a:ext cx="38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Properties of Parallel 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20840" y="803160"/>
              <a:ext cx="13874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2811600" y="1201680"/>
            <a:ext cx="5921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670280" y="1355760"/>
            <a:ext cx="3684600" cy="2455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614960" y="164304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lines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0840" y="3236760"/>
            <a:ext cx="1447920" cy="41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7600" y="3260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629080" y="3998880"/>
            <a:ext cx="5957280" cy="429120"/>
            <a:chOff x="2629080" y="3998880"/>
            <a:chExt cx="5957280" cy="429120"/>
          </a:xfrm>
        </p:grpSpPr>
        <p:sp>
          <p:nvSpPr>
            <p:cNvPr id="500" name=""/>
            <p:cNvSpPr/>
            <p:nvPr/>
          </p:nvSpPr>
          <p:spPr>
            <a:xfrm>
              <a:off x="4752720" y="4025880"/>
              <a:ext cx="38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Corresponding Angles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29080" y="3998880"/>
              <a:ext cx="17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7640" y="4081680"/>
              <a:ext cx="198000" cy="190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14360" y="4535640"/>
            <a:ext cx="5983920" cy="429120"/>
            <a:chOff x="1314360" y="4535640"/>
            <a:chExt cx="5983920" cy="429120"/>
          </a:xfrm>
        </p:grpSpPr>
        <p:sp>
          <p:nvSpPr>
            <p:cNvPr id="504" name=""/>
            <p:cNvSpPr/>
            <p:nvPr/>
          </p:nvSpPr>
          <p:spPr>
            <a:xfrm>
              <a:off x="4755240" y="456084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Linear Pair Postu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4360" y="4535640"/>
              <a:ext cx="301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4440" y="4630680"/>
              <a:ext cx="198360" cy="190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54040" y="5089680"/>
            <a:ext cx="4684320" cy="429120"/>
            <a:chOff x="1454040" y="5089680"/>
            <a:chExt cx="4684320" cy="429120"/>
          </a:xfrm>
        </p:grpSpPr>
        <p:sp>
          <p:nvSpPr>
            <p:cNvPr id="508" name=""/>
            <p:cNvSpPr/>
            <p:nvPr/>
          </p:nvSpPr>
          <p:spPr>
            <a:xfrm>
              <a:off x="4756680" y="510840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stitu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54040" y="5089680"/>
              <a:ext cx="28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25° +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15)°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46760" y="212760"/>
            <a:ext cx="588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PERTI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176040" y="225360"/>
            <a:ext cx="1097280" cy="433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460520" y="620640"/>
            <a:ext cx="7289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9440" y="5524560"/>
            <a:ext cx="685800" cy="6858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188880" y="5675400"/>
            <a:ext cx="2765880" cy="429120"/>
            <a:chOff x="3188880" y="5675400"/>
            <a:chExt cx="2765880" cy="429120"/>
          </a:xfrm>
        </p:grpSpPr>
        <p:sp>
          <p:nvSpPr>
            <p:cNvPr id="516" name=""/>
            <p:cNvSpPr/>
            <p:nvPr/>
          </p:nvSpPr>
          <p:spPr>
            <a:xfrm>
              <a:off x="4755960" y="56944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a50a1"/>
                  </a:solidFill>
                  <a:latin typeface="Arial"/>
                </a:rPr>
                <a:t>Subtra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8880" y="5675400"/>
              <a:ext cx="106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9:08:34Z</dcterms:created>
  <dc:creator>McDougal Littell</dc:creator>
  <dc:description/>
  <dc:language>en-US</dc:language>
  <cp:lastModifiedBy>Administrative Services</cp:lastModifiedBy>
  <dcterms:modified xsi:type="dcterms:W3CDTF">2013-02-19T20:02:25Z</dcterms:modified>
  <cp:revision>139</cp:revision>
  <dc:subject/>
  <dc:title>No Slide Title</dc:title>
</cp:coreProperties>
</file>