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4.jpeg" ContentType="image/jpeg"/>
  <Override PartName="/ppt/media/image21.gif" ContentType="image/gif"/>
  <Override PartName="/ppt/media/image20.gif" ContentType="image/gif"/>
  <Override PartName="/ppt/media/image18.jpeg" ContentType="image/jpeg"/>
  <Override PartName="/ppt/media/image17.png" ContentType="image/png"/>
  <Override PartName="/ppt/media/image16.png" ContentType="image/png"/>
  <Override PartName="/ppt/media/image10.png" ContentType="image/png"/>
  <Override PartName="/ppt/media/image5.png" ContentType="image/png"/>
  <Override PartName="/ppt/media/image2.gif" ContentType="image/gif"/>
  <Override PartName="/ppt/media/image6.png" ContentType="image/png"/>
  <Override PartName="/ppt/media/image19.jpeg" ContentType="image/jpeg"/>
  <Override PartName="/ppt/media/image11.png" ContentType="image/pn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FAA6-F3D3-474C-B6A4-578B6099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8F59-5EA2-4868-9F64-F258E58C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4DF0-B67F-4F49-B9DE-709185F7E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C8EE-3AC3-454F-BB7C-0422F66E4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6465-0455-4EDA-B01F-2F100C14D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0A87-8CE8-4C7C-99B4-5338ADE0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63B3-26D5-4790-9BAF-6A2779F7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3C52-3402-40D0-BD90-8F66A667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8B5B-7E45-492D-BF23-7649F52F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0096-E42D-4D4E-A3B6-48DD5317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F351-D2CF-4090-BB0B-D5E218F9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835D-01F3-4566-BD9D-73F4E479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F62C-9E34-4E3D-A44D-D4957D45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6612-C297-4E83-B052-F9471342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2A8F-88E9-4C73-A4FA-32FE2F4F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BDCA-C0C9-4967-8F52-FAD494021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22FF-34B0-4C44-A75C-1259472B0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2C0FB-C946-4DD2-B473-8F0BF513E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CA10B-116A-4E9B-B43A-1FF0E9E9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476ED-4E9C-4BE3-A94C-A2D617F4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4BA54-B587-4C94-9D29-143DB250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8404F-01D6-4E24-8E7A-A2C6891E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9172-2A7D-4939-9038-C7E8BC05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73E69-1945-4CE5-86B4-41C56870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B9AFC-E438-4FD0-847E-63D9B8E8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41120-14A1-45F8-9AFC-37715F5E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35900-4DA8-45E4-AA68-1DBE75DB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667D1-13D2-430E-93BA-B8BD0692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45479-9168-41A9-B377-9D9101C4D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DE6C5-FF54-439A-9EDF-5A9B46481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C610-DCC6-4C9B-815D-609624B6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8351-3BB0-486E-8DC3-C8BF9762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8C83-98F5-4433-B952-A20BFFDA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E477-28F0-4934-B65D-CD9EB4DA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EE09-DEAF-4D94-99C8-945DBCB5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9A99-26CB-44AE-B934-E342225A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9587-4515-4BE4-854F-9C5B37698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8AFA-7BDD-4B5C-8C80-A5271CB59A2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26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27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41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45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49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53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57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9683-A211-47BA-B4EF-3EC00C70C92F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3-2 Angles and Parallel Lines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page 180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443320" y="2405160"/>
            <a:ext cx="4286160" cy="3078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7142040" y="4510080"/>
            <a:ext cx="101304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. 2 Find the values of x, y, and 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 //HT and NG//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x = 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y + 2 = 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y = 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=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z + 72 = 1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z = 1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= 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330800" y="3106800"/>
            <a:ext cx="3508200" cy="12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4075200" y="4343400"/>
            <a:ext cx="3414600" cy="5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4867200" y="2259000"/>
            <a:ext cx="928800" cy="3227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6159600" y="2379600"/>
            <a:ext cx="752400" cy="3146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464080" y="308916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283080" y="3102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499080" y="3990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267080" y="447516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y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77400" y="1946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116840" y="22431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168880" y="2657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404400" y="2684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844160" y="40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94440" y="3963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966200" y="493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418440" y="5025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Given p//q , m&lt;1 =107, and m&lt;11 = 48. Find the measure of each angle.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>
            <a:off x="5108400" y="2728800"/>
            <a:ext cx="2192400" cy="313560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270480" y="2452680"/>
            <a:ext cx="1973520" cy="285912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4150800" y="2379600"/>
            <a:ext cx="3497400" cy="283068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3498840" y="4397400"/>
            <a:ext cx="4673520" cy="39204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2303640" y="4324320"/>
            <a:ext cx="1054080" cy="122868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1098720" y="4962600"/>
            <a:ext cx="647640" cy="61920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5295960" y="3570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985080" y="3992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791240" y="220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931000" y="198108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Find x and y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400040"/>
            <a:ext cx="777240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384880" y="1481040"/>
            <a:ext cx="2914560" cy="3672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008760" y="3556080"/>
            <a:ext cx="1639800" cy="586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019560" y="31147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4x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976720" y="349092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3y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452560" y="471168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3x+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315200" y="3503520"/>
            <a:ext cx="284040" cy="125640"/>
          </a:xfrm>
          <a:prstGeom prst="triangle">
            <a:avLst>
              <a:gd name="adj" fmla="val 5475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467480" y="5033880"/>
            <a:ext cx="284400" cy="125640"/>
          </a:xfrm>
          <a:prstGeom prst="triangle">
            <a:avLst>
              <a:gd name="adj" fmla="val 5475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Find x and y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501560"/>
            <a:ext cx="7772400" cy="45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Given that a//b, find x and 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9" name=""/>
          <p:cNvSpPr/>
          <p:nvPr/>
        </p:nvSpPr>
        <p:spPr>
          <a:xfrm>
            <a:off x="4498920" y="2859120"/>
            <a:ext cx="3513240" cy="4284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600440" y="3948120"/>
            <a:ext cx="3454560" cy="4284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6124320" y="2090880"/>
            <a:ext cx="842760" cy="309060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208560" y="2838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6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702120" y="291312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9x+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511600" y="35193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13y-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184280" y="2585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200840" y="3781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ass work on page 183 problems 1-10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omework on page 183 problems 11-2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319040" y="781200"/>
            <a:ext cx="7539120" cy="483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63504" dir="76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-1440" y="618012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195120" y="195120"/>
            <a:ext cx="5690880" cy="446400"/>
            <a:chOff x="195120" y="195120"/>
            <a:chExt cx="5690880" cy="446400"/>
          </a:xfrm>
        </p:grpSpPr>
        <p:pic>
          <p:nvPicPr>
            <p:cNvPr id="214" name="" descr=""/>
            <p:cNvPicPr/>
            <p:nvPr/>
          </p:nvPicPr>
          <p:blipFill>
            <a:blip r:embed="rId2"/>
            <a:stretch/>
          </p:blipFill>
          <p:spPr>
            <a:xfrm>
              <a:off x="195120" y="195120"/>
              <a:ext cx="11289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1348200" y="206280"/>
              <a:ext cx="4537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OPERTIES OF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ALLEL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1460520" y="614520"/>
            <a:ext cx="7378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19040" y="781200"/>
            <a:ext cx="7537680" cy="380880"/>
          </a:xfrm>
          <a:prstGeom prst="rect">
            <a:avLst/>
          </a:prstGeom>
          <a:solidFill>
            <a:srgbClr val="0587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3578400" y="2724120"/>
            <a:ext cx="3671640" cy="1989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418040" y="779400"/>
            <a:ext cx="172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U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46480" y="1282680"/>
            <a:ext cx="5751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ULATE 1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5875c"/>
                </a:solidFill>
                <a:latin typeface="Arial"/>
              </a:rPr>
              <a:t>Corresponding Angles Postula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83520" y="3079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611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235240" y="1752480"/>
            <a:ext cx="4789080" cy="2817360"/>
            <a:chOff x="2235240" y="1752480"/>
            <a:chExt cx="4789080" cy="2817360"/>
          </a:xfrm>
        </p:grpSpPr>
        <p:sp>
          <p:nvSpPr>
            <p:cNvPr id="224" name=""/>
            <p:cNvSpPr/>
            <p:nvPr/>
          </p:nvSpPr>
          <p:spPr>
            <a:xfrm>
              <a:off x="2235240" y="1752480"/>
              <a:ext cx="1524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847320" y="3138840"/>
              <a:ext cx="3177000" cy="1431000"/>
              <a:chOff x="3847320" y="3138840"/>
              <a:chExt cx="3177000" cy="1431000"/>
            </a:xfrm>
          </p:grpSpPr>
          <p:sp>
            <p:nvSpPr>
              <p:cNvPr id="226" name=""/>
              <p:cNvSpPr/>
              <p:nvPr/>
            </p:nvSpPr>
            <p:spPr>
              <a:xfrm rot="20970600">
                <a:off x="3835440" y="3428640"/>
                <a:ext cx="3200400" cy="16524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20970600">
                <a:off x="3835440" y="4114440"/>
                <a:ext cx="3200400" cy="16524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"/>
          <p:cNvGrpSpPr/>
          <p:nvPr/>
        </p:nvGrpSpPr>
        <p:grpSpPr>
          <a:xfrm>
            <a:off x="5124240" y="1752480"/>
            <a:ext cx="1530720" cy="2739600"/>
            <a:chOff x="5124240" y="1752480"/>
            <a:chExt cx="1530720" cy="2739600"/>
          </a:xfrm>
        </p:grpSpPr>
        <p:sp>
          <p:nvSpPr>
            <p:cNvPr id="229" name=""/>
            <p:cNvSpPr/>
            <p:nvPr/>
          </p:nvSpPr>
          <p:spPr>
            <a:xfrm>
              <a:off x="5207040" y="1752480"/>
              <a:ext cx="144792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7114400">
              <a:off x="4619520" y="3612960"/>
              <a:ext cx="1595520" cy="17316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2527200" y="2082960"/>
            <a:ext cx="3675240" cy="2735280"/>
            <a:chOff x="2527200" y="2082960"/>
            <a:chExt cx="3675240" cy="2735280"/>
          </a:xfrm>
        </p:grpSpPr>
        <p:sp>
          <p:nvSpPr>
            <p:cNvPr id="232" name=""/>
            <p:cNvSpPr/>
            <p:nvPr/>
          </p:nvSpPr>
          <p:spPr>
            <a:xfrm>
              <a:off x="2527200" y="2082960"/>
              <a:ext cx="64764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94240" y="2082960"/>
              <a:ext cx="251460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4765680" y="2841840"/>
              <a:ext cx="1436760" cy="1976400"/>
              <a:chOff x="4765680" y="2841840"/>
              <a:chExt cx="1436760" cy="1976400"/>
            </a:xfrm>
          </p:grpSpPr>
          <p:sp>
            <p:nvSpPr>
              <p:cNvPr id="235" name=""/>
              <p:cNvSpPr/>
              <p:nvPr/>
            </p:nvSpPr>
            <p:spPr>
              <a:xfrm rot="2433600">
                <a:off x="5128920" y="3024360"/>
                <a:ext cx="890640" cy="890280"/>
              </a:xfrm>
              <a:prstGeom prst="blockArc">
                <a:avLst>
                  <a:gd name="adj1" fmla="val 13773794"/>
                  <a:gd name="adj2" fmla="val 18626206"/>
                  <a:gd name="adj3" fmla="val 8731"/>
                </a:avLst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2433600">
                <a:off x="4947840" y="3745080"/>
                <a:ext cx="890640" cy="890280"/>
              </a:xfrm>
              <a:prstGeom prst="blockArc">
                <a:avLst>
                  <a:gd name="adj1" fmla="val 13773794"/>
                  <a:gd name="adj2" fmla="val 18626206"/>
                  <a:gd name="adj3" fmla="val 8731"/>
                </a:avLst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7" name=""/>
          <p:cNvGrpSpPr/>
          <p:nvPr/>
        </p:nvGrpSpPr>
        <p:grpSpPr>
          <a:xfrm>
            <a:off x="1930320" y="2400480"/>
            <a:ext cx="4241880" cy="2997000"/>
            <a:chOff x="1930320" y="2400480"/>
            <a:chExt cx="4241880" cy="2997000"/>
          </a:xfrm>
        </p:grpSpPr>
        <p:sp>
          <p:nvSpPr>
            <p:cNvPr id="238" name=""/>
            <p:cNvSpPr/>
            <p:nvPr/>
          </p:nvSpPr>
          <p:spPr>
            <a:xfrm>
              <a:off x="1930320" y="2400480"/>
              <a:ext cx="137160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95680" y="4886280"/>
              <a:ext cx="1676520" cy="511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957920" y="49338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      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99160" y="507204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527800" y="507204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3" name="" descr=""/>
            <p:cNvPicPr/>
            <p:nvPr/>
          </p:nvPicPr>
          <p:blipFill>
            <a:blip r:embed="rId4"/>
            <a:stretch/>
          </p:blipFill>
          <p:spPr>
            <a:xfrm>
              <a:off x="5259240" y="5060880"/>
              <a:ext cx="1731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4" name=""/>
          <p:cNvSpPr/>
          <p:nvPr/>
        </p:nvSpPr>
        <p:spPr>
          <a:xfrm>
            <a:off x="1434240" y="1763640"/>
            <a:ext cx="534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wo  parallel lines  are cut by a  transversal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the  pairs  of  corresponding angl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congru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7308720" y="3743280"/>
            <a:ext cx="14479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319040" y="781200"/>
            <a:ext cx="7539120" cy="483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63504" dir="76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346560" y="3156120"/>
            <a:ext cx="3251160" cy="16603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0" y="617544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249" name=""/>
          <p:cNvGrpSpPr/>
          <p:nvPr/>
        </p:nvGrpSpPr>
        <p:grpSpPr>
          <a:xfrm>
            <a:off x="196920" y="190440"/>
            <a:ext cx="5690160" cy="446040"/>
            <a:chOff x="196920" y="190440"/>
            <a:chExt cx="5690160" cy="446040"/>
          </a:xfrm>
        </p:grpSpPr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196920" y="190440"/>
              <a:ext cx="112860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1349280" y="201240"/>
              <a:ext cx="4537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OPERTIES OF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ALLEL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1461960" y="609480"/>
            <a:ext cx="737892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19040" y="781200"/>
            <a:ext cx="7537680" cy="380880"/>
          </a:xfrm>
          <a:prstGeom prst="rect">
            <a:avLst/>
          </a:prstGeom>
          <a:solidFill>
            <a:srgbClr val="0587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17320" y="779400"/>
            <a:ext cx="48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OREMS ABOUT PARALLEL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46840" y="1282680"/>
            <a:ext cx="46321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EM 3.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5875c"/>
                </a:solidFill>
                <a:latin typeface="Arial"/>
              </a:rPr>
              <a:t>Alternate Interior Angl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13640" y="3460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56320" y="3992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222640" y="1778040"/>
            <a:ext cx="4186080" cy="2670120"/>
            <a:chOff x="2222640" y="1778040"/>
            <a:chExt cx="4186080" cy="2670120"/>
          </a:xfrm>
        </p:grpSpPr>
        <p:sp>
          <p:nvSpPr>
            <p:cNvPr id="259" name=""/>
            <p:cNvSpPr/>
            <p:nvPr/>
          </p:nvSpPr>
          <p:spPr>
            <a:xfrm>
              <a:off x="2222640" y="1778040"/>
              <a:ext cx="15368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3000">
              <a:off x="3525480" y="3483000"/>
              <a:ext cx="2870280" cy="1760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3000">
              <a:off x="3538440" y="4270320"/>
              <a:ext cx="2869920" cy="1764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943800" y="1752480"/>
            <a:ext cx="2723760" cy="2991600"/>
            <a:chOff x="3943800" y="1752480"/>
            <a:chExt cx="2723760" cy="2991600"/>
          </a:xfrm>
        </p:grpSpPr>
        <p:sp>
          <p:nvSpPr>
            <p:cNvPr id="263" name=""/>
            <p:cNvSpPr/>
            <p:nvPr/>
          </p:nvSpPr>
          <p:spPr>
            <a:xfrm>
              <a:off x="5220000" y="1752480"/>
              <a:ext cx="144756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9422600">
              <a:off x="3768840" y="3878280"/>
              <a:ext cx="2363760" cy="18396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2502000" y="2082960"/>
            <a:ext cx="3848040" cy="2827080"/>
            <a:chOff x="2502000" y="2082960"/>
            <a:chExt cx="3848040" cy="2827080"/>
          </a:xfrm>
        </p:grpSpPr>
        <p:sp>
          <p:nvSpPr>
            <p:cNvPr id="266" name=""/>
            <p:cNvSpPr/>
            <p:nvPr/>
          </p:nvSpPr>
          <p:spPr>
            <a:xfrm>
              <a:off x="2502000" y="2082960"/>
              <a:ext cx="72396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568680" y="2082960"/>
              <a:ext cx="278136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4803200">
              <a:off x="4784760" y="3215520"/>
              <a:ext cx="831960" cy="831960"/>
            </a:xfrm>
            <a:prstGeom prst="blockArc">
              <a:avLst>
                <a:gd name="adj1" fmla="val 14185927"/>
                <a:gd name="adj2" fmla="val 18214073"/>
                <a:gd name="adj3" fmla="val 7852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3543600">
              <a:off x="4368600" y="3947760"/>
              <a:ext cx="811080" cy="811080"/>
            </a:xfrm>
            <a:prstGeom prst="blockArc">
              <a:avLst>
                <a:gd name="adj1" fmla="val 14185927"/>
                <a:gd name="adj2" fmla="val 18214073"/>
                <a:gd name="adj3" fmla="val 7852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447920" y="2387520"/>
            <a:ext cx="4406760" cy="3057120"/>
            <a:chOff x="1447920" y="2387520"/>
            <a:chExt cx="4406760" cy="3057120"/>
          </a:xfrm>
        </p:grpSpPr>
        <p:sp>
          <p:nvSpPr>
            <p:cNvPr id="271" name=""/>
            <p:cNvSpPr/>
            <p:nvPr/>
          </p:nvSpPr>
          <p:spPr>
            <a:xfrm>
              <a:off x="1447920" y="2387520"/>
              <a:ext cx="137160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78160" y="4924440"/>
              <a:ext cx="1676520" cy="511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27440" y="49849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       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68680" y="5097600"/>
              <a:ext cx="19872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197320" y="5097600"/>
              <a:ext cx="19872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6" name="" descr=""/>
            <p:cNvPicPr/>
            <p:nvPr/>
          </p:nvPicPr>
          <p:blipFill>
            <a:blip r:embed="rId4"/>
            <a:stretch/>
          </p:blipFill>
          <p:spPr>
            <a:xfrm>
              <a:off x="4929120" y="5086440"/>
              <a:ext cx="1731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7" name=""/>
          <p:cNvSpPr/>
          <p:nvPr/>
        </p:nvSpPr>
        <p:spPr>
          <a:xfrm>
            <a:off x="1433880" y="1763640"/>
            <a:ext cx="552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wo  parallel lines  are cut by a  transversal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the  pairs  of  alternate interior angles  a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ru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6848640" y="3394080"/>
            <a:ext cx="14475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617544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280" name=""/>
          <p:cNvGrpSpPr/>
          <p:nvPr/>
        </p:nvGrpSpPr>
        <p:grpSpPr>
          <a:xfrm>
            <a:off x="196920" y="190440"/>
            <a:ext cx="5690160" cy="446040"/>
            <a:chOff x="196920" y="190440"/>
            <a:chExt cx="5690160" cy="446040"/>
          </a:xfrm>
        </p:grpSpPr>
        <p:pic>
          <p:nvPicPr>
            <p:cNvPr id="281" name="" descr=""/>
            <p:cNvPicPr/>
            <p:nvPr/>
          </p:nvPicPr>
          <p:blipFill>
            <a:blip r:embed="rId2"/>
            <a:stretch/>
          </p:blipFill>
          <p:spPr>
            <a:xfrm>
              <a:off x="196920" y="190440"/>
              <a:ext cx="112860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1349280" y="201240"/>
              <a:ext cx="4537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OPERTIES OF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ALLEL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1461960" y="609480"/>
            <a:ext cx="737892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19040" y="781200"/>
            <a:ext cx="7539120" cy="520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63504" dir="76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19040" y="781200"/>
            <a:ext cx="7537680" cy="380880"/>
          </a:xfrm>
          <a:prstGeom prst="rect">
            <a:avLst/>
          </a:prstGeom>
          <a:solidFill>
            <a:srgbClr val="0587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17320" y="779400"/>
            <a:ext cx="48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OREMS ABOUT PARALLEL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47200" y="1282680"/>
            <a:ext cx="5022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EM 3.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5875c"/>
                </a:solidFill>
                <a:latin typeface="Arial"/>
              </a:rPr>
              <a:t>Consecutive Interior Angl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3346560" y="3156120"/>
            <a:ext cx="3251160" cy="16603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5438880" y="3484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730760" y="3979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222640" y="1778040"/>
            <a:ext cx="4186080" cy="2670120"/>
            <a:chOff x="2222640" y="1778040"/>
            <a:chExt cx="4186080" cy="2670120"/>
          </a:xfrm>
        </p:grpSpPr>
        <p:sp>
          <p:nvSpPr>
            <p:cNvPr id="292" name=""/>
            <p:cNvSpPr/>
            <p:nvPr/>
          </p:nvSpPr>
          <p:spPr>
            <a:xfrm>
              <a:off x="2222640" y="1778040"/>
              <a:ext cx="15368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3000">
              <a:off x="3525480" y="3483000"/>
              <a:ext cx="2870280" cy="1760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3000">
              <a:off x="3538440" y="4270320"/>
              <a:ext cx="2869920" cy="1764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3943800" y="1752480"/>
            <a:ext cx="2723760" cy="2991600"/>
            <a:chOff x="3943800" y="1752480"/>
            <a:chExt cx="2723760" cy="2991600"/>
          </a:xfrm>
        </p:grpSpPr>
        <p:sp>
          <p:nvSpPr>
            <p:cNvPr id="296" name=""/>
            <p:cNvSpPr/>
            <p:nvPr/>
          </p:nvSpPr>
          <p:spPr>
            <a:xfrm>
              <a:off x="5220000" y="1752480"/>
              <a:ext cx="144756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9422600">
              <a:off x="3768840" y="3878280"/>
              <a:ext cx="2363760" cy="18396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1473120" y="2387520"/>
            <a:ext cx="4845960" cy="3228480"/>
            <a:chOff x="1473120" y="2387520"/>
            <a:chExt cx="4845960" cy="3228480"/>
          </a:xfrm>
        </p:grpSpPr>
        <p:sp>
          <p:nvSpPr>
            <p:cNvPr id="299" name=""/>
            <p:cNvSpPr/>
            <p:nvPr/>
          </p:nvSpPr>
          <p:spPr>
            <a:xfrm>
              <a:off x="1473120" y="2387520"/>
              <a:ext cx="189252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460680" y="5102280"/>
              <a:ext cx="2857680" cy="511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56440" y="5156280"/>
              <a:ext cx="276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5 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6 = 180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35520" y="526248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40280" y="526248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514600" y="2082960"/>
            <a:ext cx="4191120" cy="2812320"/>
            <a:chOff x="2514600" y="2082960"/>
            <a:chExt cx="4191120" cy="2812320"/>
          </a:xfrm>
        </p:grpSpPr>
        <p:sp>
          <p:nvSpPr>
            <p:cNvPr id="305" name=""/>
            <p:cNvSpPr/>
            <p:nvPr/>
          </p:nvSpPr>
          <p:spPr>
            <a:xfrm>
              <a:off x="2514600" y="2082960"/>
              <a:ext cx="69840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581280" y="2082960"/>
              <a:ext cx="312444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9830400">
              <a:off x="5173200" y="3152520"/>
              <a:ext cx="790560" cy="790560"/>
            </a:xfrm>
            <a:prstGeom prst="blockArc">
              <a:avLst>
                <a:gd name="adj1" fmla="val 11794423"/>
                <a:gd name="adj2" fmla="val 20605577"/>
                <a:gd name="adj3" fmla="val 9120"/>
              </a:avLst>
            </a:prstGeom>
            <a:solidFill>
              <a:srgbClr val="c2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3304800">
              <a:off x="4440240" y="3949200"/>
              <a:ext cx="790560" cy="790560"/>
            </a:xfrm>
            <a:prstGeom prst="blockArc">
              <a:avLst>
                <a:gd name="adj1" fmla="val 13917282"/>
                <a:gd name="adj2" fmla="val 18482718"/>
                <a:gd name="adj3" fmla="val 8204"/>
              </a:avLst>
            </a:prstGeom>
            <a:solidFill>
              <a:srgbClr val="faa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1432800" y="1763640"/>
            <a:ext cx="588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wo  parallel lines  are cut by a  transversal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the  pairs  of  consecutive interior angles  a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ementa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6975360" y="3637080"/>
            <a:ext cx="14572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0" y="617544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312" name=""/>
          <p:cNvGrpSpPr/>
          <p:nvPr/>
        </p:nvGrpSpPr>
        <p:grpSpPr>
          <a:xfrm>
            <a:off x="196920" y="190440"/>
            <a:ext cx="5690160" cy="446040"/>
            <a:chOff x="196920" y="190440"/>
            <a:chExt cx="5690160" cy="446040"/>
          </a:xfrm>
        </p:grpSpPr>
        <p:pic>
          <p:nvPicPr>
            <p:cNvPr id="313" name="" descr=""/>
            <p:cNvPicPr/>
            <p:nvPr/>
          </p:nvPicPr>
          <p:blipFill>
            <a:blip r:embed="rId2"/>
            <a:stretch/>
          </p:blipFill>
          <p:spPr>
            <a:xfrm>
              <a:off x="196920" y="190440"/>
              <a:ext cx="112860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1349280" y="201240"/>
              <a:ext cx="4537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OPERTIES OF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ALLEL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461960" y="609480"/>
            <a:ext cx="737892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19040" y="781200"/>
            <a:ext cx="7539120" cy="50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63504" dir="76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319040" y="781200"/>
            <a:ext cx="7537680" cy="380880"/>
          </a:xfrm>
          <a:prstGeom prst="rect">
            <a:avLst/>
          </a:prstGeom>
          <a:solidFill>
            <a:srgbClr val="0587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17320" y="779400"/>
            <a:ext cx="48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OREMS ABOUT PARALLEL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22360" y="1282680"/>
            <a:ext cx="4711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EM 3.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5875c"/>
                </a:solidFill>
                <a:latin typeface="Arial"/>
              </a:rPr>
              <a:t>Alternate Exterior Angl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3321000" y="3156120"/>
            <a:ext cx="3251160" cy="16603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5305680" y="3171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92640" y="432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222640" y="1778040"/>
            <a:ext cx="4186080" cy="2670120"/>
            <a:chOff x="2222640" y="1778040"/>
            <a:chExt cx="4186080" cy="2670120"/>
          </a:xfrm>
        </p:grpSpPr>
        <p:sp>
          <p:nvSpPr>
            <p:cNvPr id="324" name=""/>
            <p:cNvSpPr/>
            <p:nvPr/>
          </p:nvSpPr>
          <p:spPr>
            <a:xfrm>
              <a:off x="2222640" y="1778040"/>
              <a:ext cx="15368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3000">
              <a:off x="3525480" y="3483000"/>
              <a:ext cx="2870280" cy="1760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3000">
              <a:off x="3538440" y="4270320"/>
              <a:ext cx="2869920" cy="1764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3943800" y="1752480"/>
            <a:ext cx="2723760" cy="2991600"/>
            <a:chOff x="3943800" y="1752480"/>
            <a:chExt cx="2723760" cy="2991600"/>
          </a:xfrm>
        </p:grpSpPr>
        <p:sp>
          <p:nvSpPr>
            <p:cNvPr id="328" name=""/>
            <p:cNvSpPr/>
            <p:nvPr/>
          </p:nvSpPr>
          <p:spPr>
            <a:xfrm>
              <a:off x="5220000" y="1752480"/>
              <a:ext cx="144756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19422600">
              <a:off x="3768840" y="3878280"/>
              <a:ext cx="2363760" cy="18396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2476440" y="2082960"/>
            <a:ext cx="4483080" cy="2827800"/>
            <a:chOff x="2476440" y="2082960"/>
            <a:chExt cx="4483080" cy="2827800"/>
          </a:xfrm>
        </p:grpSpPr>
        <p:sp>
          <p:nvSpPr>
            <p:cNvPr id="331" name=""/>
            <p:cNvSpPr/>
            <p:nvPr/>
          </p:nvSpPr>
          <p:spPr>
            <a:xfrm>
              <a:off x="2476440" y="2082960"/>
              <a:ext cx="72396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530520" y="2082960"/>
              <a:ext cx="342900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20465400">
              <a:off x="5138640" y="3146040"/>
              <a:ext cx="720720" cy="720720"/>
            </a:xfrm>
            <a:prstGeom prst="blockArc">
              <a:avLst>
                <a:gd name="adj1" fmla="val 11357330"/>
                <a:gd name="adj2" fmla="val 21042670"/>
                <a:gd name="adj3" fmla="val 8528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9805200">
              <a:off x="4090680" y="4102200"/>
              <a:ext cx="720720" cy="720720"/>
            </a:xfrm>
            <a:prstGeom prst="blockArc">
              <a:avLst>
                <a:gd name="adj1" fmla="val 10773708"/>
                <a:gd name="adj2" fmla="val 26292"/>
                <a:gd name="adj3" fmla="val 8231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425600" y="2387520"/>
            <a:ext cx="4349880" cy="3238560"/>
            <a:chOff x="1425600" y="2387520"/>
            <a:chExt cx="4349880" cy="3238560"/>
          </a:xfrm>
        </p:grpSpPr>
        <p:sp>
          <p:nvSpPr>
            <p:cNvPr id="336" name=""/>
            <p:cNvSpPr/>
            <p:nvPr/>
          </p:nvSpPr>
          <p:spPr>
            <a:xfrm>
              <a:off x="1425600" y="2387520"/>
              <a:ext cx="137160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175280" y="5114880"/>
              <a:ext cx="1600200" cy="511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25920" y="51642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        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367160" y="527688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095800" y="527688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1" name="" descr=""/>
            <p:cNvPicPr/>
            <p:nvPr/>
          </p:nvPicPr>
          <p:blipFill>
            <a:blip r:embed="rId4"/>
            <a:stretch/>
          </p:blipFill>
          <p:spPr>
            <a:xfrm>
              <a:off x="4846680" y="5283360"/>
              <a:ext cx="1731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2" name=""/>
          <p:cNvSpPr/>
          <p:nvPr/>
        </p:nvSpPr>
        <p:spPr>
          <a:xfrm>
            <a:off x="1407600" y="1763640"/>
            <a:ext cx="559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wo  parallel lines  are cut by a  transversal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the  pairs  of  alternate exterior angles  a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ru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5"/>
          <a:stretch/>
        </p:blipFill>
        <p:spPr>
          <a:xfrm>
            <a:off x="7066080" y="3797280"/>
            <a:ext cx="14475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0" y="617544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345" name=""/>
          <p:cNvGrpSpPr/>
          <p:nvPr/>
        </p:nvGrpSpPr>
        <p:grpSpPr>
          <a:xfrm>
            <a:off x="196920" y="190440"/>
            <a:ext cx="5690160" cy="446040"/>
            <a:chOff x="196920" y="190440"/>
            <a:chExt cx="5690160" cy="446040"/>
          </a:xfrm>
        </p:grpSpPr>
        <p:pic>
          <p:nvPicPr>
            <p:cNvPr id="346" name="" descr=""/>
            <p:cNvPicPr/>
            <p:nvPr/>
          </p:nvPicPr>
          <p:blipFill>
            <a:blip r:embed="rId2"/>
            <a:stretch/>
          </p:blipFill>
          <p:spPr>
            <a:xfrm>
              <a:off x="196920" y="190440"/>
              <a:ext cx="112860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1349280" y="201240"/>
              <a:ext cx="4537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OPERTIES OF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ALLEL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1461960" y="609480"/>
            <a:ext cx="737892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19040" y="781200"/>
            <a:ext cx="7539120" cy="52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63504" dir="76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319040" y="781200"/>
            <a:ext cx="7537680" cy="380880"/>
          </a:xfrm>
          <a:prstGeom prst="rect">
            <a:avLst/>
          </a:prstGeom>
          <a:solidFill>
            <a:srgbClr val="0587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417320" y="779400"/>
            <a:ext cx="48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OREMS ABOUT PARALLEL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48280" y="1282680"/>
            <a:ext cx="4845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EM 3.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5875c"/>
                </a:solidFill>
                <a:latin typeface="Arial"/>
              </a:rPr>
              <a:t>Perpendicular Transvers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3333600" y="3124080"/>
            <a:ext cx="3600720" cy="1930680"/>
          </a:xfrm>
          <a:prstGeom prst="rect">
            <a:avLst/>
          </a:prstGeom>
          <a:ln w="0">
            <a:noFill/>
          </a:ln>
        </p:spPr>
      </p:pic>
      <p:grpSp>
        <p:nvGrpSpPr>
          <p:cNvPr id="354" name=""/>
          <p:cNvGrpSpPr/>
          <p:nvPr/>
        </p:nvGrpSpPr>
        <p:grpSpPr>
          <a:xfrm>
            <a:off x="1930320" y="1752480"/>
            <a:ext cx="3291480" cy="3054600"/>
            <a:chOff x="1930320" y="1752480"/>
            <a:chExt cx="3291480" cy="3054600"/>
          </a:xfrm>
        </p:grpSpPr>
        <p:sp>
          <p:nvSpPr>
            <p:cNvPr id="355" name=""/>
            <p:cNvSpPr/>
            <p:nvPr/>
          </p:nvSpPr>
          <p:spPr>
            <a:xfrm>
              <a:off x="1930320" y="1752480"/>
              <a:ext cx="129564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16218600">
              <a:off x="4437000" y="4025160"/>
              <a:ext cx="1349640" cy="21276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1415880" y="1752480"/>
            <a:ext cx="6356520" cy="2898720"/>
            <a:chOff x="1415880" y="1752480"/>
            <a:chExt cx="6356520" cy="2898720"/>
          </a:xfrm>
        </p:grpSpPr>
        <p:sp>
          <p:nvSpPr>
            <p:cNvPr id="358" name=""/>
            <p:cNvSpPr/>
            <p:nvPr/>
          </p:nvSpPr>
          <p:spPr>
            <a:xfrm rot="3000">
              <a:off x="3546000" y="3812760"/>
              <a:ext cx="3165480" cy="1764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3000">
              <a:off x="3547800" y="4473360"/>
              <a:ext cx="3165480" cy="1760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1415880" y="1752480"/>
              <a:ext cx="6356520" cy="698760"/>
              <a:chOff x="1415880" y="1752480"/>
              <a:chExt cx="6356520" cy="698760"/>
            </a:xfrm>
          </p:grpSpPr>
          <p:sp>
            <p:nvSpPr>
              <p:cNvPr id="361" name=""/>
              <p:cNvSpPr/>
              <p:nvPr/>
            </p:nvSpPr>
            <p:spPr>
              <a:xfrm>
                <a:off x="6203880" y="1752480"/>
                <a:ext cx="1568520" cy="381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415880" y="2070000"/>
                <a:ext cx="806760" cy="381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3" name=""/>
          <p:cNvGrpSpPr/>
          <p:nvPr/>
        </p:nvGrpSpPr>
        <p:grpSpPr>
          <a:xfrm>
            <a:off x="3301920" y="2082960"/>
            <a:ext cx="2833920" cy="3733560"/>
            <a:chOff x="3301920" y="2082960"/>
            <a:chExt cx="2833920" cy="3733560"/>
          </a:xfrm>
        </p:grpSpPr>
        <p:pic>
          <p:nvPicPr>
            <p:cNvPr id="364" name="" descr=""/>
            <p:cNvPicPr/>
            <p:nvPr/>
          </p:nvPicPr>
          <p:blipFill>
            <a:blip r:embed="rId4"/>
            <a:stretch/>
          </p:blipFill>
          <p:spPr>
            <a:xfrm>
              <a:off x="5124600" y="4248000"/>
              <a:ext cx="33480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3301920" y="2082960"/>
              <a:ext cx="170172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4476600" y="5305320"/>
              <a:ext cx="1659240" cy="511200"/>
              <a:chOff x="4476600" y="5305320"/>
              <a:chExt cx="1659240" cy="511200"/>
            </a:xfrm>
          </p:grpSpPr>
          <p:sp>
            <p:nvSpPr>
              <p:cNvPr id="367" name=""/>
              <p:cNvSpPr/>
              <p:nvPr/>
            </p:nvSpPr>
            <p:spPr>
              <a:xfrm>
                <a:off x="4476600" y="5305320"/>
                <a:ext cx="1231920" cy="511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3bb7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8" name=""/>
              <p:cNvGrpSpPr/>
              <p:nvPr/>
            </p:nvGrpSpPr>
            <p:grpSpPr>
              <a:xfrm>
                <a:off x="4740120" y="5321160"/>
                <a:ext cx="1395720" cy="459720"/>
                <a:chOff x="4740120" y="5321160"/>
                <a:chExt cx="1395720" cy="45972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4740120" y="5321160"/>
                  <a:ext cx="1395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j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0" name=""/>
                <p:cNvGrpSpPr/>
                <p:nvPr/>
              </p:nvGrpSpPr>
              <p:grpSpPr>
                <a:xfrm>
                  <a:off x="5021280" y="5446800"/>
                  <a:ext cx="174600" cy="193680"/>
                  <a:chOff x="5021280" y="5446800"/>
                  <a:chExt cx="174600" cy="19368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>
                    <a:off x="5021280" y="5640480"/>
                    <a:ext cx="174600" cy="0"/>
                  </a:xfrm>
                  <a:prstGeom prst="line">
                    <a:avLst/>
                  </a:prstGeom>
                  <a:ln w="19080">
                    <a:solidFill>
                      <a:srgbClr val="fe000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5116680" y="5446800"/>
                    <a:ext cx="0" cy="193680"/>
                  </a:xfrm>
                  <a:prstGeom prst="line">
                    <a:avLst/>
                  </a:prstGeom>
                  <a:ln w="19080">
                    <a:solidFill>
                      <a:srgbClr val="fe000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73" name=""/>
          <p:cNvSpPr/>
          <p:nvPr/>
        </p:nvSpPr>
        <p:spPr>
          <a:xfrm>
            <a:off x="1447560" y="1763640"/>
            <a:ext cx="620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transversal is perpendicular to one of  two parall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s,  then it is  perpendicular  to the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604880" y="3986280"/>
            <a:ext cx="715824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376" name=""/>
          <p:cNvGrpSpPr/>
          <p:nvPr/>
        </p:nvGrpSpPr>
        <p:grpSpPr>
          <a:xfrm>
            <a:off x="177840" y="117360"/>
            <a:ext cx="6575760" cy="460440"/>
            <a:chOff x="177840" y="117360"/>
            <a:chExt cx="6575760" cy="460440"/>
          </a:xfrm>
        </p:grpSpPr>
        <p:sp>
          <p:nvSpPr>
            <p:cNvPr id="377" name=""/>
            <p:cNvSpPr/>
            <p:nvPr/>
          </p:nvSpPr>
          <p:spPr>
            <a:xfrm>
              <a:off x="1554480" y="154080"/>
              <a:ext cx="519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ving the Alternate Interior Angles Theor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8" name="" descr=""/>
            <p:cNvPicPr/>
            <p:nvPr/>
          </p:nvPicPr>
          <p:blipFill>
            <a:blip r:embed="rId2"/>
            <a:stretch/>
          </p:blipFill>
          <p:spPr>
            <a:xfrm>
              <a:off x="177840" y="117360"/>
              <a:ext cx="1387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9" name=""/>
          <p:cNvSpPr/>
          <p:nvPr/>
        </p:nvSpPr>
        <p:spPr>
          <a:xfrm>
            <a:off x="1668600" y="515880"/>
            <a:ext cx="71913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64200" y="711360"/>
            <a:ext cx="526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e the Alternate Interior Angles Theore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596960" y="1227240"/>
            <a:ext cx="1447920" cy="419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593720" y="1251000"/>
            <a:ext cx="14115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1515960" y="2073240"/>
            <a:ext cx="2188080" cy="459720"/>
            <a:chOff x="1515960" y="2073240"/>
            <a:chExt cx="2188080" cy="459720"/>
          </a:xfrm>
        </p:grpSpPr>
        <p:sp>
          <p:nvSpPr>
            <p:cNvPr id="384" name=""/>
            <p:cNvSpPr/>
            <p:nvPr/>
          </p:nvSpPr>
          <p:spPr>
            <a:xfrm>
              <a:off x="1515960" y="2119320"/>
              <a:ext cx="89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IV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5400000">
              <a:off x="2510280" y="2185200"/>
              <a:ext cx="250920" cy="261720"/>
            </a:xfrm>
            <a:prstGeom prst="flowChartExtra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944440" y="2073240"/>
              <a:ext cx="75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||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4888080" y="1182600"/>
            <a:ext cx="3504960" cy="22068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503360" y="3897360"/>
            <a:ext cx="739944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39760" y="3970440"/>
            <a:ext cx="36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04880" y="4570560"/>
            <a:ext cx="717084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608120" y="5116680"/>
            <a:ext cx="717084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11360" y="5624640"/>
            <a:ext cx="731052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528920" y="4456080"/>
            <a:ext cx="7399080" cy="61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515960" y="5040360"/>
            <a:ext cx="739944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612800" y="3498840"/>
            <a:ext cx="7137360" cy="2498760"/>
            <a:chOff x="1612800" y="3498840"/>
            <a:chExt cx="7137360" cy="2498760"/>
          </a:xfrm>
        </p:grpSpPr>
        <p:sp>
          <p:nvSpPr>
            <p:cNvPr id="396" name=""/>
            <p:cNvSpPr/>
            <p:nvPr/>
          </p:nvSpPr>
          <p:spPr>
            <a:xfrm>
              <a:off x="1869480" y="3498840"/>
              <a:ext cx="141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t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801320" y="349884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as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12800" y="3860640"/>
              <a:ext cx="713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52840" y="3500280"/>
              <a:ext cx="0" cy="249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1225440" y="4037760"/>
            <a:ext cx="304920" cy="368280"/>
            <a:chOff x="1225440" y="4037760"/>
            <a:chExt cx="304920" cy="368280"/>
          </a:xfrm>
        </p:grpSpPr>
        <p:sp>
          <p:nvSpPr>
            <p:cNvPr id="401" name=""/>
            <p:cNvSpPr/>
            <p:nvPr/>
          </p:nvSpPr>
          <p:spPr>
            <a:xfrm>
              <a:off x="1225440" y="4063680"/>
              <a:ext cx="304920" cy="304920"/>
            </a:xfrm>
            <a:prstGeom prst="ellipse">
              <a:avLst/>
            </a:prstGeom>
            <a:solidFill>
              <a:srgbClr val="0a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25440" y="403776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225440" y="4614120"/>
            <a:ext cx="304920" cy="368280"/>
            <a:chOff x="1225440" y="4614120"/>
            <a:chExt cx="304920" cy="368280"/>
          </a:xfrm>
        </p:grpSpPr>
        <p:sp>
          <p:nvSpPr>
            <p:cNvPr id="404" name=""/>
            <p:cNvSpPr/>
            <p:nvPr/>
          </p:nvSpPr>
          <p:spPr>
            <a:xfrm>
              <a:off x="1225440" y="4640040"/>
              <a:ext cx="304920" cy="304920"/>
            </a:xfrm>
            <a:prstGeom prst="ellipse">
              <a:avLst/>
            </a:prstGeom>
            <a:solidFill>
              <a:srgbClr val="0a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225440" y="461412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1225440" y="5144400"/>
            <a:ext cx="304920" cy="368280"/>
            <a:chOff x="1225440" y="5144400"/>
            <a:chExt cx="304920" cy="368280"/>
          </a:xfrm>
        </p:grpSpPr>
        <p:sp>
          <p:nvSpPr>
            <p:cNvPr id="407" name=""/>
            <p:cNvSpPr/>
            <p:nvPr/>
          </p:nvSpPr>
          <p:spPr>
            <a:xfrm>
              <a:off x="1225440" y="5170320"/>
              <a:ext cx="304920" cy="304920"/>
            </a:xfrm>
            <a:prstGeom prst="ellipse">
              <a:avLst/>
            </a:prstGeom>
            <a:solidFill>
              <a:srgbClr val="0a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25440" y="514440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1225440" y="5677920"/>
            <a:ext cx="304920" cy="368280"/>
            <a:chOff x="1225440" y="5677920"/>
            <a:chExt cx="304920" cy="368280"/>
          </a:xfrm>
        </p:grpSpPr>
        <p:sp>
          <p:nvSpPr>
            <p:cNvPr id="410" name=""/>
            <p:cNvSpPr/>
            <p:nvPr/>
          </p:nvSpPr>
          <p:spPr>
            <a:xfrm>
              <a:off x="1225440" y="5703840"/>
              <a:ext cx="304920" cy="304920"/>
            </a:xfrm>
            <a:prstGeom prst="ellipse">
              <a:avLst/>
            </a:prstGeom>
            <a:solidFill>
              <a:srgbClr val="0a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25440" y="567792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515960" y="2687760"/>
            <a:ext cx="2738520" cy="459720"/>
            <a:chOff x="1515960" y="2687760"/>
            <a:chExt cx="2738520" cy="459720"/>
          </a:xfrm>
        </p:grpSpPr>
        <p:grpSp>
          <p:nvGrpSpPr>
            <p:cNvPr id="413" name=""/>
            <p:cNvGrpSpPr/>
            <p:nvPr/>
          </p:nvGrpSpPr>
          <p:grpSpPr>
            <a:xfrm>
              <a:off x="1515960" y="2687760"/>
              <a:ext cx="2738520" cy="459720"/>
              <a:chOff x="1515960" y="2687760"/>
              <a:chExt cx="2738520" cy="459720"/>
            </a:xfrm>
          </p:grpSpPr>
          <p:sp>
            <p:nvSpPr>
              <p:cNvPr id="414" name=""/>
              <p:cNvSpPr/>
              <p:nvPr/>
            </p:nvSpPr>
            <p:spPr>
              <a:xfrm>
                <a:off x="1515960" y="2746440"/>
                <a:ext cx="981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ROV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5400000">
                <a:off x="2510280" y="2793240"/>
                <a:ext cx="250920" cy="261720"/>
              </a:xfrm>
              <a:prstGeom prst="flowChartExtra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998800" y="2687760"/>
                <a:ext cx="125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       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859120" y="2820960"/>
                <a:ext cx="198360" cy="1904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96" y="0"/>
                    </a:moveTo>
                    <a:lnTo>
                      <a:pt x="0" y="96"/>
                    </a:lnTo>
                    <a:lnTo>
                      <a:pt x="96" y="9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483000" y="2828880"/>
                <a:ext cx="198360" cy="1904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96" y="0"/>
                    </a:moveTo>
                    <a:lnTo>
                      <a:pt x="0" y="96"/>
                    </a:lnTo>
                    <a:lnTo>
                      <a:pt x="96" y="9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19" name="" descr=""/>
            <p:cNvPicPr/>
            <p:nvPr/>
          </p:nvPicPr>
          <p:blipFill>
            <a:blip r:embed="rId4"/>
            <a:stretch/>
          </p:blipFill>
          <p:spPr>
            <a:xfrm>
              <a:off x="3262320" y="2830680"/>
              <a:ext cx="181080" cy="18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0" name=""/>
          <p:cNvGrpSpPr/>
          <p:nvPr/>
        </p:nvGrpSpPr>
        <p:grpSpPr>
          <a:xfrm>
            <a:off x="1876320" y="4532400"/>
            <a:ext cx="6774120" cy="489960"/>
            <a:chOff x="1876320" y="4532400"/>
            <a:chExt cx="6774120" cy="489960"/>
          </a:xfrm>
        </p:grpSpPr>
        <p:sp>
          <p:nvSpPr>
            <p:cNvPr id="421" name=""/>
            <p:cNvSpPr/>
            <p:nvPr/>
          </p:nvSpPr>
          <p:spPr>
            <a:xfrm>
              <a:off x="2038320" y="4532400"/>
              <a:ext cx="661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3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Corresponding Angles Postula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876320" y="4711680"/>
              <a:ext cx="19872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33760" y="4697280"/>
              <a:ext cx="198360" cy="1908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1905120" y="5099040"/>
            <a:ext cx="5918760" cy="489960"/>
            <a:chOff x="1905120" y="5099040"/>
            <a:chExt cx="5918760" cy="489960"/>
          </a:xfrm>
        </p:grpSpPr>
        <p:sp>
          <p:nvSpPr>
            <p:cNvPr id="425" name=""/>
            <p:cNvSpPr/>
            <p:nvPr/>
          </p:nvSpPr>
          <p:spPr>
            <a:xfrm>
              <a:off x="2063880" y="5099040"/>
              <a:ext cx="5760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2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Vertical Angles Theore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05120" y="5257800"/>
              <a:ext cx="19800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95240" y="5265720"/>
              <a:ext cx="19800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1911240" y="5605560"/>
            <a:ext cx="6926400" cy="489960"/>
            <a:chOff x="1911240" y="5605560"/>
            <a:chExt cx="6926400" cy="489960"/>
          </a:xfrm>
        </p:grpSpPr>
        <p:sp>
          <p:nvSpPr>
            <p:cNvPr id="429" name=""/>
            <p:cNvSpPr/>
            <p:nvPr/>
          </p:nvSpPr>
          <p:spPr>
            <a:xfrm>
              <a:off x="2039760" y="5605560"/>
              <a:ext cx="6797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Transitive property of Congruenc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11240" y="5762520"/>
              <a:ext cx="19872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602080" y="5770440"/>
              <a:ext cx="198360" cy="1908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4576680" y="3516480"/>
            <a:ext cx="356400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611520" y="3427560"/>
            <a:ext cx="466884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564080" y="4151160"/>
            <a:ext cx="3576600" cy="462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249200" y="4024440"/>
            <a:ext cx="703116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564080" y="4761000"/>
            <a:ext cx="441468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68600" y="4621320"/>
            <a:ext cx="747540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64080" y="5345280"/>
            <a:ext cx="442764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440" name=""/>
          <p:cNvGrpSpPr/>
          <p:nvPr/>
        </p:nvGrpSpPr>
        <p:grpSpPr>
          <a:xfrm>
            <a:off x="177840" y="117360"/>
            <a:ext cx="5204160" cy="460440"/>
            <a:chOff x="177840" y="117360"/>
            <a:chExt cx="5204160" cy="460440"/>
          </a:xfrm>
        </p:grpSpPr>
        <p:sp>
          <p:nvSpPr>
            <p:cNvPr id="441" name=""/>
            <p:cNvSpPr/>
            <p:nvPr/>
          </p:nvSpPr>
          <p:spPr>
            <a:xfrm>
              <a:off x="1554480" y="154080"/>
              <a:ext cx="382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ing Properties of Parallel Li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2" name="" descr=""/>
            <p:cNvPicPr/>
            <p:nvPr/>
          </p:nvPicPr>
          <p:blipFill>
            <a:blip r:embed="rId2"/>
            <a:stretch/>
          </p:blipFill>
          <p:spPr>
            <a:xfrm>
              <a:off x="177840" y="117360"/>
              <a:ext cx="1387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3" name=""/>
          <p:cNvSpPr/>
          <p:nvPr/>
        </p:nvSpPr>
        <p:spPr>
          <a:xfrm>
            <a:off x="1668600" y="515880"/>
            <a:ext cx="71913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028880" y="2614680"/>
            <a:ext cx="1447560" cy="419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025640" y="2638440"/>
            <a:ext cx="1411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602000" y="846000"/>
            <a:ext cx="323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iven tha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 = 65°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nd each measure. Te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ich postulate or theor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you us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18040" y="939960"/>
            <a:ext cx="198360" cy="190440"/>
          </a:xfrm>
          <a:custGeom>
            <a:avLst/>
            <a:gdLst/>
            <a:ahLst/>
            <a:rect l="l" t="t" r="r" b="b"/>
            <a:pathLst>
              <a:path w="96" h="96">
                <a:moveTo>
                  <a:pt x="96" y="0"/>
                </a:moveTo>
                <a:lnTo>
                  <a:pt x="0" y="96"/>
                </a:lnTo>
                <a:lnTo>
                  <a:pt x="96" y="9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066680" y="4165560"/>
            <a:ext cx="800280" cy="3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22560" y="4191120"/>
            <a:ext cx="800280" cy="34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98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1035000" y="4146480"/>
            <a:ext cx="6206400" cy="432360"/>
            <a:chOff x="1035000" y="4146480"/>
            <a:chExt cx="6206400" cy="432360"/>
          </a:xfrm>
        </p:grpSpPr>
        <p:sp>
          <p:nvSpPr>
            <p:cNvPr id="451" name=""/>
            <p:cNvSpPr/>
            <p:nvPr/>
          </p:nvSpPr>
          <p:spPr>
            <a:xfrm>
              <a:off x="3373560" y="423720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698360" y="4179960"/>
              <a:ext cx="254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Linear Pair Postul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035000" y="4146480"/>
              <a:ext cx="3642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7  =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80°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– 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5 =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15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407960" y="4238640"/>
              <a:ext cx="19872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2158920" y="5384880"/>
            <a:ext cx="800280" cy="34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41480" y="5372280"/>
            <a:ext cx="799920" cy="34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1017000" y="5348160"/>
            <a:ext cx="7763760" cy="471960"/>
            <a:chOff x="1017000" y="5348160"/>
            <a:chExt cx="7763760" cy="471960"/>
          </a:xfrm>
        </p:grpSpPr>
        <p:sp>
          <p:nvSpPr>
            <p:cNvPr id="458" name=""/>
            <p:cNvSpPr/>
            <p:nvPr/>
          </p:nvSpPr>
          <p:spPr>
            <a:xfrm>
              <a:off x="4695480" y="5421240"/>
              <a:ext cx="408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Alternate Exterior Angles Theor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017000" y="5348160"/>
              <a:ext cx="2830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9  =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7 = 115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373040" y="5416560"/>
              <a:ext cx="19872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508120" y="5454720"/>
              <a:ext cx="19872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171880" y="4737240"/>
            <a:ext cx="799920" cy="34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f91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041480" y="4737240"/>
            <a:ext cx="799920" cy="34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3bb7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1017000" y="4702320"/>
            <a:ext cx="7512840" cy="497160"/>
            <a:chOff x="1017000" y="4702320"/>
            <a:chExt cx="7512840" cy="497160"/>
          </a:xfrm>
        </p:grpSpPr>
        <p:sp>
          <p:nvSpPr>
            <p:cNvPr id="465" name=""/>
            <p:cNvSpPr/>
            <p:nvPr/>
          </p:nvSpPr>
          <p:spPr>
            <a:xfrm>
              <a:off x="4696200" y="4800600"/>
              <a:ext cx="383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Corresponding Angles Postul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017000" y="4702320"/>
              <a:ext cx="2690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8  =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5 = 65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390680" y="478152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529000" y="4794120"/>
              <a:ext cx="198360" cy="1908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1054080" y="3530520"/>
            <a:ext cx="800280" cy="3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158920" y="3530520"/>
            <a:ext cx="800280" cy="3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b8e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1017720" y="3511440"/>
            <a:ext cx="6648120" cy="448200"/>
            <a:chOff x="1017720" y="3511440"/>
            <a:chExt cx="6648120" cy="448200"/>
          </a:xfrm>
        </p:grpSpPr>
        <p:sp>
          <p:nvSpPr>
            <p:cNvPr id="472" name=""/>
            <p:cNvSpPr/>
            <p:nvPr/>
          </p:nvSpPr>
          <p:spPr>
            <a:xfrm>
              <a:off x="1017720" y="3511440"/>
              <a:ext cx="272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6  =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 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65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97640" y="3560760"/>
              <a:ext cx="296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Vertical Angles Theor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387440" y="361476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21080" y="361332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 rot="18363600">
            <a:off x="5648040" y="1314360"/>
            <a:ext cx="1206720" cy="1206360"/>
          </a:xfrm>
          <a:prstGeom prst="blockArc">
            <a:avLst>
              <a:gd name="adj1" fmla="val 13775573"/>
              <a:gd name="adj2" fmla="val 18624427"/>
              <a:gd name="adj3" fmla="val 6583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rot="12228600">
            <a:off x="5800680" y="1196640"/>
            <a:ext cx="1206720" cy="1206360"/>
          </a:xfrm>
          <a:prstGeom prst="blockArc">
            <a:avLst>
              <a:gd name="adj1" fmla="val 13121043"/>
              <a:gd name="adj2" fmla="val 19278957"/>
              <a:gd name="adj3" fmla="val 7269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1738200">
            <a:off x="6702120" y="1123560"/>
            <a:ext cx="1206360" cy="1206360"/>
          </a:xfrm>
          <a:prstGeom prst="blockArc">
            <a:avLst>
              <a:gd name="adj1" fmla="val 13065547"/>
              <a:gd name="adj2" fmla="val 19334453"/>
              <a:gd name="adj3" fmla="val 6032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rot="6385800">
            <a:off x="6844680" y="1247400"/>
            <a:ext cx="1206360" cy="1206360"/>
          </a:xfrm>
          <a:prstGeom prst="blockArc">
            <a:avLst>
              <a:gd name="adj1" fmla="val 13775573"/>
              <a:gd name="adj2" fmla="val 18624427"/>
              <a:gd name="adj3" fmla="val 6583"/>
            </a:avLst>
          </a:prstGeom>
          <a:solidFill>
            <a:srgbClr val="03bb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6385800">
            <a:off x="5892120" y="1387080"/>
            <a:ext cx="1206360" cy="1206360"/>
          </a:xfrm>
          <a:prstGeom prst="blockArc">
            <a:avLst>
              <a:gd name="adj1" fmla="val 13775573"/>
              <a:gd name="adj2" fmla="val 18624427"/>
              <a:gd name="adj3" fmla="val 6583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6385800">
            <a:off x="5892120" y="1374480"/>
            <a:ext cx="1206360" cy="1206360"/>
          </a:xfrm>
          <a:prstGeom prst="blockArc">
            <a:avLst>
              <a:gd name="adj1" fmla="val 13775573"/>
              <a:gd name="adj2" fmla="val 18624427"/>
              <a:gd name="adj3" fmla="val 6583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rot="6385800">
            <a:off x="5892120" y="1387080"/>
            <a:ext cx="1206360" cy="1206360"/>
          </a:xfrm>
          <a:prstGeom prst="blockArc">
            <a:avLst>
              <a:gd name="adj1" fmla="val 13775573"/>
              <a:gd name="adj2" fmla="val 18624427"/>
              <a:gd name="adj3" fmla="val 6583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rot="12228600">
            <a:off x="5787360" y="1209240"/>
            <a:ext cx="1206360" cy="1206720"/>
          </a:xfrm>
          <a:prstGeom prst="blockArc">
            <a:avLst>
              <a:gd name="adj1" fmla="val 13121043"/>
              <a:gd name="adj2" fmla="val 19278957"/>
              <a:gd name="adj3" fmla="val 7269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5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5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50" dur="1" fill="hold"/>
                                  <p:tgtEl>
                                    <p:spTgt spid="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4597560" y="3959280"/>
            <a:ext cx="409716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-268200" y="5186520"/>
            <a:ext cx="753912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559400" y="4518000"/>
            <a:ext cx="413532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376280" y="4429080"/>
            <a:ext cx="7767720" cy="61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559400" y="5089680"/>
            <a:ext cx="413532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287360" y="5013360"/>
            <a:ext cx="785664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559400" y="5673600"/>
            <a:ext cx="4135320" cy="462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1320840" y="803160"/>
            <a:ext cx="5204160" cy="460440"/>
            <a:chOff x="1320840" y="803160"/>
            <a:chExt cx="5204160" cy="460440"/>
          </a:xfrm>
        </p:grpSpPr>
        <p:sp>
          <p:nvSpPr>
            <p:cNvPr id="492" name=""/>
            <p:cNvSpPr/>
            <p:nvPr/>
          </p:nvSpPr>
          <p:spPr>
            <a:xfrm>
              <a:off x="2697480" y="839880"/>
              <a:ext cx="382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ing Properties of Parallel Li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3" name="" descr=""/>
            <p:cNvPicPr/>
            <p:nvPr/>
          </p:nvPicPr>
          <p:blipFill>
            <a:blip r:embed="rId1"/>
            <a:stretch/>
          </p:blipFill>
          <p:spPr>
            <a:xfrm>
              <a:off x="1320840" y="803160"/>
              <a:ext cx="1387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"/>
          <p:cNvSpPr/>
          <p:nvPr/>
        </p:nvSpPr>
        <p:spPr>
          <a:xfrm>
            <a:off x="2811600" y="1201680"/>
            <a:ext cx="592128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4670280" y="1355760"/>
            <a:ext cx="3684600" cy="245592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1614960" y="1643040"/>
            <a:ext cx="263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propertie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 lines to fi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20840" y="3236760"/>
            <a:ext cx="1447920" cy="419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317600" y="3260880"/>
            <a:ext cx="1411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2629080" y="3998880"/>
            <a:ext cx="5957280" cy="429120"/>
            <a:chOff x="2629080" y="3998880"/>
            <a:chExt cx="5957280" cy="429120"/>
          </a:xfrm>
        </p:grpSpPr>
        <p:sp>
          <p:nvSpPr>
            <p:cNvPr id="500" name=""/>
            <p:cNvSpPr/>
            <p:nvPr/>
          </p:nvSpPr>
          <p:spPr>
            <a:xfrm>
              <a:off x="4752720" y="4025880"/>
              <a:ext cx="383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Corresponding Angles Postul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629080" y="3998880"/>
              <a:ext cx="1701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4 =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25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987640" y="4081680"/>
              <a:ext cx="19800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1314360" y="4535640"/>
            <a:ext cx="5983920" cy="429120"/>
            <a:chOff x="1314360" y="4535640"/>
            <a:chExt cx="5983920" cy="429120"/>
          </a:xfrm>
        </p:grpSpPr>
        <p:sp>
          <p:nvSpPr>
            <p:cNvPr id="504" name=""/>
            <p:cNvSpPr/>
            <p:nvPr/>
          </p:nvSpPr>
          <p:spPr>
            <a:xfrm>
              <a:off x="4755240" y="4560840"/>
              <a:ext cx="254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Linear Pair Postul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314360" y="4535640"/>
              <a:ext cx="3013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4 + (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+ 15)° =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80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684440" y="4630680"/>
              <a:ext cx="198360" cy="1900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1454040" y="5089680"/>
            <a:ext cx="4684320" cy="429120"/>
            <a:chOff x="1454040" y="5089680"/>
            <a:chExt cx="4684320" cy="429120"/>
          </a:xfrm>
        </p:grpSpPr>
        <p:sp>
          <p:nvSpPr>
            <p:cNvPr id="508" name=""/>
            <p:cNvSpPr/>
            <p:nvPr/>
          </p:nvSpPr>
          <p:spPr>
            <a:xfrm>
              <a:off x="4756680" y="5108400"/>
              <a:ext cx="138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Substitu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454040" y="5089680"/>
              <a:ext cx="2853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25° + (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+ 15)° =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80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0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1346760" y="212760"/>
            <a:ext cx="5883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PERTIES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CIAL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RS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4"/>
          <a:stretch/>
        </p:blipFill>
        <p:spPr>
          <a:xfrm>
            <a:off x="176040" y="225360"/>
            <a:ext cx="1097280" cy="43344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1460520" y="620640"/>
            <a:ext cx="7289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619440" y="5524560"/>
            <a:ext cx="685800" cy="68580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3188880" y="5675400"/>
            <a:ext cx="2765880" cy="429120"/>
            <a:chOff x="3188880" y="5675400"/>
            <a:chExt cx="2765880" cy="429120"/>
          </a:xfrm>
        </p:grpSpPr>
        <p:sp>
          <p:nvSpPr>
            <p:cNvPr id="516" name=""/>
            <p:cNvSpPr/>
            <p:nvPr/>
          </p:nvSpPr>
          <p:spPr>
            <a:xfrm>
              <a:off x="4755960" y="569448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Subtrac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188880" y="5675400"/>
              <a:ext cx="1063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40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0T19:08:34Z</dcterms:created>
  <dc:creator>McDougal Littell</dc:creator>
  <dc:description/>
  <dc:language>en-US</dc:language>
  <cp:lastModifiedBy>Administrative Services</cp:lastModifiedBy>
  <dcterms:modified xsi:type="dcterms:W3CDTF">2013-02-19T20:02:25Z</dcterms:modified>
  <cp:revision>139</cp:revision>
  <dc:subject/>
  <dc:title>No Slide Title</dc:title>
</cp:coreProperties>
</file>