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261720"/>
            <a:ext cx="8229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-3 Slopes of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2440" y="1625760"/>
            <a:ext cx="82296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eepness or slope of a hill is described by the ratio of the hill’s vertical rise to its horizontal ru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pe of a line is the ratio of its vertical rise to its horizontal run. Slope can be interpreted as a rate of change, describing how a quantity y change in relation to quantity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425600" y="4540320"/>
            <a:ext cx="3000240" cy="19749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05400" y="5240160"/>
            <a:ext cx="1962360" cy="138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16640" y="2189160"/>
            <a:ext cx="3427200" cy="3103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524960" y="109440"/>
            <a:ext cx="7238160" cy="368280"/>
            <a:chOff x="1524960" y="109440"/>
            <a:chExt cx="7238160" cy="368280"/>
          </a:xfrm>
        </p:grpSpPr>
        <p:grpSp>
          <p:nvGrpSpPr>
            <p:cNvPr id="193" name=""/>
            <p:cNvGrpSpPr/>
            <p:nvPr/>
          </p:nvGrpSpPr>
          <p:grpSpPr>
            <a:xfrm>
              <a:off x="1524960" y="109440"/>
              <a:ext cx="7238160" cy="368280"/>
              <a:chOff x="1524960" y="109440"/>
              <a:chExt cx="7238160" cy="368280"/>
            </a:xfrm>
          </p:grpSpPr>
          <p:sp>
            <p:nvSpPr>
              <p:cNvPr id="194" name=""/>
              <p:cNvSpPr/>
              <p:nvPr/>
            </p:nvSpPr>
            <p:spPr>
              <a:xfrm>
                <a:off x="1524960" y="109440"/>
                <a:ext cx="40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eciding Whether Lines are Parall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Find the slope of each line. Is 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j</a:t>
            </a:r>
            <a:r>
              <a:rPr b="1" i="1" lang="en-US" sz="900" spc="-1" strike="noStrike">
                <a:solidFill>
                  <a:srgbClr val="010455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10455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|| </a:t>
            </a:r>
            <a:r>
              <a:rPr b="1" lang="en-US" sz="1800" spc="-1" strike="noStrike">
                <a:solidFill>
                  <a:srgbClr val="010455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j</a:t>
            </a:r>
            <a:r>
              <a:rPr b="1" i="1" lang="en-US" sz="900" spc="-1" strike="noStrike">
                <a:solidFill>
                  <a:srgbClr val="010455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10455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955920" y="3250800"/>
            <a:ext cx="1800" cy="1252440"/>
          </a:xfrm>
          <a:prstGeom prst="line">
            <a:avLst/>
          </a:prstGeom>
          <a:ln w="19080">
            <a:solidFill>
              <a:srgbClr val="df00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72360" y="4505400"/>
            <a:ext cx="583920" cy="0"/>
          </a:xfrm>
          <a:prstGeom prst="line">
            <a:avLst/>
          </a:prstGeom>
          <a:ln w="19080">
            <a:solidFill>
              <a:srgbClr val="1da3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264520" y="2927520"/>
            <a:ext cx="1440" cy="599760"/>
          </a:xfrm>
          <a:prstGeom prst="line">
            <a:avLst/>
          </a:prstGeom>
          <a:ln w="19080">
            <a:solidFill>
              <a:srgbClr val="df00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93080" y="3527280"/>
            <a:ext cx="272880" cy="0"/>
          </a:xfrm>
          <a:prstGeom prst="line">
            <a:avLst/>
          </a:prstGeom>
          <a:ln w="19080">
            <a:solidFill>
              <a:srgbClr val="1da3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5160" y="358920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a3d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8720" y="445788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a3da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5520" y="361944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0032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36080" y="310824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0032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0200" y="155268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8880" y="1579680"/>
            <a:ext cx="153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200" y="2243160"/>
            <a:ext cx="318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slop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32080" y="2692440"/>
            <a:ext cx="1055520" cy="642600"/>
            <a:chOff x="1432080" y="2692440"/>
            <a:chExt cx="1055520" cy="642600"/>
          </a:xfrm>
        </p:grpSpPr>
        <p:sp>
          <p:nvSpPr>
            <p:cNvPr id="211" name=""/>
            <p:cNvSpPr/>
            <p:nvPr/>
          </p:nvSpPr>
          <p:spPr>
            <a:xfrm>
              <a:off x="1432080" y="2801880"/>
              <a:ext cx="105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900" spc="-1" strike="noStrike">
                  <a:solidFill>
                    <a:srgbClr val="010455"/>
                  </a:solidFill>
                  <a:latin typeface="Times New Roman"/>
                </a:rPr>
                <a:t> 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021040" y="2692440"/>
              <a:ext cx="266400" cy="642600"/>
              <a:chOff x="2021040" y="2692440"/>
              <a:chExt cx="266400" cy="642600"/>
            </a:xfrm>
          </p:grpSpPr>
          <p:sp>
            <p:nvSpPr>
              <p:cNvPr id="213" name=""/>
              <p:cNvSpPr/>
              <p:nvPr/>
            </p:nvSpPr>
            <p:spPr>
              <a:xfrm>
                <a:off x="2021040" y="2692440"/>
                <a:ext cx="266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f0032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a3da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033640" y="3009960"/>
                <a:ext cx="2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2260440" y="280044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440" y="3524400"/>
            <a:ext cx="318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slop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490760" y="3954600"/>
            <a:ext cx="1055520" cy="642600"/>
            <a:chOff x="1490760" y="3954600"/>
            <a:chExt cx="1055520" cy="642600"/>
          </a:xfrm>
        </p:grpSpPr>
        <p:sp>
          <p:nvSpPr>
            <p:cNvPr id="218" name=""/>
            <p:cNvSpPr/>
            <p:nvPr/>
          </p:nvSpPr>
          <p:spPr>
            <a:xfrm>
              <a:off x="1490760" y="4064040"/>
              <a:ext cx="105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900" spc="-1" strike="noStrike">
                  <a:solidFill>
                    <a:srgbClr val="010455"/>
                  </a:solidFill>
                  <a:latin typeface="Times New Roman"/>
                </a:rPr>
                <a:t> 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079720" y="3954600"/>
              <a:ext cx="266400" cy="642600"/>
              <a:chOff x="2079720" y="3954600"/>
              <a:chExt cx="266400" cy="642600"/>
            </a:xfrm>
          </p:grpSpPr>
          <p:sp>
            <p:nvSpPr>
              <p:cNvPr id="220" name=""/>
              <p:cNvSpPr/>
              <p:nvPr/>
            </p:nvSpPr>
            <p:spPr>
              <a:xfrm>
                <a:off x="2079720" y="3954600"/>
                <a:ext cx="266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f0032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a3da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92320" y="4272120"/>
                <a:ext cx="2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2319480" y="40734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3320" y="4802040"/>
            <a:ext cx="5532840" cy="680040"/>
            <a:chOff x="463320" y="4802040"/>
            <a:chExt cx="5532840" cy="680040"/>
          </a:xfrm>
        </p:grpSpPr>
        <p:sp>
          <p:nvSpPr>
            <p:cNvPr id="224" name=""/>
            <p:cNvSpPr/>
            <p:nvPr/>
          </p:nvSpPr>
          <p:spPr>
            <a:xfrm rot="5400000">
              <a:off x="452880" y="4931280"/>
              <a:ext cx="158760" cy="137880"/>
            </a:xfrm>
            <a:prstGeom prst="triangle">
              <a:avLst>
                <a:gd name="adj" fmla="val 50000"/>
              </a:avLst>
            </a:prstGeom>
            <a:solidFill>
              <a:srgbClr val="285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1160" y="4939920"/>
              <a:ext cx="5008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9360" y="4802040"/>
              <a:ext cx="54468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ause the lines have the same slope,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|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230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1523880" y="109440"/>
                <a:ext cx="28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dentifying Parallel Li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Find the slope of each line. Which lines are parall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4600" y="1598760"/>
            <a:ext cx="1473120" cy="49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625760"/>
            <a:ext cx="1536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040" y="2308320"/>
            <a:ext cx="291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slope of </a:t>
            </a:r>
            <a:r>
              <a:rPr b="1" i="1" lang="en-US" sz="1800" spc="-1" strike="noStrike">
                <a:solidFill>
                  <a:srgbClr val="1da3da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1da3da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8480" y="2638440"/>
            <a:ext cx="451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1" i="1" lang="en-US" sz="1800" spc="-1" strike="noStrike">
                <a:solidFill>
                  <a:srgbClr val="1da3da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1da3da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s through </a:t>
            </a:r>
            <a:r>
              <a:rPr b="0" lang="en-US" sz="1800" spc="-1" strike="noStrike">
                <a:solidFill>
                  <a:srgbClr val="1da3da"/>
                </a:solidFill>
                <a:latin typeface="Times New Roman"/>
              </a:rPr>
              <a:t>(0, 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1da3da"/>
                </a:solidFill>
                <a:latin typeface="Times New Roman"/>
              </a:rPr>
              <a:t>(2, 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600" y="4103640"/>
            <a:ext cx="291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slope of </a:t>
            </a:r>
            <a:r>
              <a:rPr b="1" i="1" lang="en-US" sz="1800" spc="-1" strike="noStrike">
                <a:solidFill>
                  <a:srgbClr val="df0032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df0032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df0032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7040" y="4433760"/>
            <a:ext cx="451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1" i="1" lang="en-US" sz="1800" spc="-1" strike="noStrike">
                <a:solidFill>
                  <a:srgbClr val="df0032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df0032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df0032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s through </a:t>
            </a:r>
            <a:r>
              <a:rPr b="0" lang="en-US" sz="1800" spc="-1" strike="noStrike">
                <a:solidFill>
                  <a:srgbClr val="df0032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df0032"/>
                </a:solidFill>
                <a:latin typeface="Times New Roman"/>
                <a:ea typeface="Arial"/>
              </a:rPr>
              <a:t>–2</a:t>
            </a:r>
            <a:r>
              <a:rPr b="0" lang="en-US" sz="1800" spc="-1" strike="noStrike">
                <a:solidFill>
                  <a:srgbClr val="df0032"/>
                </a:solidFill>
                <a:latin typeface="Times New Roman"/>
              </a:rPr>
              <a:t>, 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df0032"/>
                </a:solidFill>
                <a:latin typeface="Times New Roman"/>
              </a:rPr>
              <a:t>(0, 1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25640" y="3143160"/>
            <a:ext cx="2514600" cy="638280"/>
            <a:chOff x="1025640" y="3143160"/>
            <a:chExt cx="2514600" cy="638280"/>
          </a:xfrm>
        </p:grpSpPr>
        <p:grpSp>
          <p:nvGrpSpPr>
            <p:cNvPr id="243" name=""/>
            <p:cNvGrpSpPr/>
            <p:nvPr/>
          </p:nvGrpSpPr>
          <p:grpSpPr>
            <a:xfrm>
              <a:off x="1146240" y="3143160"/>
              <a:ext cx="2394000" cy="638280"/>
              <a:chOff x="1146240" y="3143160"/>
              <a:chExt cx="2394000" cy="638280"/>
            </a:xfrm>
          </p:grpSpPr>
          <p:sp>
            <p:nvSpPr>
              <p:cNvPr id="244" name=""/>
              <p:cNvSpPr/>
              <p:nvPr/>
            </p:nvSpPr>
            <p:spPr>
              <a:xfrm>
                <a:off x="1719360" y="3143160"/>
                <a:ext cx="182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 – 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92360" y="347652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14680" y="3413160"/>
                <a:ext cx="182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 – 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6240" y="32655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025640" y="3235320"/>
              <a:ext cx="690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da3da"/>
                  </a:solidFill>
                  <a:latin typeface="Times New Roman"/>
                </a:rPr>
                <a:t>m</a:t>
              </a:r>
              <a:r>
                <a:rPr b="1" i="1" lang="en-US" sz="900" spc="-1" strike="noStrike">
                  <a:solidFill>
                    <a:srgbClr val="1da3da"/>
                  </a:solidFill>
                  <a:latin typeface="Times New Roman"/>
                </a:rPr>
                <a:t> </a:t>
              </a:r>
              <a:r>
                <a:rPr b="1" lang="en-US" sz="1800" spc="-1" strike="noStrike" baseline="-25000">
                  <a:solidFill>
                    <a:srgbClr val="1da3da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087560" y="5018040"/>
            <a:ext cx="1760400" cy="650880"/>
            <a:chOff x="1087560" y="5018040"/>
            <a:chExt cx="1760400" cy="650880"/>
          </a:xfrm>
        </p:grpSpPr>
        <p:sp>
          <p:nvSpPr>
            <p:cNvPr id="250" name=""/>
            <p:cNvSpPr/>
            <p:nvPr/>
          </p:nvSpPr>
          <p:spPr>
            <a:xfrm>
              <a:off x="1087560" y="51102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df0032"/>
                  </a:solidFill>
                  <a:latin typeface="Times New Roman"/>
                </a:rPr>
                <a:t>m</a:t>
              </a:r>
              <a:r>
                <a:rPr b="1" i="1" lang="en-US" sz="900" spc="-1" strike="noStrike">
                  <a:solidFill>
                    <a:srgbClr val="df0032"/>
                  </a:solidFill>
                  <a:latin typeface="Times New Roman"/>
                </a:rPr>
                <a:t> </a:t>
              </a:r>
              <a:r>
                <a:rPr b="1" lang="en-US" sz="1800" spc="-1" strike="noStrike" baseline="-25000">
                  <a:solidFill>
                    <a:srgbClr val="df0032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2280" y="5018040"/>
              <a:ext cx="9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89120" y="5300640"/>
              <a:ext cx="9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44560" y="5332320"/>
              <a:ext cx="8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489480" y="5011560"/>
            <a:ext cx="722880" cy="642600"/>
            <a:chOff x="3489480" y="5011560"/>
            <a:chExt cx="722880" cy="642600"/>
          </a:xfrm>
        </p:grpSpPr>
        <p:grpSp>
          <p:nvGrpSpPr>
            <p:cNvPr id="255" name=""/>
            <p:cNvGrpSpPr/>
            <p:nvPr/>
          </p:nvGrpSpPr>
          <p:grpSpPr>
            <a:xfrm>
              <a:off x="3687480" y="5011560"/>
              <a:ext cx="524880" cy="642600"/>
              <a:chOff x="3687480" y="5011560"/>
              <a:chExt cx="524880" cy="6426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946320" y="5011560"/>
                <a:ext cx="266040" cy="642600"/>
                <a:chOff x="3946320" y="5011560"/>
                <a:chExt cx="266040" cy="6426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946320" y="5011560"/>
                  <a:ext cx="26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ed181e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df0032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958920" y="5329080"/>
                  <a:ext cx="214920" cy="0"/>
                </a:xfrm>
                <a:prstGeom prst="line">
                  <a:avLst/>
                </a:prstGeom>
                <a:ln w="9360">
                  <a:solidFill>
                    <a:srgbClr val="ed18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3687480" y="5121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d181e"/>
                    </a:solidFill>
                    <a:latin typeface="Times New Roman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489480" y="5116680"/>
              <a:ext cx="40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02080" y="5002200"/>
            <a:ext cx="943920" cy="653760"/>
            <a:chOff x="2602080" y="5002200"/>
            <a:chExt cx="943920" cy="653760"/>
          </a:xfrm>
        </p:grpSpPr>
        <p:grpSp>
          <p:nvGrpSpPr>
            <p:cNvPr id="262" name=""/>
            <p:cNvGrpSpPr/>
            <p:nvPr/>
          </p:nvGrpSpPr>
          <p:grpSpPr>
            <a:xfrm>
              <a:off x="2849400" y="5002200"/>
              <a:ext cx="696600" cy="653760"/>
              <a:chOff x="2849400" y="5002200"/>
              <a:chExt cx="696600" cy="653760"/>
            </a:xfrm>
          </p:grpSpPr>
          <p:sp>
            <p:nvSpPr>
              <p:cNvPr id="263" name=""/>
              <p:cNvSpPr/>
              <p:nvPr/>
            </p:nvSpPr>
            <p:spPr>
              <a:xfrm>
                <a:off x="2867760" y="5013360"/>
                <a:ext cx="67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 +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30400" y="5330880"/>
                <a:ext cx="52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49400" y="50022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602080" y="5124600"/>
              <a:ext cx="7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421000" y="3152880"/>
            <a:ext cx="747360" cy="653760"/>
            <a:chOff x="2421000" y="3152880"/>
            <a:chExt cx="747360" cy="653760"/>
          </a:xfrm>
        </p:grpSpPr>
        <p:grpSp>
          <p:nvGrpSpPr>
            <p:cNvPr id="268" name=""/>
            <p:cNvGrpSpPr/>
            <p:nvPr/>
          </p:nvGrpSpPr>
          <p:grpSpPr>
            <a:xfrm>
              <a:off x="2671560" y="3152880"/>
              <a:ext cx="496800" cy="653760"/>
              <a:chOff x="2671560" y="3152880"/>
              <a:chExt cx="496800" cy="653760"/>
            </a:xfrm>
          </p:grpSpPr>
          <p:sp>
            <p:nvSpPr>
              <p:cNvPr id="269" name=""/>
              <p:cNvSpPr/>
              <p:nvPr/>
            </p:nvSpPr>
            <p:spPr>
              <a:xfrm>
                <a:off x="2763720" y="3164040"/>
                <a:ext cx="40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741400" y="348156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71560" y="3152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2421000" y="3265560"/>
              <a:ext cx="4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108240" y="32670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1da3da"/>
                </a:solidFill>
                <a:latin typeface="Times New Roman"/>
              </a:rPr>
              <a:t>–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110200" y="1836720"/>
            <a:ext cx="3427200" cy="2919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278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279" name=""/>
              <p:cNvSpPr/>
              <p:nvPr/>
            </p:nvSpPr>
            <p:spPr>
              <a:xfrm>
                <a:off x="1523880" y="109440"/>
                <a:ext cx="28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dentifying Parallel Li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Find the slope of each line. Which lines are parall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4600" y="1598760"/>
            <a:ext cx="1473120" cy="49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2760" y="1625760"/>
            <a:ext cx="1536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2289240"/>
            <a:ext cx="291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slope of </a:t>
            </a:r>
            <a:r>
              <a:rPr b="1" i="1" lang="en-US" sz="1800" spc="-1" strike="noStrike">
                <a:solidFill>
                  <a:srgbClr val="00a283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00a283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a283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8480" y="2619360"/>
            <a:ext cx="451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1" i="1" lang="en-US" sz="1800" spc="-1" strike="noStrike">
                <a:solidFill>
                  <a:srgbClr val="00a283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00a283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a283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754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</a:t>
            </a:r>
            <a:r>
              <a:rPr b="0" lang="en-US" sz="1800" spc="-1" strike="noStrike">
                <a:solidFill>
                  <a:srgbClr val="00a283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a283"/>
                </a:solidFill>
                <a:latin typeface="Times New Roman"/>
                <a:ea typeface="Arial"/>
              </a:rPr>
              <a:t>–6</a:t>
            </a:r>
            <a:r>
              <a:rPr b="0" lang="en-US" sz="1800" spc="-1" strike="noStrike">
                <a:solidFill>
                  <a:srgbClr val="00a283"/>
                </a:solidFill>
                <a:latin typeface="Times New Roman"/>
              </a:rPr>
              <a:t>,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a283"/>
                </a:solidFill>
                <a:latin typeface="Times New Roman"/>
              </a:rPr>
              <a:t>(–</a:t>
            </a:r>
            <a:r>
              <a:rPr b="0" lang="en-US" sz="900" spc="-1" strike="noStrike">
                <a:solidFill>
                  <a:srgbClr val="00a28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a283"/>
                </a:solidFill>
                <a:latin typeface="Times New Roman"/>
              </a:rPr>
              <a:t>4,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573280" y="3238560"/>
            <a:ext cx="1106280" cy="667800"/>
            <a:chOff x="2573280" y="3238560"/>
            <a:chExt cx="1106280" cy="667800"/>
          </a:xfrm>
        </p:grpSpPr>
        <p:sp>
          <p:nvSpPr>
            <p:cNvPr id="289" name=""/>
            <p:cNvSpPr/>
            <p:nvPr/>
          </p:nvSpPr>
          <p:spPr>
            <a:xfrm>
              <a:off x="2573280" y="3379680"/>
              <a:ext cx="4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2817720" y="3238560"/>
              <a:ext cx="861840" cy="667800"/>
              <a:chOff x="2817720" y="3238560"/>
              <a:chExt cx="861840" cy="667800"/>
            </a:xfrm>
          </p:grpSpPr>
          <p:sp>
            <p:nvSpPr>
              <p:cNvPr id="291" name=""/>
              <p:cNvSpPr/>
              <p:nvPr/>
            </p:nvSpPr>
            <p:spPr>
              <a:xfrm>
                <a:off x="2817720" y="3263760"/>
                <a:ext cx="861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 + 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96920" y="3581280"/>
                <a:ext cx="66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1440" y="3238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1015920" y="3263760"/>
            <a:ext cx="1866960" cy="641520"/>
            <a:chOff x="1015920" y="3263760"/>
            <a:chExt cx="1866960" cy="641520"/>
          </a:xfrm>
        </p:grpSpPr>
        <p:sp>
          <p:nvSpPr>
            <p:cNvPr id="295" name=""/>
            <p:cNvSpPr/>
            <p:nvPr/>
          </p:nvSpPr>
          <p:spPr>
            <a:xfrm>
              <a:off x="1751040" y="326376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52680" y="353700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 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16040" y="358128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15920" y="3373200"/>
              <a:ext cx="808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a283"/>
                  </a:solidFill>
                  <a:latin typeface="Times New Roman"/>
                </a:rPr>
                <a:t>m</a:t>
              </a:r>
              <a:r>
                <a:rPr b="1" i="1" lang="en-US" sz="900" spc="-1" strike="noStrike">
                  <a:solidFill>
                    <a:srgbClr val="00a283"/>
                  </a:solidFill>
                  <a:latin typeface="Times New Roman"/>
                </a:rPr>
                <a:t> </a:t>
              </a:r>
              <a:r>
                <a:rPr b="1" lang="en-US" sz="1800" spc="-1" strike="noStrike" baseline="-25000">
                  <a:solidFill>
                    <a:srgbClr val="00a283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71920" y="3270240"/>
            <a:ext cx="782280" cy="642600"/>
            <a:chOff x="3571920" y="3270240"/>
            <a:chExt cx="782280" cy="642600"/>
          </a:xfrm>
        </p:grpSpPr>
        <p:grpSp>
          <p:nvGrpSpPr>
            <p:cNvPr id="300" name=""/>
            <p:cNvGrpSpPr/>
            <p:nvPr/>
          </p:nvGrpSpPr>
          <p:grpSpPr>
            <a:xfrm>
              <a:off x="3828600" y="3270240"/>
              <a:ext cx="525600" cy="642600"/>
              <a:chOff x="3828600" y="3270240"/>
              <a:chExt cx="525600" cy="6426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4087800" y="3270240"/>
                <a:ext cx="266400" cy="642600"/>
                <a:chOff x="4087800" y="3270240"/>
                <a:chExt cx="266400" cy="6426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087800" y="3270240"/>
                  <a:ext cx="26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a283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a283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113000" y="3591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a2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3828600" y="337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a283"/>
                    </a:solidFill>
                    <a:latin typeface="Times New Roman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3571920" y="3381480"/>
              <a:ext cx="54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98160" y="4611600"/>
            <a:ext cx="2424240" cy="368280"/>
            <a:chOff x="398160" y="4611600"/>
            <a:chExt cx="2424240" cy="368280"/>
          </a:xfrm>
        </p:grpSpPr>
        <p:sp>
          <p:nvSpPr>
            <p:cNvPr id="307" name=""/>
            <p:cNvSpPr/>
            <p:nvPr/>
          </p:nvSpPr>
          <p:spPr>
            <a:xfrm rot="5400000">
              <a:off x="404640" y="4692600"/>
              <a:ext cx="145800" cy="158760"/>
            </a:xfrm>
            <a:prstGeom prst="triangle">
              <a:avLst>
                <a:gd name="adj" fmla="val 50000"/>
              </a:avLst>
            </a:prstGeom>
            <a:solidFill>
              <a:srgbClr val="285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2360" y="4611600"/>
              <a:ext cx="23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are the slop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22360" y="4959360"/>
            <a:ext cx="650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i="1" lang="en-US" sz="1800" spc="-1" strike="noStrike">
                <a:solidFill>
                  <a:srgbClr val="df0032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df0032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df0032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1800" spc="-1" strike="noStrike">
                <a:solidFill>
                  <a:srgbClr val="00754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a283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00a283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a283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same slope, they are parall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6480" y="5322960"/>
            <a:ext cx="766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1" i="1" lang="en-US" sz="1800" spc="-1" strike="noStrike">
                <a:solidFill>
                  <a:srgbClr val="1da3da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1da3da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different slope, so it is not parallel to either of the other l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ether AC is perpendicular to B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(1, -4)  C(4, 2)                  B(-1, 2)  D(5, 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9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374920" y="2573280"/>
            <a:ext cx="4343400" cy="4284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47840" y="1285920"/>
            <a:ext cx="78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(1, -4)  C(4, 2)                  B(-1, 2)  D(5, 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 whether the lines are perpendi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-3, 3)   Q(5, 2)                    R(-1, -4)  S(0,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slope of each line named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 (4, 3)  (0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 Any line perpendicular to s.   S(4, 3)  (-1,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  Any line parallel to r.  R(4, 3)  (-2,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line that satisfies each de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  Slope = -4, passes through p(-2,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770280" y="2143080"/>
            <a:ext cx="45244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line that satisfies each de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 Passes through p(-2, 1), perpendicular to CD with     C(0, 3) and D(-3,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322360" y="2463840"/>
            <a:ext cx="64929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ork and homework on page 1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12-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2400" y="100080"/>
            <a:ext cx="1096920" cy="4334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219320" y="108000"/>
            <a:ext cx="7543800" cy="368280"/>
            <a:chOff x="1219320" y="108000"/>
            <a:chExt cx="7543800" cy="368280"/>
          </a:xfrm>
        </p:grpSpPr>
        <p:sp>
          <p:nvSpPr>
            <p:cNvPr id="44" name=""/>
            <p:cNvSpPr/>
            <p:nvPr/>
          </p:nvSpPr>
          <p:spPr>
            <a:xfrm>
              <a:off x="1219320" y="108000"/>
              <a:ext cx="26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lope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470160"/>
              <a:ext cx="7467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419040" y="738360"/>
            <a:ext cx="8382240" cy="84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680" y="824040"/>
            <a:ext cx="799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The slope of a nonvertical line is the ratio of the vertical change (the rise) to the horizontal change (the ru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7280" y="1785960"/>
            <a:ext cx="594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ine passes through the points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04840" y="2841480"/>
            <a:ext cx="1541160" cy="666720"/>
            <a:chOff x="2004840" y="2841480"/>
            <a:chExt cx="1541160" cy="666720"/>
          </a:xfrm>
        </p:grpSpPr>
        <p:sp>
          <p:nvSpPr>
            <p:cNvPr id="50" name=""/>
            <p:cNvSpPr/>
            <p:nvPr/>
          </p:nvSpPr>
          <p:spPr>
            <a:xfrm>
              <a:off x="2004840" y="297648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op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927520" y="2841480"/>
              <a:ext cx="618480" cy="666720"/>
              <a:chOff x="2927520" y="2841480"/>
              <a:chExt cx="618480" cy="66672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927520" y="2841480"/>
                <a:ext cx="618480" cy="666720"/>
                <a:chOff x="2927520" y="2841480"/>
                <a:chExt cx="618480" cy="666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927520" y="2841480"/>
                  <a:ext cx="60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df0032"/>
                      </a:solidFill>
                      <a:latin typeface="Arial"/>
                    </a:rPr>
                    <a:t>ri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936520" y="3139920"/>
                  <a:ext cx="609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a3da"/>
                      </a:solidFill>
                      <a:latin typeface="Arial"/>
                    </a:rPr>
                    <a:t>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976480" y="3178080"/>
                <a:ext cx="45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2429640" y="4340160"/>
            <a:ext cx="2374920" cy="789840"/>
            <a:chOff x="2429640" y="4340160"/>
            <a:chExt cx="2374920" cy="789840"/>
          </a:xfrm>
        </p:grpSpPr>
        <p:grpSp>
          <p:nvGrpSpPr>
            <p:cNvPr id="57" name=""/>
            <p:cNvGrpSpPr/>
            <p:nvPr/>
          </p:nvGrpSpPr>
          <p:grpSpPr>
            <a:xfrm>
              <a:off x="2960640" y="4340160"/>
              <a:ext cx="1843920" cy="789840"/>
              <a:chOff x="2960640" y="4340160"/>
              <a:chExt cx="1843920" cy="789840"/>
            </a:xfrm>
          </p:grpSpPr>
          <p:sp>
            <p:nvSpPr>
              <p:cNvPr id="58" name=""/>
              <p:cNvSpPr/>
              <p:nvPr/>
            </p:nvSpPr>
            <p:spPr>
              <a:xfrm>
                <a:off x="2960640" y="4340160"/>
                <a:ext cx="1820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df0032"/>
                    </a:solidFill>
                    <a:latin typeface="Times New Roman"/>
                  </a:rPr>
                  <a:t>y</a:t>
                </a:r>
                <a:r>
                  <a:rPr b="1" i="1" lang="en-US" sz="900" spc="-1" strike="noStrike">
                    <a:solidFill>
                      <a:srgbClr val="df0032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 baseline="-25000">
                    <a:solidFill>
                      <a:srgbClr val="df0032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df0032"/>
                    </a:solidFill>
                    <a:latin typeface="Times New Roman"/>
                  </a:rPr>
                  <a:t> – </a:t>
                </a:r>
                <a:r>
                  <a:rPr b="1" i="1" lang="en-US" sz="1800" spc="-1" strike="noStrike">
                    <a:solidFill>
                      <a:srgbClr val="df0032"/>
                    </a:solidFill>
                    <a:latin typeface="Times New Roman"/>
                  </a:rPr>
                  <a:t>y</a:t>
                </a:r>
                <a:r>
                  <a:rPr b="1" i="1" lang="en-US" sz="900" spc="-1" strike="noStrike">
                    <a:solidFill>
                      <a:srgbClr val="df0032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 baseline="-25000">
                    <a:solidFill>
                      <a:srgbClr val="df0032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980800" y="4762440"/>
                <a:ext cx="72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84040" y="4724280"/>
                <a:ext cx="1820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da3da"/>
                    </a:solidFill>
                    <a:latin typeface="Times New Roman"/>
                  </a:rPr>
                  <a:t>x</a:t>
                </a:r>
                <a:r>
                  <a:rPr b="1" i="1" lang="en-US" sz="900" spc="-1" strike="noStrike">
                    <a:solidFill>
                      <a:srgbClr val="1da3da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 baseline="-25000">
                    <a:solidFill>
                      <a:srgbClr val="1da3da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1da3da"/>
                    </a:solidFill>
                    <a:latin typeface="Times New Roman"/>
                  </a:rPr>
                  <a:t> – </a:t>
                </a:r>
                <a:r>
                  <a:rPr b="1" i="1" lang="en-US" sz="1800" spc="-1" strike="noStrike">
                    <a:solidFill>
                      <a:srgbClr val="1da3da"/>
                    </a:solidFill>
                    <a:latin typeface="Times New Roman"/>
                  </a:rPr>
                  <a:t>x</a:t>
                </a:r>
                <a:r>
                  <a:rPr b="1" i="1" lang="en-US" sz="900" spc="-1" strike="noStrike">
                    <a:solidFill>
                      <a:srgbClr val="1da3da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 baseline="-25000">
                    <a:solidFill>
                      <a:srgbClr val="1da3da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429640" y="455112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            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6640" y="3738600"/>
            <a:ext cx="50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pe is usually represented by the variabl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13440" y="2716200"/>
            <a:ext cx="1616040" cy="1092240"/>
          </a:xfrm>
          <a:prstGeom prst="line">
            <a:avLst/>
          </a:prstGeom>
          <a:ln w="9360">
            <a:solidFill>
              <a:srgbClr val="0069b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294680" y="2955960"/>
            <a:ext cx="0" cy="487440"/>
          </a:xfrm>
          <a:prstGeom prst="line">
            <a:avLst/>
          </a:prstGeom>
          <a:ln w="9360">
            <a:solidFill>
              <a:srgbClr val="df00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76840" y="3468600"/>
            <a:ext cx="81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a3da"/>
                </a:solidFill>
                <a:latin typeface="Times New Roman"/>
              </a:rPr>
              <a:t>x</a:t>
            </a:r>
            <a:r>
              <a:rPr b="1" i="1" lang="en-US" sz="7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1da3da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1da3da"/>
                </a:solidFill>
                <a:latin typeface="Times New Roman"/>
              </a:rPr>
              <a:t> – </a:t>
            </a:r>
            <a:r>
              <a:rPr b="1" i="1" lang="en-US" sz="1600" spc="-1" strike="noStrike">
                <a:solidFill>
                  <a:srgbClr val="1da3da"/>
                </a:solidFill>
                <a:latin typeface="Times New Roman"/>
              </a:rPr>
              <a:t>x</a:t>
            </a:r>
            <a:r>
              <a:rPr b="1" i="1" lang="en-US" sz="7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1da3d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4480" y="3067200"/>
            <a:ext cx="72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0032"/>
                </a:solidFill>
                <a:latin typeface="Times New Roman"/>
              </a:rPr>
              <a:t>y</a:t>
            </a:r>
            <a:r>
              <a:rPr b="1" i="1" lang="en-US" sz="700" spc="-1" strike="noStrike">
                <a:solidFill>
                  <a:srgbClr val="df0032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df0032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df0032"/>
                </a:solidFill>
                <a:latin typeface="Times New Roman"/>
              </a:rPr>
              <a:t> – </a:t>
            </a:r>
            <a:r>
              <a:rPr b="1" i="1" lang="en-US" sz="1600" spc="-1" strike="noStrike">
                <a:solidFill>
                  <a:srgbClr val="df0032"/>
                </a:solidFill>
                <a:latin typeface="Times New Roman"/>
              </a:rPr>
              <a:t>y</a:t>
            </a:r>
            <a:r>
              <a:rPr b="1" i="1" lang="en-US" sz="700" spc="-1" strike="noStrike">
                <a:solidFill>
                  <a:srgbClr val="df0032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df0032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058080" y="2433600"/>
            <a:ext cx="2283840" cy="2100240"/>
            <a:chOff x="6058080" y="2433600"/>
            <a:chExt cx="2283840" cy="2100240"/>
          </a:xfrm>
        </p:grpSpPr>
        <p:sp>
          <p:nvSpPr>
            <p:cNvPr id="68" name=""/>
            <p:cNvSpPr/>
            <p:nvPr/>
          </p:nvSpPr>
          <p:spPr>
            <a:xfrm>
              <a:off x="6404040" y="2433600"/>
              <a:ext cx="0" cy="21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58080" y="4135320"/>
              <a:ext cx="218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48440" y="4049640"/>
              <a:ext cx="39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62480" y="2446200"/>
              <a:ext cx="39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320160" y="2946240"/>
            <a:ext cx="70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1da3da"/>
                </a:solidFill>
                <a:latin typeface="Times New Roman"/>
              </a:rPr>
              <a:t>x</a:t>
            </a:r>
            <a:r>
              <a:rPr b="1" i="1" lang="en-US" sz="7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400" spc="-1" strike="noStrike" baseline="-25000">
                <a:solidFill>
                  <a:srgbClr val="1da3d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400" spc="-1" strike="noStrike">
                <a:solidFill>
                  <a:srgbClr val="df0032"/>
                </a:solidFill>
                <a:latin typeface="Times New Roman"/>
              </a:rPr>
              <a:t>y</a:t>
            </a:r>
            <a:r>
              <a:rPr b="1" i="1" lang="en-US" sz="700" spc="-1" strike="noStrike">
                <a:solidFill>
                  <a:srgbClr val="df0032"/>
                </a:solidFill>
                <a:latin typeface="Times New Roman"/>
              </a:rPr>
              <a:t> </a:t>
            </a:r>
            <a:r>
              <a:rPr b="1" lang="en-US" sz="1400" spc="-1" strike="noStrike" baseline="-25000">
                <a:solidFill>
                  <a:srgbClr val="df0032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53760" y="2503440"/>
            <a:ext cx="70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1da3da"/>
                </a:solidFill>
                <a:latin typeface="Times New Roman"/>
              </a:rPr>
              <a:t>x</a:t>
            </a:r>
            <a:r>
              <a:rPr b="1" i="1" lang="en-US" sz="7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400" spc="-1" strike="noStrike" baseline="-25000">
                <a:solidFill>
                  <a:srgbClr val="1da3d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400" spc="-1" strike="noStrike">
                <a:solidFill>
                  <a:srgbClr val="df0032"/>
                </a:solidFill>
                <a:latin typeface="Times New Roman"/>
              </a:rPr>
              <a:t>y</a:t>
            </a:r>
            <a:r>
              <a:rPr b="1" i="1" lang="en-US" sz="700" spc="-1" strike="noStrike">
                <a:solidFill>
                  <a:srgbClr val="df0032"/>
                </a:solidFill>
                <a:latin typeface="Times New Roman"/>
              </a:rPr>
              <a:t> </a:t>
            </a:r>
            <a:r>
              <a:rPr b="1" lang="en-US" sz="1400" spc="-1" strike="noStrike" baseline="-25000">
                <a:solidFill>
                  <a:srgbClr val="df0032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18240" y="3432240"/>
            <a:ext cx="681120" cy="0"/>
          </a:xfrm>
          <a:prstGeom prst="line">
            <a:avLst/>
          </a:prstGeom>
          <a:ln w="9360">
            <a:solidFill>
              <a:srgbClr val="1da3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00" y="2211480"/>
            <a:ext cx="275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slope is given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540480" y="3390840"/>
            <a:ext cx="76320" cy="76320"/>
          </a:xfrm>
          <a:prstGeom prst="ellipse">
            <a:avLst/>
          </a:prstGeom>
          <a:solidFill>
            <a:srgbClr val="006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51840" y="2895480"/>
            <a:ext cx="75960" cy="76320"/>
          </a:xfrm>
          <a:prstGeom prst="ellipse">
            <a:avLst/>
          </a:prstGeom>
          <a:solidFill>
            <a:srgbClr val="006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969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319560" y="3225960"/>
            <a:ext cx="571320" cy="4316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eef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1522800" y="109440"/>
            <a:ext cx="7240320" cy="368280"/>
            <a:chOff x="1522800" y="109440"/>
            <a:chExt cx="7240320" cy="368280"/>
          </a:xfrm>
        </p:grpSpPr>
        <p:grpSp>
          <p:nvGrpSpPr>
            <p:cNvPr id="83" name=""/>
            <p:cNvGrpSpPr/>
            <p:nvPr/>
          </p:nvGrpSpPr>
          <p:grpSpPr>
            <a:xfrm>
              <a:off x="1522800" y="109440"/>
              <a:ext cx="7240320" cy="368280"/>
              <a:chOff x="1522800" y="109440"/>
              <a:chExt cx="7240320" cy="368280"/>
            </a:xfrm>
          </p:grpSpPr>
          <p:sp>
            <p:nvSpPr>
              <p:cNvPr id="84" name=""/>
              <p:cNvSpPr/>
              <p:nvPr/>
            </p:nvSpPr>
            <p:spPr>
              <a:xfrm>
                <a:off x="1522800" y="109440"/>
                <a:ext cx="380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the Slope of Train Track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19040" y="738360"/>
            <a:ext cx="8382240" cy="147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824040"/>
            <a:ext cx="7997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455"/>
                </a:solidFill>
                <a:latin typeface="Arial"/>
              </a:rPr>
              <a:t>COG RAILWAY 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A cog railway goes up the side of Mount Washington, the tallest mountain in New England. At the steepest section, the train goes up about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feet for each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feet it goes forward. What is the slope of this se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1640" y="2448000"/>
            <a:ext cx="147348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475000"/>
            <a:ext cx="153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1560" y="3133800"/>
            <a:ext cx="1541160" cy="666360"/>
            <a:chOff x="601560" y="3133800"/>
            <a:chExt cx="1541160" cy="666360"/>
          </a:xfrm>
        </p:grpSpPr>
        <p:sp>
          <p:nvSpPr>
            <p:cNvPr id="92" name=""/>
            <p:cNvSpPr/>
            <p:nvPr/>
          </p:nvSpPr>
          <p:spPr>
            <a:xfrm>
              <a:off x="601560" y="326844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op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524240" y="3133800"/>
              <a:ext cx="618480" cy="666360"/>
              <a:chOff x="1524240" y="3133800"/>
              <a:chExt cx="618480" cy="6663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524240" y="3133800"/>
                <a:ext cx="618480" cy="666360"/>
                <a:chOff x="1524240" y="3133800"/>
                <a:chExt cx="618480" cy="6663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524240" y="3133800"/>
                  <a:ext cx="60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df0032"/>
                      </a:solidFill>
                      <a:latin typeface="Arial"/>
                    </a:rPr>
                    <a:t>ri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533240" y="3431880"/>
                  <a:ext cx="609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a3da"/>
                      </a:solidFill>
                      <a:latin typeface="Arial"/>
                    </a:rPr>
                    <a:t>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1573200" y="3470040"/>
                <a:ext cx="45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3105000" y="3267000"/>
            <a:ext cx="8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025720" y="3117960"/>
            <a:ext cx="2115720" cy="718920"/>
            <a:chOff x="2025720" y="3117960"/>
            <a:chExt cx="2115720" cy="718920"/>
          </a:xfrm>
        </p:grpSpPr>
        <p:sp>
          <p:nvSpPr>
            <p:cNvPr id="100" name=""/>
            <p:cNvSpPr/>
            <p:nvPr/>
          </p:nvSpPr>
          <p:spPr>
            <a:xfrm>
              <a:off x="2342880" y="3117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0032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df0032"/>
                  </a:solidFill>
                  <a:latin typeface="Arial"/>
                </a:rPr>
                <a:t> f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7440" y="346860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a3da"/>
                  </a:solidFill>
                  <a:latin typeface="Times New Roman"/>
                </a:rPr>
                <a:t>10</a:t>
              </a:r>
              <a:r>
                <a:rPr b="0" lang="en-US" sz="1800" spc="-1" strike="noStrike">
                  <a:solidFill>
                    <a:srgbClr val="1da3da"/>
                  </a:solidFill>
                  <a:latin typeface="Arial"/>
                </a:rPr>
                <a:t> f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25720" y="326556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84280" y="3465360"/>
              <a:ext cx="73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89600" y="2516040"/>
            <a:ext cx="2514600" cy="241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480"/>
            <a:ext cx="82296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that have a positive slope, rises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that have a negative slope, falls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48440" y="985680"/>
            <a:ext cx="3136680" cy="1781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57800" y="4194000"/>
            <a:ext cx="2692440" cy="2152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68480" y="4433760"/>
            <a:ext cx="1660320" cy="1381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34960" y="1817640"/>
            <a:ext cx="10670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0332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that are horizontal have a slope of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that are vertical have undefined sl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684600" y="1569960"/>
            <a:ext cx="2486160" cy="1596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19640" y="4478400"/>
            <a:ext cx="263520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60320" y="2063880"/>
            <a:ext cx="1704960" cy="1625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Smono1.gif"/>
          <p:cNvPicPr/>
          <p:nvPr/>
        </p:nvPicPr>
        <p:blipFill>
          <a:blip r:embed="rId4"/>
          <a:stretch/>
        </p:blipFill>
        <p:spPr>
          <a:xfrm>
            <a:off x="1781280" y="5583240"/>
            <a:ext cx="7426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 y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slope of the line passing through the given points, Then describe each line as you move from left to right as rising, falling, horizontal, or vert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2), (7,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-1, 6), (4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-2, 3), (8,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, 2), (3, 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381560" y="825120"/>
            <a:ext cx="133344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68960" y="8128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825480"/>
            <a:ext cx="1307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94160" y="838080"/>
            <a:ext cx="13334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that are parallel have equal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that are perpendicular have negative reciprocal slopes. Two nonvertical lines are perpendicular if and only if the product of their slopes is -1.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70040" y="1598760"/>
            <a:ext cx="3178440" cy="1285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84640" y="4338720"/>
            <a:ext cx="2327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54520" y="2503440"/>
            <a:ext cx="3436920" cy="2863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22400" y="4025880"/>
            <a:ext cx="571680" cy="68580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eef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521720" y="109440"/>
            <a:ext cx="7241400" cy="368280"/>
            <a:chOff x="1521720" y="109440"/>
            <a:chExt cx="7241400" cy="368280"/>
          </a:xfrm>
        </p:grpSpPr>
        <p:grpSp>
          <p:nvGrpSpPr>
            <p:cNvPr id="132" name=""/>
            <p:cNvGrpSpPr/>
            <p:nvPr/>
          </p:nvGrpSpPr>
          <p:grpSpPr>
            <a:xfrm>
              <a:off x="1521720" y="109440"/>
              <a:ext cx="7241400" cy="368280"/>
              <a:chOff x="1521720" y="109440"/>
              <a:chExt cx="72414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1521720" y="109440"/>
                <a:ext cx="31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the Slope of a 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Find the slope of the line that passes through the points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(0, 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(5,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7360" y="40924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1da3da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df0032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03960" y="33321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0032"/>
                </a:solidFill>
                <a:latin typeface="Times New Roman"/>
                <a:ea typeface="Arial"/>
              </a:rPr>
              <a:t>–</a:t>
            </a:r>
            <a:r>
              <a:rPr b="0" lang="en-US" sz="900" spc="-1" strike="noStrike">
                <a:solidFill>
                  <a:srgbClr val="df0032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df0032"/>
                </a:solidFill>
                <a:latin typeface="Times New Roman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81448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a3da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200" y="1474920"/>
            <a:ext cx="1473120" cy="49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1501920"/>
            <a:ext cx="153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360" y="212400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lang="en-US" sz="1800" spc="-1" strike="noStrike">
                <a:solidFill>
                  <a:srgbClr val="1da3da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df0032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lang="en-US" sz="1800" spc="-1" strike="noStrike">
                <a:solidFill>
                  <a:srgbClr val="1da3da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df0032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80960" y="2654280"/>
            <a:ext cx="2370240" cy="789840"/>
            <a:chOff x="1380960" y="2654280"/>
            <a:chExt cx="2370240" cy="789840"/>
          </a:xfrm>
        </p:grpSpPr>
        <p:grpSp>
          <p:nvGrpSpPr>
            <p:cNvPr id="145" name=""/>
            <p:cNvGrpSpPr/>
            <p:nvPr/>
          </p:nvGrpSpPr>
          <p:grpSpPr>
            <a:xfrm>
              <a:off x="1906560" y="2654280"/>
              <a:ext cx="1844640" cy="789840"/>
              <a:chOff x="1906560" y="2654280"/>
              <a:chExt cx="1844640" cy="789840"/>
            </a:xfrm>
          </p:grpSpPr>
          <p:sp>
            <p:nvSpPr>
              <p:cNvPr id="146" name=""/>
              <p:cNvSpPr/>
              <p:nvPr/>
            </p:nvSpPr>
            <p:spPr>
              <a:xfrm>
                <a:off x="1906560" y="2654280"/>
                <a:ext cx="182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df0032"/>
                    </a:solidFill>
                    <a:latin typeface="Times New Roman"/>
                  </a:rPr>
                  <a:t>y</a:t>
                </a:r>
                <a:r>
                  <a:rPr b="1" i="1" lang="en-US" sz="900" spc="-1" strike="noStrike">
                    <a:solidFill>
                      <a:srgbClr val="df0032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 baseline="-25000">
                    <a:solidFill>
                      <a:srgbClr val="df0032"/>
                    </a:solidFill>
                    <a:latin typeface="Times New Roman"/>
                  </a:rPr>
                  <a:t>2</a:t>
                </a:r>
                <a:r>
                  <a:rPr b="1" lang="en-US" sz="1800" spc="-1" strike="noStrike">
                    <a:solidFill>
                      <a:srgbClr val="df0032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df0032"/>
                    </a:solidFill>
                    <a:latin typeface="Times New Roman"/>
                  </a:rPr>
                  <a:t>–</a:t>
                </a:r>
                <a:r>
                  <a:rPr b="1" lang="en-US" sz="1800" spc="-1" strike="noStrike">
                    <a:solidFill>
                      <a:srgbClr val="df0032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df0032"/>
                    </a:solidFill>
                    <a:latin typeface="Times New Roman"/>
                  </a:rPr>
                  <a:t>y</a:t>
                </a:r>
                <a:r>
                  <a:rPr b="1" i="1" lang="en-US" sz="900" spc="-1" strike="noStrike">
                    <a:solidFill>
                      <a:srgbClr val="df0032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 baseline="-25000">
                    <a:solidFill>
                      <a:srgbClr val="df0032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27080" y="3076560"/>
                <a:ext cx="72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30320" y="3038400"/>
                <a:ext cx="182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da3da"/>
                    </a:solidFill>
                    <a:latin typeface="Times New Roman"/>
                  </a:rPr>
                  <a:t>x</a:t>
                </a:r>
                <a:r>
                  <a:rPr b="1" i="1" lang="en-US" sz="900" spc="-1" strike="noStrike">
                    <a:solidFill>
                      <a:srgbClr val="1da3da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 baseline="-25000">
                    <a:solidFill>
                      <a:srgbClr val="1da3da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1da3da"/>
                    </a:solidFill>
                    <a:latin typeface="Times New Roman"/>
                  </a:rPr>
                  <a:t> – </a:t>
                </a:r>
                <a:r>
                  <a:rPr b="1" i="1" lang="en-US" sz="1800" spc="-1" strike="noStrike">
                    <a:solidFill>
                      <a:srgbClr val="1da3da"/>
                    </a:solidFill>
                    <a:latin typeface="Times New Roman"/>
                  </a:rPr>
                  <a:t>x</a:t>
                </a:r>
                <a:r>
                  <a:rPr b="1" i="1" lang="en-US" sz="900" spc="-1" strike="noStrike">
                    <a:solidFill>
                      <a:srgbClr val="1da3da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 baseline="-25000">
                    <a:solidFill>
                      <a:srgbClr val="1da3da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80960" y="2865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370160" y="3392640"/>
            <a:ext cx="2393280" cy="695160"/>
            <a:chOff x="1370160" y="3392640"/>
            <a:chExt cx="2393280" cy="695160"/>
          </a:xfrm>
        </p:grpSpPr>
        <p:sp>
          <p:nvSpPr>
            <p:cNvPr id="151" name=""/>
            <p:cNvSpPr/>
            <p:nvPr/>
          </p:nvSpPr>
          <p:spPr>
            <a:xfrm>
              <a:off x="1942920" y="339264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0032"/>
                  </a:solidFill>
                  <a:latin typeface="Times New Roman"/>
                </a:rPr>
                <a:t>2 –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15920" y="3757680"/>
              <a:ext cx="72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19160" y="3719520"/>
              <a:ext cx="182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a3da"/>
                  </a:solidFill>
                  <a:latin typeface="Times New Roman"/>
                </a:rPr>
                <a:t>5 –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0160" y="354672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614600" y="4014720"/>
            <a:ext cx="725400" cy="642600"/>
            <a:chOff x="1614600" y="4014720"/>
            <a:chExt cx="725400" cy="642600"/>
          </a:xfrm>
        </p:grpSpPr>
        <p:grpSp>
          <p:nvGrpSpPr>
            <p:cNvPr id="156" name=""/>
            <p:cNvGrpSpPr/>
            <p:nvPr/>
          </p:nvGrpSpPr>
          <p:grpSpPr>
            <a:xfrm>
              <a:off x="2073240" y="4014720"/>
              <a:ext cx="266760" cy="642600"/>
              <a:chOff x="2073240" y="4014720"/>
              <a:chExt cx="266760" cy="642600"/>
            </a:xfrm>
          </p:grpSpPr>
          <p:sp>
            <p:nvSpPr>
              <p:cNvPr id="157" name=""/>
              <p:cNvSpPr/>
              <p:nvPr/>
            </p:nvSpPr>
            <p:spPr>
              <a:xfrm>
                <a:off x="2073240" y="4014720"/>
                <a:ext cx="2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86200" y="433224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614600" y="41428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1360" y="4732200"/>
            <a:ext cx="3373560" cy="642600"/>
            <a:chOff x="441360" y="4732200"/>
            <a:chExt cx="3373560" cy="642600"/>
          </a:xfrm>
        </p:grpSpPr>
        <p:sp>
          <p:nvSpPr>
            <p:cNvPr id="161" name=""/>
            <p:cNvSpPr/>
            <p:nvPr/>
          </p:nvSpPr>
          <p:spPr>
            <a:xfrm rot="5400000">
              <a:off x="430920" y="4986720"/>
              <a:ext cx="158760" cy="138240"/>
            </a:xfrm>
            <a:prstGeom prst="triangle">
              <a:avLst>
                <a:gd name="adj" fmla="val 50000"/>
              </a:avLst>
            </a:prstGeom>
            <a:solidFill>
              <a:srgbClr val="285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75040" y="4732200"/>
              <a:ext cx="609480" cy="642600"/>
              <a:chOff x="2975040" y="4732200"/>
              <a:chExt cx="609480" cy="6426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227400" y="4732200"/>
                <a:ext cx="266760" cy="642600"/>
                <a:chOff x="3227400" y="4732200"/>
                <a:chExt cx="266760" cy="6426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227400" y="4732200"/>
                  <a:ext cx="266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40360" y="504972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975040" y="48481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44680" y="4870080"/>
              <a:ext cx="32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lope of the line i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962760" y="3157560"/>
            <a:ext cx="0" cy="1127160"/>
          </a:xfrm>
          <a:prstGeom prst="line">
            <a:avLst/>
          </a:prstGeom>
          <a:ln w="19080">
            <a:solidFill>
              <a:srgbClr val="df00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5120" y="2871720"/>
            <a:ext cx="2801880" cy="2243160"/>
          </a:xfrm>
          <a:prstGeom prst="line">
            <a:avLst/>
          </a:prstGeom>
          <a:ln w="19080">
            <a:solidFill>
              <a:srgbClr val="0069b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91080" y="3137040"/>
            <a:ext cx="1452600" cy="1440"/>
          </a:xfrm>
          <a:prstGeom prst="line">
            <a:avLst/>
          </a:prstGeom>
          <a:ln w="19080">
            <a:solidFill>
              <a:srgbClr val="1da3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35280" y="28144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1da3da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df0032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35640" y="3086280"/>
            <a:ext cx="76320" cy="75960"/>
          </a:xfrm>
          <a:prstGeom prst="ellipse">
            <a:avLst/>
          </a:prstGeom>
          <a:solidFill>
            <a:srgbClr val="006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1360" y="4280040"/>
            <a:ext cx="76320" cy="75960"/>
          </a:xfrm>
          <a:prstGeom prst="ellipse">
            <a:avLst/>
          </a:prstGeom>
          <a:solidFill>
            <a:srgbClr val="006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431640" y="1549440"/>
            <a:ext cx="8356680" cy="3746520"/>
            <a:chOff x="431640" y="1549440"/>
            <a:chExt cx="8356680" cy="3746520"/>
          </a:xfrm>
        </p:grpSpPr>
        <p:sp>
          <p:nvSpPr>
            <p:cNvPr id="176" name=""/>
            <p:cNvSpPr/>
            <p:nvPr/>
          </p:nvSpPr>
          <p:spPr>
            <a:xfrm>
              <a:off x="431640" y="1549440"/>
              <a:ext cx="8356680" cy="37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1640" y="1549440"/>
              <a:ext cx="8356680" cy="480960"/>
            </a:xfrm>
            <a:prstGeom prst="rect">
              <a:avLst/>
            </a:prstGeom>
            <a:solidFill>
              <a:srgbClr val="0075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The slopes of two lines can be used to tell whether the lines are parall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560" y="1633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8600" y="2295360"/>
            <a:ext cx="43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lat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54e"/>
                </a:solidFill>
                <a:latin typeface="Arial"/>
              </a:rPr>
              <a:t>Slopes of Parallel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440" y="2727360"/>
            <a:ext cx="37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coordinate plane, two nonvertical lines are parallel if and only if they have the same slope. Any two vertical lines are parall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4603680"/>
            <a:ext cx="423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</a:t>
            </a:r>
            <a:r>
              <a:rPr b="1" i="1" lang="en-US" sz="1800" spc="-1" strike="noStrike">
                <a:solidFill>
                  <a:srgbClr val="1da3da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1da3da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1da3da"/>
                </a:solidFill>
                <a:latin typeface="Times New Roman"/>
              </a:rPr>
              <a:t>k</a:t>
            </a:r>
            <a:r>
              <a:rPr b="1" i="1" lang="en-US" sz="900" spc="-1" strike="noStrike">
                <a:solidFill>
                  <a:srgbClr val="1da3da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1da3da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same sl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37080" y="2795760"/>
            <a:ext cx="4122720" cy="169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2400" y="100080"/>
            <a:ext cx="1096920" cy="4334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219320" y="108000"/>
            <a:ext cx="7543800" cy="368280"/>
            <a:chOff x="1219320" y="108000"/>
            <a:chExt cx="7543800" cy="368280"/>
          </a:xfrm>
        </p:grpSpPr>
        <p:sp>
          <p:nvSpPr>
            <p:cNvPr id="187" name=""/>
            <p:cNvSpPr/>
            <p:nvPr/>
          </p:nvSpPr>
          <p:spPr>
            <a:xfrm>
              <a:off x="1219320" y="108000"/>
              <a:ext cx="26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lope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470160"/>
              <a:ext cx="7467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6:03:16Z</dcterms:created>
  <dc:creator>McDougal Littell</dc:creator>
  <dc:description/>
  <dc:language>en-US</dc:language>
  <cp:lastModifiedBy>Administrative Services</cp:lastModifiedBy>
  <cp:lastPrinted>2002-10-31T17:04:18Z</cp:lastPrinted>
  <dcterms:modified xsi:type="dcterms:W3CDTF">2012-09-13T18:38:15Z</dcterms:modified>
  <cp:revision>399</cp:revision>
  <dc:subject/>
  <dc:title>No Slide Title</dc:title>
</cp:coreProperties>
</file>