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11.gif" ContentType="image/gif"/>
  <Override PartName="/ppt/media/image3.gif" ContentType="image/gif"/>
  <Override PartName="/ppt/media/image6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2.jpeg" ContentType="image/jpeg"/>
  <Override PartName="/ppt/media/image10.gif" ContentType="image/gif"/>
  <Override PartName="/ppt/media/image13.wmf" ContentType="image/x-wmf"/>
  <Override PartName="/ppt/media/image30.png" ContentType="image/png"/>
  <Override PartName="/ppt/media/image2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20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gif" ContentType="image/gif"/>
  <Override PartName="/ppt/media/image4.wmf" ContentType="image/x-wmf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7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DD0-7207-4EE9-BF35-53477CBB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91C-DE31-4A8A-B04D-50159F46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AC1-7115-4642-B4EB-FB6C4C71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384-9BD0-4E27-A6A7-4E429879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101-6648-44C5-A738-C01CEC72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024-C1F9-45F7-A6DF-CECA3163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3AEF-7C96-4B73-BA9D-86EFF2BD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349-60F5-4B8A-B234-3C005DD1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CEB-5CE5-4616-9F2B-4107DC15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E2D-6843-4C1B-A14D-5B9865F0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3F7-A0A9-4144-8185-58152892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B77-161F-41E1-A703-66EA013D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A930-DD1D-4403-8F5A-3F28E6D5D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7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4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1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greece.phillipmartin.info/index.htm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egypt.phillipmartin.info/index.htm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 rot="16138800">
            <a:off x="1866600" y="495000"/>
            <a:ext cx="2286000" cy="1600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 rot="12442800">
            <a:off x="1828800" y="1980360"/>
            <a:ext cx="1905120" cy="1752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4"/>
          <p:cNvSpPr/>
          <p:nvPr/>
        </p:nvSpPr>
        <p:spPr>
          <a:xfrm>
            <a:off x="2639880" y="762120"/>
            <a:ext cx="3333960" cy="6181560"/>
          </a:xfrm>
          <a:custGeom>
            <a:avLst/>
            <a:gdLst/>
            <a:ahLst/>
            <a:rect l="l" t="t" r="r" b="b"/>
            <a:pathLst>
              <a:path w="2100" h="3894">
                <a:moveTo>
                  <a:pt x="2058" y="3807"/>
                </a:moveTo>
                <a:cubicBezTo>
                  <a:pt x="1993" y="3764"/>
                  <a:pt x="1949" y="3739"/>
                  <a:pt x="1905" y="3676"/>
                </a:cubicBezTo>
                <a:cubicBezTo>
                  <a:pt x="1887" y="3650"/>
                  <a:pt x="1850" y="3600"/>
                  <a:pt x="1850" y="3600"/>
                </a:cubicBezTo>
                <a:cubicBezTo>
                  <a:pt x="1835" y="3540"/>
                  <a:pt x="1802" y="3492"/>
                  <a:pt x="1774" y="3436"/>
                </a:cubicBezTo>
                <a:cubicBezTo>
                  <a:pt x="1741" y="3371"/>
                  <a:pt x="1727" y="3301"/>
                  <a:pt x="1687" y="3240"/>
                </a:cubicBezTo>
                <a:cubicBezTo>
                  <a:pt x="1654" y="3107"/>
                  <a:pt x="1609" y="2976"/>
                  <a:pt x="1567" y="2847"/>
                </a:cubicBezTo>
                <a:cubicBezTo>
                  <a:pt x="1559" y="2822"/>
                  <a:pt x="1552" y="2796"/>
                  <a:pt x="1545" y="2771"/>
                </a:cubicBezTo>
                <a:cubicBezTo>
                  <a:pt x="1537" y="2742"/>
                  <a:pt x="1523" y="2683"/>
                  <a:pt x="1523" y="2683"/>
                </a:cubicBezTo>
                <a:cubicBezTo>
                  <a:pt x="1517" y="2582"/>
                  <a:pt x="1524" y="2446"/>
                  <a:pt x="1490" y="2345"/>
                </a:cubicBezTo>
                <a:cubicBezTo>
                  <a:pt x="1453" y="2092"/>
                  <a:pt x="1508" y="1883"/>
                  <a:pt x="1567" y="1647"/>
                </a:cubicBezTo>
                <a:cubicBezTo>
                  <a:pt x="1573" y="1549"/>
                  <a:pt x="1569" y="1419"/>
                  <a:pt x="1599" y="1320"/>
                </a:cubicBezTo>
                <a:cubicBezTo>
                  <a:pt x="1617" y="1262"/>
                  <a:pt x="1653" y="1206"/>
                  <a:pt x="1665" y="1145"/>
                </a:cubicBezTo>
                <a:cubicBezTo>
                  <a:pt x="1676" y="1092"/>
                  <a:pt x="1687" y="1032"/>
                  <a:pt x="1708" y="982"/>
                </a:cubicBezTo>
                <a:cubicBezTo>
                  <a:pt x="1744" y="896"/>
                  <a:pt x="1788" y="820"/>
                  <a:pt x="1818" y="731"/>
                </a:cubicBezTo>
                <a:cubicBezTo>
                  <a:pt x="1826" y="706"/>
                  <a:pt x="1883" y="687"/>
                  <a:pt x="1883" y="687"/>
                </a:cubicBezTo>
                <a:cubicBezTo>
                  <a:pt x="1934" y="611"/>
                  <a:pt x="1949" y="637"/>
                  <a:pt x="1894" y="600"/>
                </a:cubicBezTo>
                <a:cubicBezTo>
                  <a:pt x="1813" y="627"/>
                  <a:pt x="1788" y="710"/>
                  <a:pt x="1763" y="785"/>
                </a:cubicBezTo>
                <a:cubicBezTo>
                  <a:pt x="1736" y="865"/>
                  <a:pt x="1715" y="932"/>
                  <a:pt x="1654" y="993"/>
                </a:cubicBezTo>
                <a:cubicBezTo>
                  <a:pt x="1644" y="1023"/>
                  <a:pt x="1581" y="1111"/>
                  <a:pt x="1654" y="1014"/>
                </a:cubicBezTo>
                <a:cubicBezTo>
                  <a:pt x="1658" y="1003"/>
                  <a:pt x="1660" y="992"/>
                  <a:pt x="1665" y="982"/>
                </a:cubicBezTo>
                <a:cubicBezTo>
                  <a:pt x="1671" y="970"/>
                  <a:pt x="1682" y="961"/>
                  <a:pt x="1687" y="949"/>
                </a:cubicBezTo>
                <a:cubicBezTo>
                  <a:pt x="1696" y="928"/>
                  <a:pt x="1708" y="883"/>
                  <a:pt x="1708" y="883"/>
                </a:cubicBezTo>
                <a:cubicBezTo>
                  <a:pt x="1705" y="840"/>
                  <a:pt x="1705" y="796"/>
                  <a:pt x="1698" y="753"/>
                </a:cubicBezTo>
                <a:cubicBezTo>
                  <a:pt x="1694" y="730"/>
                  <a:pt x="1698" y="693"/>
                  <a:pt x="1676" y="687"/>
                </a:cubicBezTo>
                <a:cubicBezTo>
                  <a:pt x="1661" y="683"/>
                  <a:pt x="1647" y="680"/>
                  <a:pt x="1632" y="676"/>
                </a:cubicBezTo>
                <a:cubicBezTo>
                  <a:pt x="1577" y="731"/>
                  <a:pt x="1614" y="684"/>
                  <a:pt x="1588" y="742"/>
                </a:cubicBezTo>
                <a:cubicBezTo>
                  <a:pt x="1575" y="771"/>
                  <a:pt x="1545" y="829"/>
                  <a:pt x="1545" y="829"/>
                </a:cubicBezTo>
                <a:cubicBezTo>
                  <a:pt x="1541" y="851"/>
                  <a:pt x="1539" y="873"/>
                  <a:pt x="1534" y="894"/>
                </a:cubicBezTo>
                <a:cubicBezTo>
                  <a:pt x="1528" y="916"/>
                  <a:pt x="1512" y="960"/>
                  <a:pt x="1512" y="960"/>
                </a:cubicBezTo>
                <a:cubicBezTo>
                  <a:pt x="1508" y="985"/>
                  <a:pt x="1507" y="1061"/>
                  <a:pt x="1501" y="1036"/>
                </a:cubicBezTo>
                <a:cubicBezTo>
                  <a:pt x="1472" y="919"/>
                  <a:pt x="1489" y="796"/>
                  <a:pt x="1479" y="676"/>
                </a:cubicBezTo>
                <a:cubicBezTo>
                  <a:pt x="1471" y="582"/>
                  <a:pt x="1452" y="486"/>
                  <a:pt x="1436" y="393"/>
                </a:cubicBezTo>
                <a:cubicBezTo>
                  <a:pt x="1362" y="440"/>
                  <a:pt x="1379" y="468"/>
                  <a:pt x="1370" y="567"/>
                </a:cubicBezTo>
                <a:cubicBezTo>
                  <a:pt x="1381" y="674"/>
                  <a:pt x="1391" y="714"/>
                  <a:pt x="1370" y="829"/>
                </a:cubicBezTo>
                <a:cubicBezTo>
                  <a:pt x="1368" y="840"/>
                  <a:pt x="1365" y="806"/>
                  <a:pt x="1359" y="796"/>
                </a:cubicBezTo>
                <a:cubicBezTo>
                  <a:pt x="1350" y="780"/>
                  <a:pt x="1338" y="767"/>
                  <a:pt x="1327" y="753"/>
                </a:cubicBezTo>
                <a:cubicBezTo>
                  <a:pt x="1305" y="688"/>
                  <a:pt x="1255" y="641"/>
                  <a:pt x="1228" y="578"/>
                </a:cubicBezTo>
                <a:cubicBezTo>
                  <a:pt x="1209" y="533"/>
                  <a:pt x="1181" y="492"/>
                  <a:pt x="1163" y="447"/>
                </a:cubicBezTo>
                <a:cubicBezTo>
                  <a:pt x="1134" y="375"/>
                  <a:pt x="1096" y="311"/>
                  <a:pt x="1065" y="240"/>
                </a:cubicBezTo>
                <a:cubicBezTo>
                  <a:pt x="1049" y="203"/>
                  <a:pt x="1060" y="196"/>
                  <a:pt x="1021" y="164"/>
                </a:cubicBezTo>
                <a:cubicBezTo>
                  <a:pt x="954" y="109"/>
                  <a:pt x="953" y="114"/>
                  <a:pt x="890" y="98"/>
                </a:cubicBezTo>
                <a:cubicBezTo>
                  <a:pt x="837" y="177"/>
                  <a:pt x="877" y="238"/>
                  <a:pt x="945" y="284"/>
                </a:cubicBezTo>
                <a:cubicBezTo>
                  <a:pt x="959" y="325"/>
                  <a:pt x="990" y="343"/>
                  <a:pt x="1010" y="382"/>
                </a:cubicBezTo>
                <a:cubicBezTo>
                  <a:pt x="1023" y="407"/>
                  <a:pt x="1033" y="432"/>
                  <a:pt x="1043" y="458"/>
                </a:cubicBezTo>
                <a:cubicBezTo>
                  <a:pt x="1085" y="563"/>
                  <a:pt x="1097" y="674"/>
                  <a:pt x="1119" y="785"/>
                </a:cubicBezTo>
                <a:cubicBezTo>
                  <a:pt x="1123" y="803"/>
                  <a:pt x="1095" y="758"/>
                  <a:pt x="1087" y="742"/>
                </a:cubicBezTo>
                <a:cubicBezTo>
                  <a:pt x="1069" y="707"/>
                  <a:pt x="1066" y="665"/>
                  <a:pt x="1043" y="633"/>
                </a:cubicBezTo>
                <a:cubicBezTo>
                  <a:pt x="1013" y="591"/>
                  <a:pt x="970" y="560"/>
                  <a:pt x="934" y="524"/>
                </a:cubicBezTo>
                <a:cubicBezTo>
                  <a:pt x="923" y="487"/>
                  <a:pt x="915" y="450"/>
                  <a:pt x="901" y="414"/>
                </a:cubicBezTo>
                <a:cubicBezTo>
                  <a:pt x="886" y="376"/>
                  <a:pt x="846" y="305"/>
                  <a:pt x="846" y="305"/>
                </a:cubicBezTo>
                <a:cubicBezTo>
                  <a:pt x="821" y="203"/>
                  <a:pt x="829" y="89"/>
                  <a:pt x="770" y="0"/>
                </a:cubicBezTo>
                <a:cubicBezTo>
                  <a:pt x="723" y="47"/>
                  <a:pt x="728" y="59"/>
                  <a:pt x="694" y="109"/>
                </a:cubicBezTo>
                <a:cubicBezTo>
                  <a:pt x="699" y="167"/>
                  <a:pt x="702" y="247"/>
                  <a:pt x="726" y="305"/>
                </a:cubicBezTo>
                <a:cubicBezTo>
                  <a:pt x="731" y="317"/>
                  <a:pt x="743" y="326"/>
                  <a:pt x="748" y="338"/>
                </a:cubicBezTo>
                <a:cubicBezTo>
                  <a:pt x="763" y="371"/>
                  <a:pt x="772" y="412"/>
                  <a:pt x="781" y="447"/>
                </a:cubicBezTo>
                <a:cubicBezTo>
                  <a:pt x="790" y="563"/>
                  <a:pt x="813" y="662"/>
                  <a:pt x="836" y="774"/>
                </a:cubicBezTo>
                <a:cubicBezTo>
                  <a:pt x="821" y="781"/>
                  <a:pt x="808" y="797"/>
                  <a:pt x="792" y="796"/>
                </a:cubicBezTo>
                <a:cubicBezTo>
                  <a:pt x="689" y="789"/>
                  <a:pt x="586" y="694"/>
                  <a:pt x="530" y="611"/>
                </a:cubicBezTo>
                <a:cubicBezTo>
                  <a:pt x="559" y="724"/>
                  <a:pt x="656" y="787"/>
                  <a:pt x="716" y="883"/>
                </a:cubicBezTo>
                <a:cubicBezTo>
                  <a:pt x="725" y="897"/>
                  <a:pt x="728" y="913"/>
                  <a:pt x="737" y="927"/>
                </a:cubicBezTo>
                <a:cubicBezTo>
                  <a:pt x="757" y="957"/>
                  <a:pt x="803" y="1014"/>
                  <a:pt x="803" y="1014"/>
                </a:cubicBezTo>
                <a:cubicBezTo>
                  <a:pt x="833" y="1104"/>
                  <a:pt x="791" y="986"/>
                  <a:pt x="836" y="1080"/>
                </a:cubicBezTo>
                <a:cubicBezTo>
                  <a:pt x="841" y="1090"/>
                  <a:pt x="854" y="1105"/>
                  <a:pt x="846" y="1113"/>
                </a:cubicBezTo>
                <a:cubicBezTo>
                  <a:pt x="838" y="1121"/>
                  <a:pt x="825" y="1106"/>
                  <a:pt x="814" y="1102"/>
                </a:cubicBezTo>
                <a:cubicBezTo>
                  <a:pt x="763" y="1064"/>
                  <a:pt x="711" y="1031"/>
                  <a:pt x="661" y="993"/>
                </a:cubicBezTo>
                <a:cubicBezTo>
                  <a:pt x="640" y="977"/>
                  <a:pt x="578" y="930"/>
                  <a:pt x="596" y="949"/>
                </a:cubicBezTo>
                <a:cubicBezTo>
                  <a:pt x="667" y="1022"/>
                  <a:pt x="685" y="1064"/>
                  <a:pt x="716" y="1156"/>
                </a:cubicBezTo>
                <a:cubicBezTo>
                  <a:pt x="701" y="1163"/>
                  <a:pt x="688" y="1177"/>
                  <a:pt x="672" y="1178"/>
                </a:cubicBezTo>
                <a:cubicBezTo>
                  <a:pt x="608" y="1184"/>
                  <a:pt x="530" y="1145"/>
                  <a:pt x="465" y="1134"/>
                </a:cubicBezTo>
                <a:cubicBezTo>
                  <a:pt x="446" y="1192"/>
                  <a:pt x="464" y="1195"/>
                  <a:pt x="508" y="1233"/>
                </a:cubicBezTo>
                <a:cubicBezTo>
                  <a:pt x="567" y="1284"/>
                  <a:pt x="512" y="1250"/>
                  <a:pt x="585" y="1287"/>
                </a:cubicBezTo>
                <a:cubicBezTo>
                  <a:pt x="615" y="1317"/>
                  <a:pt x="646" y="1352"/>
                  <a:pt x="672" y="1385"/>
                </a:cubicBezTo>
                <a:cubicBezTo>
                  <a:pt x="688" y="1406"/>
                  <a:pt x="716" y="1451"/>
                  <a:pt x="716" y="1451"/>
                </a:cubicBezTo>
                <a:cubicBezTo>
                  <a:pt x="719" y="1462"/>
                  <a:pt x="721" y="1473"/>
                  <a:pt x="726" y="1483"/>
                </a:cubicBezTo>
                <a:cubicBezTo>
                  <a:pt x="732" y="1495"/>
                  <a:pt x="743" y="1504"/>
                  <a:pt x="748" y="1516"/>
                </a:cubicBezTo>
                <a:cubicBezTo>
                  <a:pt x="758" y="1544"/>
                  <a:pt x="770" y="1603"/>
                  <a:pt x="770" y="1603"/>
                </a:cubicBezTo>
                <a:cubicBezTo>
                  <a:pt x="766" y="1618"/>
                  <a:pt x="765" y="1633"/>
                  <a:pt x="759" y="1647"/>
                </a:cubicBezTo>
                <a:cubicBezTo>
                  <a:pt x="754" y="1659"/>
                  <a:pt x="738" y="1667"/>
                  <a:pt x="737" y="1680"/>
                </a:cubicBezTo>
                <a:cubicBezTo>
                  <a:pt x="731" y="1795"/>
                  <a:pt x="742" y="1958"/>
                  <a:pt x="781" y="2072"/>
                </a:cubicBezTo>
                <a:cubicBezTo>
                  <a:pt x="787" y="2210"/>
                  <a:pt x="791" y="2332"/>
                  <a:pt x="814" y="2465"/>
                </a:cubicBezTo>
                <a:cubicBezTo>
                  <a:pt x="809" y="2605"/>
                  <a:pt x="834" y="2776"/>
                  <a:pt x="748" y="2901"/>
                </a:cubicBezTo>
                <a:cubicBezTo>
                  <a:pt x="721" y="2981"/>
                  <a:pt x="664" y="3022"/>
                  <a:pt x="617" y="3087"/>
                </a:cubicBezTo>
                <a:cubicBezTo>
                  <a:pt x="572" y="3149"/>
                  <a:pt x="551" y="3220"/>
                  <a:pt x="486" y="3261"/>
                </a:cubicBezTo>
                <a:cubicBezTo>
                  <a:pt x="413" y="3376"/>
                  <a:pt x="522" y="3214"/>
                  <a:pt x="432" y="3316"/>
                </a:cubicBezTo>
                <a:cubicBezTo>
                  <a:pt x="360" y="3397"/>
                  <a:pt x="288" y="3564"/>
                  <a:pt x="181" y="3600"/>
                </a:cubicBezTo>
                <a:cubicBezTo>
                  <a:pt x="154" y="3640"/>
                  <a:pt x="152" y="3697"/>
                  <a:pt x="115" y="3730"/>
                </a:cubicBezTo>
                <a:cubicBezTo>
                  <a:pt x="95" y="3747"/>
                  <a:pt x="50" y="3774"/>
                  <a:pt x="50" y="3774"/>
                </a:cubicBezTo>
                <a:cubicBezTo>
                  <a:pt x="15" y="3826"/>
                  <a:pt x="32" y="3794"/>
                  <a:pt x="6" y="3872"/>
                </a:cubicBezTo>
                <a:cubicBezTo>
                  <a:pt x="0" y="3890"/>
                  <a:pt x="43" y="3865"/>
                  <a:pt x="61" y="3861"/>
                </a:cubicBezTo>
                <a:cubicBezTo>
                  <a:pt x="115" y="3869"/>
                  <a:pt x="163" y="3877"/>
                  <a:pt x="214" y="3894"/>
                </a:cubicBezTo>
                <a:cubicBezTo>
                  <a:pt x="441" y="3869"/>
                  <a:pt x="214" y="3874"/>
                  <a:pt x="148" y="3861"/>
                </a:cubicBezTo>
                <a:cubicBezTo>
                  <a:pt x="170" y="3857"/>
                  <a:pt x="195" y="3862"/>
                  <a:pt x="214" y="3850"/>
                </a:cubicBezTo>
                <a:cubicBezTo>
                  <a:pt x="224" y="3844"/>
                  <a:pt x="170" y="3840"/>
                  <a:pt x="181" y="3840"/>
                </a:cubicBezTo>
                <a:cubicBezTo>
                  <a:pt x="239" y="3840"/>
                  <a:pt x="298" y="3847"/>
                  <a:pt x="356" y="3850"/>
                </a:cubicBezTo>
                <a:cubicBezTo>
                  <a:pt x="488" y="3838"/>
                  <a:pt x="430" y="3852"/>
                  <a:pt x="530" y="3818"/>
                </a:cubicBezTo>
                <a:cubicBezTo>
                  <a:pt x="548" y="3812"/>
                  <a:pt x="604" y="3807"/>
                  <a:pt x="585" y="3807"/>
                </a:cubicBezTo>
                <a:cubicBezTo>
                  <a:pt x="523" y="3807"/>
                  <a:pt x="449" y="3831"/>
                  <a:pt x="388" y="3840"/>
                </a:cubicBezTo>
                <a:cubicBezTo>
                  <a:pt x="304" y="3836"/>
                  <a:pt x="221" y="3835"/>
                  <a:pt x="137" y="3829"/>
                </a:cubicBezTo>
                <a:cubicBezTo>
                  <a:pt x="119" y="3828"/>
                  <a:pt x="52" y="3804"/>
                  <a:pt x="126" y="3829"/>
                </a:cubicBezTo>
                <a:cubicBezTo>
                  <a:pt x="295" y="3814"/>
                  <a:pt x="418" y="3811"/>
                  <a:pt x="596" y="3818"/>
                </a:cubicBezTo>
                <a:cubicBezTo>
                  <a:pt x="692" y="3813"/>
                  <a:pt x="786" y="3817"/>
                  <a:pt x="879" y="3796"/>
                </a:cubicBezTo>
                <a:cubicBezTo>
                  <a:pt x="939" y="3783"/>
                  <a:pt x="886" y="3789"/>
                  <a:pt x="945" y="3763"/>
                </a:cubicBezTo>
                <a:cubicBezTo>
                  <a:pt x="966" y="3754"/>
                  <a:pt x="1010" y="3741"/>
                  <a:pt x="1010" y="3741"/>
                </a:cubicBezTo>
                <a:cubicBezTo>
                  <a:pt x="1097" y="3751"/>
                  <a:pt x="1187" y="3746"/>
                  <a:pt x="1261" y="3796"/>
                </a:cubicBezTo>
                <a:cubicBezTo>
                  <a:pt x="1381" y="3792"/>
                  <a:pt x="1501" y="3791"/>
                  <a:pt x="1621" y="3785"/>
                </a:cubicBezTo>
                <a:cubicBezTo>
                  <a:pt x="1640" y="3784"/>
                  <a:pt x="1657" y="3774"/>
                  <a:pt x="1676" y="3774"/>
                </a:cubicBezTo>
                <a:cubicBezTo>
                  <a:pt x="1695" y="3774"/>
                  <a:pt x="1762" y="3789"/>
                  <a:pt x="1785" y="3796"/>
                </a:cubicBezTo>
                <a:cubicBezTo>
                  <a:pt x="1807" y="3803"/>
                  <a:pt x="1828" y="3811"/>
                  <a:pt x="1850" y="3818"/>
                </a:cubicBezTo>
                <a:cubicBezTo>
                  <a:pt x="1861" y="3822"/>
                  <a:pt x="1883" y="3829"/>
                  <a:pt x="1883" y="3829"/>
                </a:cubicBezTo>
                <a:cubicBezTo>
                  <a:pt x="1905" y="3822"/>
                  <a:pt x="1926" y="3814"/>
                  <a:pt x="1948" y="3807"/>
                </a:cubicBezTo>
                <a:cubicBezTo>
                  <a:pt x="1959" y="3803"/>
                  <a:pt x="1981" y="3796"/>
                  <a:pt x="1981" y="3796"/>
                </a:cubicBezTo>
                <a:cubicBezTo>
                  <a:pt x="1988" y="3814"/>
                  <a:pt x="1996" y="3832"/>
                  <a:pt x="2003" y="3850"/>
                </a:cubicBezTo>
                <a:cubicBezTo>
                  <a:pt x="2007" y="3861"/>
                  <a:pt x="2006" y="3891"/>
                  <a:pt x="2014" y="3883"/>
                </a:cubicBezTo>
                <a:cubicBezTo>
                  <a:pt x="2027" y="3870"/>
                  <a:pt x="2021" y="3847"/>
                  <a:pt x="2025" y="3829"/>
                </a:cubicBezTo>
                <a:cubicBezTo>
                  <a:pt x="2014" y="3822"/>
                  <a:pt x="1999" y="3818"/>
                  <a:pt x="1992" y="3807"/>
                </a:cubicBezTo>
                <a:cubicBezTo>
                  <a:pt x="1984" y="3794"/>
                  <a:pt x="1991" y="3774"/>
                  <a:pt x="1981" y="3763"/>
                </a:cubicBezTo>
                <a:cubicBezTo>
                  <a:pt x="1964" y="3743"/>
                  <a:pt x="1916" y="3720"/>
                  <a:pt x="1916" y="3720"/>
                </a:cubicBezTo>
                <a:cubicBezTo>
                  <a:pt x="1863" y="3640"/>
                  <a:pt x="1930" y="3722"/>
                  <a:pt x="1959" y="3741"/>
                </a:cubicBezTo>
                <a:cubicBezTo>
                  <a:pt x="1966" y="3752"/>
                  <a:pt x="1971" y="3765"/>
                  <a:pt x="1981" y="3774"/>
                </a:cubicBezTo>
                <a:cubicBezTo>
                  <a:pt x="1993" y="3785"/>
                  <a:pt x="2100" y="3844"/>
                  <a:pt x="2014" y="3807"/>
                </a:cubicBezTo>
                <a:cubicBezTo>
                  <a:pt x="1999" y="3801"/>
                  <a:pt x="1985" y="3792"/>
                  <a:pt x="1970" y="3785"/>
                </a:cubicBezTo>
                <a:cubicBezTo>
                  <a:pt x="1960" y="3781"/>
                  <a:pt x="1949" y="3778"/>
                  <a:pt x="1938" y="3774"/>
                </a:cubicBezTo>
                <a:cubicBezTo>
                  <a:pt x="1931" y="3763"/>
                  <a:pt x="1925" y="3750"/>
                  <a:pt x="1916" y="3741"/>
                </a:cubicBezTo>
                <a:cubicBezTo>
                  <a:pt x="1907" y="3732"/>
                  <a:pt x="1888" y="3732"/>
                  <a:pt x="1883" y="3720"/>
                </a:cubicBezTo>
                <a:cubicBezTo>
                  <a:pt x="1876" y="3703"/>
                  <a:pt x="1883" y="3683"/>
                  <a:pt x="1883" y="3665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 rot="5400000">
            <a:off x="2719800" y="4061520"/>
            <a:ext cx="3589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omet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581280" y="0"/>
            <a:ext cx="2286000" cy="1752480"/>
          </a:xfrm>
          <a:prstGeom prst="cloudCallout">
            <a:avLst>
              <a:gd name="adj1" fmla="val -43750"/>
              <a:gd name="adj2" fmla="val 639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5029200" y="838080"/>
            <a:ext cx="2666880" cy="1828800"/>
          </a:xfrm>
          <a:prstGeom prst="cloudCallout">
            <a:avLst>
              <a:gd name="adj1" fmla="val -42856"/>
              <a:gd name="adj2" fmla="val 67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638680" y="46483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did the acorn say when he grew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133720" y="23623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s Lines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51460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88620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334120" y="114300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gr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thumbnail"/>
          <p:cNvPicPr/>
          <p:nvPr/>
        </p:nvPicPr>
        <p:blipFill>
          <a:blip r:embed="rId1"/>
          <a:stretch/>
        </p:blipFill>
        <p:spPr>
          <a:xfrm>
            <a:off x="361800" y="5072040"/>
            <a:ext cx="2144880" cy="1469880"/>
          </a:xfrm>
          <a:prstGeom prst="rect">
            <a:avLst/>
          </a:prstGeom>
          <a:ln w="0">
            <a:noFill/>
          </a:ln>
        </p:spPr>
      </p:pic>
      <p:pic>
        <p:nvPicPr>
          <p:cNvPr id="53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7893000" y="35146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7574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s, Lines, and Pla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-A boundless, three-dimensional set of all points.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thumbnail"/>
          <p:cNvPicPr/>
          <p:nvPr/>
        </p:nvPicPr>
        <p:blipFill>
          <a:blip r:embed="rId1"/>
          <a:stretch/>
        </p:blipFill>
        <p:spPr>
          <a:xfrm>
            <a:off x="3346560" y="309888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ordinate Plane, points, lines, and Pl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collinear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model points, lines, and 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coplanar points and intersecting lines and 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thumbnail"/>
          <p:cNvPicPr/>
          <p:nvPr/>
        </p:nvPicPr>
        <p:blipFill>
          <a:blip r:embed="rId1"/>
          <a:stretch/>
        </p:blipFill>
        <p:spPr>
          <a:xfrm>
            <a:off x="6961320" y="5334120"/>
            <a:ext cx="179676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9"/>
          <p:cNvSpPr/>
          <p:nvPr/>
        </p:nvSpPr>
        <p:spPr>
          <a:xfrm>
            <a:off x="1633680" y="890640"/>
            <a:ext cx="91440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295280" y="83808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as no dimen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288800" y="1577880"/>
            <a:ext cx="49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sually represented by a small d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949280" y="306396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7"/>
          <p:cNvGrpSpPr/>
          <p:nvPr/>
        </p:nvGrpSpPr>
        <p:grpSpPr>
          <a:xfrm>
            <a:off x="4782240" y="2265480"/>
            <a:ext cx="1845000" cy="1050120"/>
            <a:chOff x="4782240" y="2265480"/>
            <a:chExt cx="1845000" cy="1050120"/>
          </a:xfrm>
        </p:grpSpPr>
        <p:sp>
          <p:nvSpPr>
            <p:cNvPr id="104" name="Text Box 10"/>
            <p:cNvSpPr/>
            <p:nvPr/>
          </p:nvSpPr>
          <p:spPr>
            <a:xfrm>
              <a:off x="4782240" y="2855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AutoShape 15"/>
            <p:cNvSpPr/>
            <p:nvPr/>
          </p:nvSpPr>
          <p:spPr>
            <a:xfrm>
              <a:off x="5383080" y="2265480"/>
              <a:ext cx="1168560" cy="504720"/>
            </a:xfrm>
            <a:prstGeom prst="wedgeRectCallout">
              <a:avLst>
                <a:gd name="adj1" fmla="val -65083"/>
                <a:gd name="adj2" fmla="val 138365"/>
              </a:avLst>
            </a:prstGeom>
            <a:solidFill>
              <a:srgbClr val="ccec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4"/>
            <p:cNvSpPr/>
            <p:nvPr/>
          </p:nvSpPr>
          <p:spPr>
            <a:xfrm>
              <a:off x="5410800" y="228492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6"/>
            <p:cNvSpPr/>
            <p:nvPr/>
          </p:nvSpPr>
          <p:spPr>
            <a:xfrm>
              <a:off x="6167520" y="22860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8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109" name="Picture 19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20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Line 21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33" descr="thumbnail"/>
          <p:cNvPicPr/>
          <p:nvPr/>
        </p:nvPicPr>
        <p:blipFill>
          <a:blip r:embed="rId3"/>
          <a:stretch/>
        </p:blipFill>
        <p:spPr>
          <a:xfrm>
            <a:off x="426960" y="35542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1" descr=""/>
          <p:cNvPicPr/>
          <p:nvPr/>
        </p:nvPicPr>
        <p:blipFill>
          <a:blip r:embed="rId1"/>
          <a:stretch/>
        </p:blipFill>
        <p:spPr>
          <a:xfrm>
            <a:off x="3124080" y="2371680"/>
            <a:ext cx="273060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9"/>
          <p:cNvSpPr/>
          <p:nvPr/>
        </p:nvSpPr>
        <p:spPr>
          <a:xfrm>
            <a:off x="1366920" y="5381640"/>
            <a:ext cx="22478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5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"/>
          <p:cNvPicPr/>
          <p:nvPr/>
        </p:nvPicPr>
        <p:blipFill>
          <a:blip r:embed="rId4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9"/>
          <p:cNvSpPr/>
          <p:nvPr/>
        </p:nvSpPr>
        <p:spPr>
          <a:xfrm>
            <a:off x="1724040" y="828720"/>
            <a:ext cx="68112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1352160" y="793800"/>
            <a:ext cx="73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tends in one dimension. It is usually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 straight line with two arrowheads to indicate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 extends without end in two direction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4002120" y="4319640"/>
            <a:ext cx="330120" cy="42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52"/>
          <p:cNvGrpSpPr/>
          <p:nvPr/>
        </p:nvGrpSpPr>
        <p:grpSpPr>
          <a:xfrm>
            <a:off x="3338640" y="4273560"/>
            <a:ext cx="1827000" cy="552600"/>
            <a:chOff x="3338640" y="4273560"/>
            <a:chExt cx="1827000" cy="552600"/>
          </a:xfrm>
        </p:grpSpPr>
        <p:pic>
          <p:nvPicPr>
            <p:cNvPr id="122" name="Picture 22" descr=""/>
            <p:cNvPicPr/>
            <p:nvPr/>
          </p:nvPicPr>
          <p:blipFill>
            <a:blip r:embed="rId5"/>
            <a:srcRect l="0" t="0" r="81380" b="0"/>
            <a:stretch/>
          </p:blipFill>
          <p:spPr>
            <a:xfrm>
              <a:off x="4087800" y="4273560"/>
              <a:ext cx="177840" cy="55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Group 51"/>
            <p:cNvGrpSpPr/>
            <p:nvPr/>
          </p:nvGrpSpPr>
          <p:grpSpPr>
            <a:xfrm>
              <a:off x="3338640" y="4344840"/>
              <a:ext cx="1827000" cy="416520"/>
              <a:chOff x="3338640" y="4344840"/>
              <a:chExt cx="1827000" cy="416520"/>
            </a:xfrm>
          </p:grpSpPr>
          <p:sp>
            <p:nvSpPr>
              <p:cNvPr id="124" name="Text Box 24"/>
              <p:cNvSpPr/>
              <p:nvPr/>
            </p:nvSpPr>
            <p:spPr>
              <a:xfrm>
                <a:off x="3338640" y="4362480"/>
                <a:ext cx="182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r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25"/>
              <p:cNvSpPr/>
              <p:nvPr/>
            </p:nvSpPr>
            <p:spPr>
              <a:xfrm>
                <a:off x="4726080" y="4344840"/>
                <a:ext cx="345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Rectangle 31"/>
          <p:cNvSpPr/>
          <p:nvPr/>
        </p:nvSpPr>
        <p:spPr>
          <a:xfrm>
            <a:off x="3316320" y="2160720"/>
            <a:ext cx="330120" cy="42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3" descr=""/>
          <p:cNvPicPr/>
          <p:nvPr/>
        </p:nvPicPr>
        <p:blipFill>
          <a:blip r:embed="rId6"/>
          <a:srcRect l="0" t="0" r="81380" b="0"/>
          <a:stretch/>
        </p:blipFill>
        <p:spPr>
          <a:xfrm>
            <a:off x="3411360" y="2133720"/>
            <a:ext cx="177840" cy="5522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8"/>
          <p:cNvSpPr/>
          <p:nvPr/>
        </p:nvSpPr>
        <p:spPr>
          <a:xfrm>
            <a:off x="1323000" y="5334120"/>
            <a:ext cx="66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inear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points that lie on the sam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40"/>
          <p:cNvGrpSpPr/>
          <p:nvPr/>
        </p:nvGrpSpPr>
        <p:grpSpPr>
          <a:xfrm>
            <a:off x="3787920" y="2990880"/>
            <a:ext cx="1344600" cy="868320"/>
            <a:chOff x="3787920" y="2990880"/>
            <a:chExt cx="1344600" cy="868320"/>
          </a:xfrm>
        </p:grpSpPr>
        <p:sp>
          <p:nvSpPr>
            <p:cNvPr id="130" name="Oval 37"/>
            <p:cNvSpPr/>
            <p:nvPr/>
          </p:nvSpPr>
          <p:spPr>
            <a:xfrm>
              <a:off x="3787920" y="2990880"/>
              <a:ext cx="136440" cy="13644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39"/>
            <p:cNvSpPr/>
            <p:nvPr/>
          </p:nvSpPr>
          <p:spPr>
            <a:xfrm>
              <a:off x="4995720" y="3722760"/>
              <a:ext cx="136800" cy="13644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46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133" name="Picture 47" descr=""/>
            <p:cNvPicPr/>
            <p:nvPr/>
          </p:nvPicPr>
          <p:blipFill>
            <a:blip r:embed="rId7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8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Line 49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4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647640"/>
            <a:ext cx="9144000" cy="5626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876240" y="635040"/>
            <a:ext cx="7340760" cy="5448240"/>
          </a:xfrm>
          <a:custGeom>
            <a:avLst/>
            <a:gdLst>
              <a:gd name="textAreaLeft" fmla="*/ 1165320 w 7340760"/>
              <a:gd name="textAreaRight" fmla="*/ 6175440 w 7340760"/>
              <a:gd name="textAreaTop" fmla="*/ 1915560 h 5448240"/>
              <a:gd name="textAreaBottom" fmla="*/ 3532680 h 5448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620"/>
                </a:lnTo>
                <a:lnTo>
                  <a:pt x="7594" y="4620"/>
                </a:lnTo>
                <a:lnTo>
                  <a:pt x="7594" y="7594"/>
                </a:lnTo>
                <a:lnTo>
                  <a:pt x="4620" y="7594"/>
                </a:lnTo>
                <a:lnTo>
                  <a:pt x="4620" y="6480"/>
                </a:lnTo>
                <a:lnTo>
                  <a:pt x="0" y="10800"/>
                </a:lnTo>
                <a:lnTo>
                  <a:pt x="4620" y="15120"/>
                </a:lnTo>
                <a:lnTo>
                  <a:pt x="4620" y="14006"/>
                </a:lnTo>
                <a:lnTo>
                  <a:pt x="7594" y="14006"/>
                </a:lnTo>
                <a:lnTo>
                  <a:pt x="7594" y="16980"/>
                </a:lnTo>
                <a:lnTo>
                  <a:pt x="6480" y="16980"/>
                </a:lnTo>
                <a:lnTo>
                  <a:pt x="10800" y="21600"/>
                </a:lnTo>
                <a:lnTo>
                  <a:pt x="15120" y="16980"/>
                </a:lnTo>
                <a:lnTo>
                  <a:pt x="14006" y="16980"/>
                </a:lnTo>
                <a:lnTo>
                  <a:pt x="14006" y="14006"/>
                </a:lnTo>
                <a:lnTo>
                  <a:pt x="16980" y="14006"/>
                </a:lnTo>
                <a:lnTo>
                  <a:pt x="16980" y="15120"/>
                </a:lnTo>
                <a:lnTo>
                  <a:pt x="21600" y="10800"/>
                </a:lnTo>
                <a:lnTo>
                  <a:pt x="16980" y="6480"/>
                </a:lnTo>
                <a:lnTo>
                  <a:pt x="16980" y="7594"/>
                </a:lnTo>
                <a:lnTo>
                  <a:pt x="14006" y="7594"/>
                </a:lnTo>
                <a:lnTo>
                  <a:pt x="14006" y="4620"/>
                </a:lnTo>
                <a:lnTo>
                  <a:pt x="15120" y="4620"/>
                </a:lnTo>
                <a:lnTo>
                  <a:pt x="10800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984240" y="2482920"/>
            <a:ext cx="7263000" cy="1896840"/>
          </a:xfrm>
          <a:prstGeom prst="parallelogram">
            <a:avLst>
              <a:gd name="adj" fmla="val 56176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1960" y="2482920"/>
            <a:ext cx="5203800" cy="1896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998720" y="2494080"/>
            <a:ext cx="5218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a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tends in two dimensions.  It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represented by a shape that look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a table or a wall, however you mu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agine that the plane extends without 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20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143" name="Picture 21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2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Line 23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5"/>
          <p:cNvSpPr/>
          <p:nvPr/>
        </p:nvSpPr>
        <p:spPr>
          <a:xfrm>
            <a:off x="1373040" y="942840"/>
            <a:ext cx="2248200" cy="38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31640" y="914400"/>
            <a:ext cx="69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lanar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points that lie on the sam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2438280" y="3962520"/>
            <a:ext cx="29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</a:t>
            </a: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pla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0"/>
          <p:cNvSpPr/>
          <p:nvPr/>
        </p:nvSpPr>
        <p:spPr>
          <a:xfrm>
            <a:off x="2514600" y="1905120"/>
            <a:ext cx="3809880" cy="1828800"/>
          </a:xfrm>
          <a:prstGeom prst="parallelogram">
            <a:avLst>
              <a:gd name="adj" fmla="val 5208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8"/>
          <p:cNvGrpSpPr/>
          <p:nvPr/>
        </p:nvGrpSpPr>
        <p:grpSpPr>
          <a:xfrm>
            <a:off x="3341520" y="2133720"/>
            <a:ext cx="2220840" cy="1341360"/>
            <a:chOff x="3341520" y="2133720"/>
            <a:chExt cx="2220840" cy="1341360"/>
          </a:xfrm>
        </p:grpSpPr>
        <p:grpSp>
          <p:nvGrpSpPr>
            <p:cNvPr id="152" name="Group 19"/>
            <p:cNvGrpSpPr/>
            <p:nvPr/>
          </p:nvGrpSpPr>
          <p:grpSpPr>
            <a:xfrm>
              <a:off x="3570120" y="2133720"/>
              <a:ext cx="315720" cy="351000"/>
              <a:chOff x="3570120" y="2133720"/>
              <a:chExt cx="315720" cy="351000"/>
            </a:xfrm>
          </p:grpSpPr>
          <p:sp>
            <p:nvSpPr>
              <p:cNvPr id="153" name="Oval 20"/>
              <p:cNvSpPr/>
              <p:nvPr/>
            </p:nvSpPr>
            <p:spPr>
              <a:xfrm>
                <a:off x="3819960" y="2144520"/>
                <a:ext cx="65880" cy="6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21"/>
              <p:cNvSpPr/>
              <p:nvPr/>
            </p:nvSpPr>
            <p:spPr>
              <a:xfrm>
                <a:off x="3570120" y="2133720"/>
                <a:ext cx="1998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22"/>
            <p:cNvGrpSpPr/>
            <p:nvPr/>
          </p:nvGrpSpPr>
          <p:grpSpPr>
            <a:xfrm>
              <a:off x="5246640" y="2362320"/>
              <a:ext cx="315720" cy="351000"/>
              <a:chOff x="5246640" y="2362320"/>
              <a:chExt cx="315720" cy="351000"/>
            </a:xfrm>
          </p:grpSpPr>
          <p:sp>
            <p:nvSpPr>
              <p:cNvPr id="156" name="Oval 23"/>
              <p:cNvSpPr/>
              <p:nvPr/>
            </p:nvSpPr>
            <p:spPr>
              <a:xfrm>
                <a:off x="5496480" y="2373120"/>
                <a:ext cx="65880" cy="6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24"/>
              <p:cNvSpPr/>
              <p:nvPr/>
            </p:nvSpPr>
            <p:spPr>
              <a:xfrm>
                <a:off x="5246640" y="2362320"/>
                <a:ext cx="1998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25"/>
            <p:cNvSpPr/>
            <p:nvPr/>
          </p:nvSpPr>
          <p:spPr>
            <a:xfrm>
              <a:off x="4941720" y="3124440"/>
              <a:ext cx="200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e000d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26"/>
            <p:cNvGrpSpPr/>
            <p:nvPr/>
          </p:nvGrpSpPr>
          <p:grpSpPr>
            <a:xfrm>
              <a:off x="3341520" y="3124440"/>
              <a:ext cx="315720" cy="350640"/>
              <a:chOff x="3341520" y="3124440"/>
              <a:chExt cx="315720" cy="350640"/>
            </a:xfrm>
          </p:grpSpPr>
          <p:sp>
            <p:nvSpPr>
              <p:cNvPr id="160" name="Oval 27"/>
              <p:cNvSpPr/>
              <p:nvPr/>
            </p:nvSpPr>
            <p:spPr>
              <a:xfrm>
                <a:off x="3591360" y="3135240"/>
                <a:ext cx="65880" cy="6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Text Box 28"/>
              <p:cNvSpPr/>
              <p:nvPr/>
            </p:nvSpPr>
            <p:spPr>
              <a:xfrm>
                <a:off x="3341520" y="3124440"/>
                <a:ext cx="1998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Group 35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163" name="Picture 36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37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Line 38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0" descr="thumbnail"/>
          <p:cNvPicPr/>
          <p:nvPr/>
        </p:nvPicPr>
        <p:blipFill>
          <a:blip r:embed="rId3"/>
          <a:stretch/>
        </p:blipFill>
        <p:spPr>
          <a:xfrm>
            <a:off x="5967360" y="40798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8"/>
          <p:cNvSpPr/>
          <p:nvPr/>
        </p:nvSpPr>
        <p:spPr>
          <a:xfrm>
            <a:off x="457200" y="1473120"/>
            <a:ext cx="4432320" cy="43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457200" y="1943280"/>
            <a:ext cx="4788000" cy="43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7"/>
          <p:cNvSpPr/>
          <p:nvPr/>
        </p:nvSpPr>
        <p:spPr>
          <a:xfrm>
            <a:off x="457200" y="1003320"/>
            <a:ext cx="4432320" cy="43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3"/>
          <p:cNvGrpSpPr/>
          <p:nvPr/>
        </p:nvGrpSpPr>
        <p:grpSpPr>
          <a:xfrm>
            <a:off x="177840" y="117360"/>
            <a:ext cx="5726520" cy="460440"/>
            <a:chOff x="177840" y="117360"/>
            <a:chExt cx="5726520" cy="460440"/>
          </a:xfrm>
        </p:grpSpPr>
        <p:sp>
          <p:nvSpPr>
            <p:cNvPr id="172" name="Text Box 4"/>
            <p:cNvSpPr/>
            <p:nvPr/>
          </p:nvSpPr>
          <p:spPr>
            <a:xfrm>
              <a:off x="1554120" y="154080"/>
              <a:ext cx="435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ming Collinear and Coplanar 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Picture 5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Line 6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612720" y="307656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609480" y="3100320"/>
            <a:ext cx="1411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69800" y="3724200"/>
            <a:ext cx="664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ie on the same line, so they are collin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470880" y="5135400"/>
            <a:ext cx="799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are many correct answers. For instance, point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lie on the same li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469080" y="4262400"/>
            <a:ext cx="763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ie on the same plane, so they are coplan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713160" y="4648320"/>
            <a:ext cx="39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coplan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29"/>
          <p:cNvSpPr/>
          <p:nvPr/>
        </p:nvSpPr>
        <p:spPr>
          <a:xfrm>
            <a:off x="4894200" y="1600200"/>
            <a:ext cx="3936960" cy="1295280"/>
          </a:xfrm>
          <a:prstGeom prst="parallelogram">
            <a:avLst>
              <a:gd name="adj" fmla="val 12672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9"/>
          <p:cNvSpPr/>
          <p:nvPr/>
        </p:nvSpPr>
        <p:spPr>
          <a:xfrm>
            <a:off x="4932360" y="1219320"/>
            <a:ext cx="3936960" cy="1676160"/>
          </a:xfrm>
          <a:prstGeom prst="parallelogram">
            <a:avLst>
              <a:gd name="adj" fmla="val 9793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73"/>
          <p:cNvSpPr/>
          <p:nvPr/>
        </p:nvSpPr>
        <p:spPr>
          <a:xfrm>
            <a:off x="6908760" y="927000"/>
            <a:ext cx="0" cy="2489400"/>
          </a:xfrm>
          <a:prstGeom prst="line">
            <a:avLst/>
          </a:prstGeom>
          <a:ln w="38160">
            <a:solidFill>
              <a:srgbClr val="08b3e8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98"/>
          <p:cNvSpPr/>
          <p:nvPr/>
        </p:nvSpPr>
        <p:spPr>
          <a:xfrm>
            <a:off x="6908760" y="2257560"/>
            <a:ext cx="0" cy="653760"/>
          </a:xfrm>
          <a:prstGeom prst="line">
            <a:avLst/>
          </a:prstGeom>
          <a:ln w="381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1"/>
          <p:cNvSpPr/>
          <p:nvPr/>
        </p:nvSpPr>
        <p:spPr>
          <a:xfrm flipV="1">
            <a:off x="5186520" y="1815840"/>
            <a:ext cx="3403440" cy="825480"/>
          </a:xfrm>
          <a:prstGeom prst="line">
            <a:avLst/>
          </a:prstGeom>
          <a:ln w="38160">
            <a:solidFill>
              <a:srgbClr val="08b3e8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3"/>
          <p:cNvGrpSpPr/>
          <p:nvPr/>
        </p:nvGrpSpPr>
        <p:grpSpPr>
          <a:xfrm>
            <a:off x="5881680" y="1289160"/>
            <a:ext cx="1603440" cy="1231920"/>
            <a:chOff x="5881680" y="1289160"/>
            <a:chExt cx="1603440" cy="1231920"/>
          </a:xfrm>
        </p:grpSpPr>
        <p:sp>
          <p:nvSpPr>
            <p:cNvPr id="187" name="Oval 23"/>
            <p:cNvSpPr/>
            <p:nvPr/>
          </p:nvSpPr>
          <p:spPr>
            <a:xfrm>
              <a:off x="6253200" y="1898640"/>
              <a:ext cx="13644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24"/>
            <p:cNvSpPr/>
            <p:nvPr/>
          </p:nvSpPr>
          <p:spPr>
            <a:xfrm>
              <a:off x="5881680" y="238464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25"/>
            <p:cNvSpPr/>
            <p:nvPr/>
          </p:nvSpPr>
          <p:spPr>
            <a:xfrm>
              <a:off x="6843600" y="215280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26"/>
            <p:cNvSpPr/>
            <p:nvPr/>
          </p:nvSpPr>
          <p:spPr>
            <a:xfrm>
              <a:off x="7348320" y="2032200"/>
              <a:ext cx="13680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7"/>
            <p:cNvSpPr/>
            <p:nvPr/>
          </p:nvSpPr>
          <p:spPr>
            <a:xfrm>
              <a:off x="6837480" y="1289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38"/>
          <p:cNvGrpSpPr/>
          <p:nvPr/>
        </p:nvGrpSpPr>
        <p:grpSpPr>
          <a:xfrm>
            <a:off x="5845320" y="1155600"/>
            <a:ext cx="1913400" cy="1762560"/>
            <a:chOff x="5845320" y="1155600"/>
            <a:chExt cx="1913400" cy="1762560"/>
          </a:xfrm>
        </p:grpSpPr>
        <p:sp>
          <p:nvSpPr>
            <p:cNvPr id="193" name="Text Box 32"/>
            <p:cNvSpPr/>
            <p:nvPr/>
          </p:nvSpPr>
          <p:spPr>
            <a:xfrm>
              <a:off x="6328080" y="181620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34"/>
            <p:cNvSpPr/>
            <p:nvPr/>
          </p:nvSpPr>
          <p:spPr>
            <a:xfrm>
              <a:off x="6937200" y="115560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35"/>
            <p:cNvSpPr/>
            <p:nvPr/>
          </p:nvSpPr>
          <p:spPr>
            <a:xfrm>
              <a:off x="7407360" y="2082960"/>
              <a:ext cx="35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36"/>
            <p:cNvSpPr/>
            <p:nvPr/>
          </p:nvSpPr>
          <p:spPr>
            <a:xfrm>
              <a:off x="6924600" y="2209680"/>
              <a:ext cx="366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37"/>
            <p:cNvSpPr/>
            <p:nvPr/>
          </p:nvSpPr>
          <p:spPr>
            <a:xfrm>
              <a:off x="5845320" y="248904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Rectangle 50"/>
          <p:cNvSpPr/>
          <p:nvPr/>
        </p:nvSpPr>
        <p:spPr>
          <a:xfrm>
            <a:off x="361800" y="939960"/>
            <a:ext cx="47116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1"/>
          <p:cNvSpPr/>
          <p:nvPr/>
        </p:nvSpPr>
        <p:spPr>
          <a:xfrm>
            <a:off x="412920" y="1422360"/>
            <a:ext cx="47116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06520" y="992160"/>
            <a:ext cx="441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three points that are collin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505800" y="1459080"/>
            <a:ext cx="430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four points that are coplan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05800" y="1925640"/>
            <a:ext cx="483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three points that are not collin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86"/>
          <p:cNvGrpSpPr/>
          <p:nvPr/>
        </p:nvGrpSpPr>
        <p:grpSpPr>
          <a:xfrm>
            <a:off x="5861160" y="1879560"/>
            <a:ext cx="1647720" cy="669960"/>
            <a:chOff x="5861160" y="1879560"/>
            <a:chExt cx="1647720" cy="669960"/>
          </a:xfrm>
        </p:grpSpPr>
        <p:sp>
          <p:nvSpPr>
            <p:cNvPr id="204" name="Oval 71"/>
            <p:cNvSpPr/>
            <p:nvPr/>
          </p:nvSpPr>
          <p:spPr>
            <a:xfrm>
              <a:off x="6242040" y="1879560"/>
              <a:ext cx="187200" cy="1746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83"/>
            <p:cNvSpPr/>
            <p:nvPr/>
          </p:nvSpPr>
          <p:spPr>
            <a:xfrm>
              <a:off x="5861160" y="2374920"/>
              <a:ext cx="187200" cy="1746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84"/>
            <p:cNvSpPr/>
            <p:nvPr/>
          </p:nvSpPr>
          <p:spPr>
            <a:xfrm>
              <a:off x="6826320" y="2133720"/>
              <a:ext cx="187200" cy="1746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85"/>
            <p:cNvSpPr/>
            <p:nvPr/>
          </p:nvSpPr>
          <p:spPr>
            <a:xfrm>
              <a:off x="7321680" y="2019240"/>
              <a:ext cx="187200" cy="1746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89"/>
          <p:cNvGrpSpPr/>
          <p:nvPr/>
        </p:nvGrpSpPr>
        <p:grpSpPr>
          <a:xfrm>
            <a:off x="5423040" y="1879560"/>
            <a:ext cx="2933640" cy="711360"/>
            <a:chOff x="5423040" y="1879560"/>
            <a:chExt cx="2933640" cy="711360"/>
          </a:xfrm>
        </p:grpSpPr>
        <p:sp>
          <p:nvSpPr>
            <p:cNvPr id="209" name="Line 54"/>
            <p:cNvSpPr/>
            <p:nvPr/>
          </p:nvSpPr>
          <p:spPr>
            <a:xfrm flipV="1">
              <a:off x="5423040" y="1879560"/>
              <a:ext cx="2933640" cy="711360"/>
            </a:xfrm>
            <a:prstGeom prst="line">
              <a:avLst/>
            </a:prstGeom>
            <a:ln w="76320">
              <a:solidFill>
                <a:srgbClr val="ff33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57"/>
            <p:cNvSpPr/>
            <p:nvPr/>
          </p:nvSpPr>
          <p:spPr>
            <a:xfrm>
              <a:off x="7308720" y="2000160"/>
              <a:ext cx="200160" cy="20016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Oval 87"/>
            <p:cNvSpPr/>
            <p:nvPr/>
          </p:nvSpPr>
          <p:spPr>
            <a:xfrm>
              <a:off x="6819840" y="2120760"/>
              <a:ext cx="200160" cy="20016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Oval 88"/>
            <p:cNvSpPr/>
            <p:nvPr/>
          </p:nvSpPr>
          <p:spPr>
            <a:xfrm>
              <a:off x="5842080" y="2362320"/>
              <a:ext cx="199800" cy="1998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97"/>
          <p:cNvGrpSpPr/>
          <p:nvPr/>
        </p:nvGrpSpPr>
        <p:grpSpPr>
          <a:xfrm>
            <a:off x="6229440" y="1238400"/>
            <a:ext cx="796320" cy="1063080"/>
            <a:chOff x="6229440" y="1238400"/>
            <a:chExt cx="796320" cy="1063080"/>
          </a:xfrm>
        </p:grpSpPr>
        <p:sp>
          <p:nvSpPr>
            <p:cNvPr id="214" name="Oval 92"/>
            <p:cNvSpPr/>
            <p:nvPr/>
          </p:nvSpPr>
          <p:spPr>
            <a:xfrm>
              <a:off x="6229440" y="1860480"/>
              <a:ext cx="199800" cy="19944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95"/>
            <p:cNvSpPr/>
            <p:nvPr/>
          </p:nvSpPr>
          <p:spPr>
            <a:xfrm>
              <a:off x="6826320" y="1238400"/>
              <a:ext cx="199440" cy="1998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96"/>
            <p:cNvSpPr/>
            <p:nvPr/>
          </p:nvSpPr>
          <p:spPr>
            <a:xfrm>
              <a:off x="6826320" y="2101680"/>
              <a:ext cx="199440" cy="1998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99"/>
          <p:cNvGrpSpPr/>
          <p:nvPr/>
        </p:nvGrpSpPr>
        <p:grpSpPr>
          <a:xfrm>
            <a:off x="5856120" y="1252440"/>
            <a:ext cx="1644840" cy="1278000"/>
            <a:chOff x="5856120" y="1252440"/>
            <a:chExt cx="1644840" cy="1278000"/>
          </a:xfrm>
        </p:grpSpPr>
        <p:sp>
          <p:nvSpPr>
            <p:cNvPr id="218" name="Oval 78"/>
            <p:cNvSpPr/>
            <p:nvPr/>
          </p:nvSpPr>
          <p:spPr>
            <a:xfrm>
              <a:off x="7321680" y="2022480"/>
              <a:ext cx="179280" cy="16992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79"/>
            <p:cNvSpPr/>
            <p:nvPr/>
          </p:nvSpPr>
          <p:spPr>
            <a:xfrm>
              <a:off x="5856120" y="2360520"/>
              <a:ext cx="179640" cy="16992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80"/>
            <p:cNvSpPr/>
            <p:nvPr/>
          </p:nvSpPr>
          <p:spPr>
            <a:xfrm>
              <a:off x="6821640" y="2131920"/>
              <a:ext cx="179280" cy="16992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1"/>
            <p:cNvSpPr/>
            <p:nvPr/>
          </p:nvSpPr>
          <p:spPr>
            <a:xfrm>
              <a:off x="6821640" y="1252440"/>
              <a:ext cx="179280" cy="16992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5"/>
          <p:cNvSpPr/>
          <p:nvPr/>
        </p:nvSpPr>
        <p:spPr>
          <a:xfrm>
            <a:off x="1492200" y="1284120"/>
            <a:ext cx="7299360" cy="1989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4"/>
          <p:cNvSpPr/>
          <p:nvPr/>
        </p:nvSpPr>
        <p:spPr>
          <a:xfrm>
            <a:off x="1647000" y="1476360"/>
            <a:ext cx="700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undefined concept in geometry is the idea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int on a l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betw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ther points on th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is idea to define other important ter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o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6"/>
          <p:cNvGrpSpPr/>
          <p:nvPr/>
        </p:nvGrpSpPr>
        <p:grpSpPr>
          <a:xfrm>
            <a:off x="195120" y="195120"/>
            <a:ext cx="6992280" cy="446400"/>
            <a:chOff x="195120" y="195120"/>
            <a:chExt cx="6992280" cy="446400"/>
          </a:xfrm>
        </p:grpSpPr>
        <p:pic>
          <p:nvPicPr>
            <p:cNvPr id="226" name="Picture 17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8"/>
            <p:cNvSpPr/>
            <p:nvPr/>
          </p:nvSpPr>
          <p:spPr>
            <a:xfrm>
              <a:off x="1346400" y="206280"/>
              <a:ext cx="5841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TERMS AND D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19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036" descr="thumbnail"/>
          <p:cNvPicPr/>
          <p:nvPr/>
        </p:nvPicPr>
        <p:blipFill>
          <a:blip r:embed="rId3"/>
          <a:stretch/>
        </p:blipFill>
        <p:spPr>
          <a:xfrm>
            <a:off x="5618160" y="375444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1370160" y="3832200"/>
            <a:ext cx="128880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30"/>
          <p:cNvGrpSpPr/>
          <p:nvPr/>
        </p:nvGrpSpPr>
        <p:grpSpPr>
          <a:xfrm>
            <a:off x="1941480" y="2975040"/>
            <a:ext cx="3141720" cy="352440"/>
            <a:chOff x="1941480" y="2975040"/>
            <a:chExt cx="3141720" cy="352440"/>
          </a:xfrm>
        </p:grpSpPr>
        <p:sp>
          <p:nvSpPr>
            <p:cNvPr id="232" name="Rectangle 12"/>
            <p:cNvSpPr/>
            <p:nvPr/>
          </p:nvSpPr>
          <p:spPr>
            <a:xfrm>
              <a:off x="3892680" y="2975040"/>
              <a:ext cx="1190520" cy="3445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1941480" y="2983320"/>
              <a:ext cx="1633680" cy="3441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Rectangle 2"/>
          <p:cNvSpPr/>
          <p:nvPr/>
        </p:nvSpPr>
        <p:spPr>
          <a:xfrm>
            <a:off x="2895480" y="917640"/>
            <a:ext cx="646200" cy="344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8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"/>
          <p:cNvPicPr/>
          <p:nvPr/>
        </p:nvPicPr>
        <p:blipFill>
          <a:blip r:embed="rId2"/>
          <a:stretch/>
        </p:blipFill>
        <p:spPr>
          <a:xfrm>
            <a:off x="5708520" y="1498680"/>
            <a:ext cx="3062520" cy="9763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6"/>
          <p:cNvSpPr/>
          <p:nvPr/>
        </p:nvSpPr>
        <p:spPr>
          <a:xfrm>
            <a:off x="5549760" y="1549440"/>
            <a:ext cx="33274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3" descr=""/>
          <p:cNvPicPr/>
          <p:nvPr/>
        </p:nvPicPr>
        <p:blipFill>
          <a:blip r:embed="rId3"/>
          <a:stretch/>
        </p:blipFill>
        <p:spPr>
          <a:xfrm>
            <a:off x="6337440" y="1460520"/>
            <a:ext cx="1633320" cy="103032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31"/>
          <p:cNvGrpSpPr/>
          <p:nvPr/>
        </p:nvGrpSpPr>
        <p:grpSpPr>
          <a:xfrm>
            <a:off x="1346760" y="2870280"/>
            <a:ext cx="4779720" cy="1836360"/>
            <a:chOff x="1346760" y="2870280"/>
            <a:chExt cx="4779720" cy="1836360"/>
          </a:xfrm>
        </p:grpSpPr>
        <p:sp>
          <p:nvSpPr>
            <p:cNvPr id="240" name="Rectangle 10"/>
            <p:cNvSpPr/>
            <p:nvPr/>
          </p:nvSpPr>
          <p:spPr>
            <a:xfrm>
              <a:off x="1346760" y="2870280"/>
              <a:ext cx="4779720" cy="18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e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line segment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or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egment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symbolized by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 consists of the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endpoints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and all points on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at are between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3261960" y="342612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>
              <a:off x="5702040" y="38354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Rectangle 24"/>
          <p:cNvSpPr/>
          <p:nvPr/>
        </p:nvSpPr>
        <p:spPr>
          <a:xfrm rot="5400">
            <a:off x="6435360" y="1914480"/>
            <a:ext cx="1433520" cy="1508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28"/>
          <p:cNvGrpSpPr/>
          <p:nvPr/>
        </p:nvGrpSpPr>
        <p:grpSpPr>
          <a:xfrm>
            <a:off x="6432480" y="1914480"/>
            <a:ext cx="1447920" cy="162000"/>
            <a:chOff x="6432480" y="1914480"/>
            <a:chExt cx="1447920" cy="162000"/>
          </a:xfrm>
        </p:grpSpPr>
        <p:sp>
          <p:nvSpPr>
            <p:cNvPr id="245" name="Oval 26"/>
            <p:cNvSpPr/>
            <p:nvPr/>
          </p:nvSpPr>
          <p:spPr>
            <a:xfrm>
              <a:off x="6432480" y="1917720"/>
              <a:ext cx="162000" cy="15876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27"/>
            <p:cNvSpPr/>
            <p:nvPr/>
          </p:nvSpPr>
          <p:spPr>
            <a:xfrm>
              <a:off x="7718400" y="1914480"/>
              <a:ext cx="162000" cy="15876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32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248" name="Picture 33" descr=""/>
            <p:cNvPicPr/>
            <p:nvPr/>
          </p:nvPicPr>
          <p:blipFill>
            <a:blip r:embed="rId4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34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Line 35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42"/>
          <p:cNvGrpSpPr/>
          <p:nvPr/>
        </p:nvGrpSpPr>
        <p:grpSpPr>
          <a:xfrm>
            <a:off x="1335240" y="878040"/>
            <a:ext cx="5033160" cy="764280"/>
            <a:chOff x="1335240" y="878040"/>
            <a:chExt cx="5033160" cy="764280"/>
          </a:xfrm>
        </p:grpSpPr>
        <p:sp>
          <p:nvSpPr>
            <p:cNvPr id="252" name="Rectangle 3"/>
            <p:cNvSpPr/>
            <p:nvPr/>
          </p:nvSpPr>
          <p:spPr>
            <a:xfrm>
              <a:off x="1335240" y="878040"/>
              <a:ext cx="50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onsider the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line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(symbolized by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41"/>
            <p:cNvSpPr/>
            <p:nvPr/>
          </p:nvSpPr>
          <p:spPr>
            <a:xfrm>
              <a:off x="5791320" y="91440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4" name="Picture 44" descr="thumbnail"/>
          <p:cNvPicPr/>
          <p:nvPr/>
        </p:nvPicPr>
        <p:blipFill>
          <a:blip r:embed="rId5"/>
          <a:stretch/>
        </p:blipFill>
        <p:spPr>
          <a:xfrm>
            <a:off x="6048360" y="40924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9"/>
          <p:cNvSpPr/>
          <p:nvPr/>
        </p:nvSpPr>
        <p:spPr>
          <a:xfrm>
            <a:off x="2263680" y="1368360"/>
            <a:ext cx="1487520" cy="344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2048040" y="961920"/>
            <a:ext cx="534960" cy="344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0"/>
          <p:cNvSpPr/>
          <p:nvPr/>
        </p:nvSpPr>
        <p:spPr>
          <a:xfrm>
            <a:off x="4857840" y="965160"/>
            <a:ext cx="215640" cy="317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d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1445400" y="873000"/>
            <a:ext cx="50068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ymbolized by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consi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 the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itial 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ll points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at lie on the same side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poi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8" descr=""/>
          <p:cNvPicPr/>
          <p:nvPr/>
        </p:nvPicPr>
        <p:blipFill>
          <a:blip r:embed="rId1"/>
          <a:stretch/>
        </p:blipFill>
        <p:spPr>
          <a:xfrm>
            <a:off x="0" y="618012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"/>
          <p:cNvPicPr/>
          <p:nvPr/>
        </p:nvPicPr>
        <p:blipFill>
          <a:blip r:embed="rId2"/>
          <a:stretch/>
        </p:blipFill>
        <p:spPr>
          <a:xfrm>
            <a:off x="5950080" y="2087640"/>
            <a:ext cx="2743200" cy="1104840"/>
          </a:xfrm>
          <a:prstGeom prst="rect">
            <a:avLst/>
          </a:prstGeom>
          <a:ln w="0">
            <a:noFill/>
          </a:ln>
        </p:spPr>
      </p:pic>
      <p:sp>
        <p:nvSpPr>
          <p:cNvPr id="261" name="Line 14"/>
          <p:cNvSpPr/>
          <p:nvPr/>
        </p:nvSpPr>
        <p:spPr>
          <a:xfrm>
            <a:off x="4863960" y="939960"/>
            <a:ext cx="34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5" descr=""/>
          <p:cNvPicPr/>
          <p:nvPr/>
        </p:nvPicPr>
        <p:blipFill>
          <a:blip r:embed="rId3"/>
          <a:stretch/>
        </p:blipFill>
        <p:spPr>
          <a:xfrm>
            <a:off x="6006960" y="5029200"/>
            <a:ext cx="2476800" cy="1104840"/>
          </a:xfrm>
          <a:prstGeom prst="rect">
            <a:avLst/>
          </a:prstGeom>
          <a:ln w="0">
            <a:noFill/>
          </a:ln>
        </p:spPr>
      </p:pic>
      <p:sp>
        <p:nvSpPr>
          <p:cNvPr id="263" name="Line 20"/>
          <p:cNvSpPr/>
          <p:nvPr/>
        </p:nvSpPr>
        <p:spPr>
          <a:xfrm>
            <a:off x="6045120" y="1346040"/>
            <a:ext cx="34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arrow" w="med"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41" descr=""/>
          <p:cNvPicPr/>
          <p:nvPr/>
        </p:nvPicPr>
        <p:blipFill>
          <a:blip r:embed="rId4"/>
          <a:stretch/>
        </p:blipFill>
        <p:spPr>
          <a:xfrm>
            <a:off x="5688000" y="3606840"/>
            <a:ext cx="3062160" cy="97632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34"/>
          <p:cNvGrpSpPr/>
          <p:nvPr/>
        </p:nvGrpSpPr>
        <p:grpSpPr>
          <a:xfrm>
            <a:off x="1451160" y="3332160"/>
            <a:ext cx="4601520" cy="898200"/>
            <a:chOff x="1451160" y="3332160"/>
            <a:chExt cx="4601520" cy="898200"/>
          </a:xfrm>
        </p:grpSpPr>
        <p:sp>
          <p:nvSpPr>
            <p:cNvPr id="266" name="Rectangle 16"/>
            <p:cNvSpPr/>
            <p:nvPr/>
          </p:nvSpPr>
          <p:spPr>
            <a:xfrm>
              <a:off x="1451160" y="3332160"/>
              <a:ext cx="460152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ote that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is the same as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and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s the same as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1"/>
            <p:cNvSpPr/>
            <p:nvPr/>
          </p:nvSpPr>
          <p:spPr>
            <a:xfrm>
              <a:off x="2654280" y="341640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2"/>
            <p:cNvSpPr/>
            <p:nvPr/>
          </p:nvSpPr>
          <p:spPr>
            <a:xfrm>
              <a:off x="4686480" y="34034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3"/>
            <p:cNvSpPr/>
            <p:nvPr/>
          </p:nvSpPr>
          <p:spPr>
            <a:xfrm>
              <a:off x="5638680" y="341640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4"/>
            <p:cNvSpPr/>
            <p:nvPr/>
          </p:nvSpPr>
          <p:spPr>
            <a:xfrm>
              <a:off x="3174840" y="380988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Rectangle 42"/>
          <p:cNvSpPr/>
          <p:nvPr/>
        </p:nvSpPr>
        <p:spPr>
          <a:xfrm>
            <a:off x="3594240" y="4616280"/>
            <a:ext cx="203040" cy="26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767d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35"/>
          <p:cNvGrpSpPr/>
          <p:nvPr/>
        </p:nvGrpSpPr>
        <p:grpSpPr>
          <a:xfrm>
            <a:off x="1450440" y="4525920"/>
            <a:ext cx="4561560" cy="1099440"/>
            <a:chOff x="1450440" y="4525920"/>
            <a:chExt cx="4561560" cy="1099440"/>
          </a:xfrm>
        </p:grpSpPr>
        <p:sp>
          <p:nvSpPr>
            <p:cNvPr id="273" name="Rectangle 17"/>
            <p:cNvSpPr/>
            <p:nvPr/>
          </p:nvSpPr>
          <p:spPr>
            <a:xfrm>
              <a:off x="1450440" y="4525920"/>
              <a:ext cx="4561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However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re not the same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ey have different initial points and 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extend in different direction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5"/>
            <p:cNvSpPr/>
            <p:nvPr/>
          </p:nvSpPr>
          <p:spPr>
            <a:xfrm>
              <a:off x="2692440" y="45590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26"/>
            <p:cNvSpPr/>
            <p:nvPr/>
          </p:nvSpPr>
          <p:spPr>
            <a:xfrm>
              <a:off x="3594240" y="45716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Oval 32"/>
          <p:cNvSpPr/>
          <p:nvPr/>
        </p:nvSpPr>
        <p:spPr>
          <a:xfrm>
            <a:off x="6058080" y="2565360"/>
            <a:ext cx="177480" cy="177840"/>
          </a:xfrm>
          <a:prstGeom prst="ellipse">
            <a:avLst/>
          </a:prstGeom>
          <a:solidFill>
            <a:srgbClr val="fe00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33"/>
          <p:cNvSpPr/>
          <p:nvPr/>
        </p:nvSpPr>
        <p:spPr>
          <a:xfrm>
            <a:off x="8204040" y="5511960"/>
            <a:ext cx="177840" cy="177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Group 36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279" name="Picture 37" descr=""/>
            <p:cNvPicPr/>
            <p:nvPr/>
          </p:nvPicPr>
          <p:blipFill>
            <a:blip r:embed="rId5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38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Line 39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990720" y="1066680"/>
            <a:ext cx="739116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EOMET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Line 3"/>
          <p:cNvSpPr/>
          <p:nvPr/>
        </p:nvSpPr>
        <p:spPr>
          <a:xfrm>
            <a:off x="1219320" y="48006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65760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5410080" y="4267080"/>
            <a:ext cx="9907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990720" y="380880"/>
            <a:ext cx="205740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6781680" y="4724280"/>
            <a:ext cx="1752840" cy="838440"/>
          </a:xfrm>
          <a:custGeom>
            <a:avLst/>
            <a:gdLst>
              <a:gd name="textAreaLeft" fmla="*/ 365040 w 1752840"/>
              <a:gd name="textAreaRight" fmla="*/ 1387800 w 1752840"/>
              <a:gd name="textAreaTop" fmla="*/ 174600 h 838440"/>
              <a:gd name="textAreaBottom" fmla="*/ 663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1981080" y="4114800"/>
            <a:ext cx="1067040" cy="990720"/>
          </a:xfrm>
          <a:prstGeom prst="hexagon">
            <a:avLst>
              <a:gd name="adj" fmla="val 26926"/>
              <a:gd name="vf" fmla="val 1154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4038480" y="5562720"/>
            <a:ext cx="1219320" cy="990360"/>
          </a:xfrm>
          <a:prstGeom prst="rtTriangl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609480" y="51814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5334120" y="380880"/>
            <a:ext cx="2133360" cy="533520"/>
          </a:xfrm>
          <a:prstGeom prst="parallelogram">
            <a:avLst>
              <a:gd name="adj" fmla="val 999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4038480" y="304920"/>
            <a:ext cx="838440" cy="609480"/>
          </a:xfrm>
          <a:prstGeom prst="diamond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2"/>
          <p:cNvSpPr/>
          <p:nvPr/>
        </p:nvSpPr>
        <p:spPr>
          <a:xfrm>
            <a:off x="2746440" y="1457280"/>
            <a:ext cx="1779480" cy="344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2"/>
          <a:srcRect l="13554" t="0" r="21985" b="59774"/>
          <a:stretch/>
        </p:blipFill>
        <p:spPr>
          <a:xfrm>
            <a:off x="5727600" y="1663560"/>
            <a:ext cx="2235240" cy="4446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8"/>
          <p:cNvSpPr/>
          <p:nvPr/>
        </p:nvSpPr>
        <p:spPr>
          <a:xfrm>
            <a:off x="1355760" y="947880"/>
            <a:ext cx="4197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betwe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200" spc="-1" strike="noStrike">
                <a:solidFill>
                  <a:srgbClr val="fe000d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posite ray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4826160" y="101592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1943280" y="143496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23"/>
          <p:cNvGrpSpPr/>
          <p:nvPr/>
        </p:nvGrpSpPr>
        <p:grpSpPr>
          <a:xfrm>
            <a:off x="6908760" y="2324160"/>
            <a:ext cx="1841400" cy="673200"/>
            <a:chOff x="6908760" y="2324160"/>
            <a:chExt cx="1841400" cy="673200"/>
          </a:xfrm>
        </p:grpSpPr>
        <p:pic>
          <p:nvPicPr>
            <p:cNvPr id="289" name="Picture 14" descr=""/>
            <p:cNvPicPr/>
            <p:nvPr/>
          </p:nvPicPr>
          <p:blipFill>
            <a:blip r:embed="rId3"/>
            <a:srcRect l="62093" t="62076" r="28215" b="0"/>
            <a:stretch/>
          </p:blipFill>
          <p:spPr>
            <a:xfrm>
              <a:off x="7232400" y="2578320"/>
              <a:ext cx="33660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Line 17"/>
            <p:cNvSpPr/>
            <p:nvPr/>
          </p:nvSpPr>
          <p:spPr>
            <a:xfrm>
              <a:off x="6908760" y="2413080"/>
              <a:ext cx="184140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7315200" y="2324160"/>
              <a:ext cx="177840" cy="1778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24"/>
          <p:cNvGrpSpPr/>
          <p:nvPr/>
        </p:nvGrpSpPr>
        <p:grpSpPr>
          <a:xfrm>
            <a:off x="5130720" y="2324160"/>
            <a:ext cx="1790640" cy="659880"/>
            <a:chOff x="5130720" y="2324160"/>
            <a:chExt cx="1790640" cy="659880"/>
          </a:xfrm>
        </p:grpSpPr>
        <p:pic>
          <p:nvPicPr>
            <p:cNvPr id="293" name="Picture 13" descr=""/>
            <p:cNvPicPr/>
            <p:nvPr/>
          </p:nvPicPr>
          <p:blipFill>
            <a:blip r:embed="rId4"/>
            <a:srcRect l="21252" t="60947" r="68877" b="0"/>
            <a:stretch/>
          </p:blipFill>
          <p:spPr>
            <a:xfrm>
              <a:off x="5842080" y="2552400"/>
              <a:ext cx="342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Line 16"/>
            <p:cNvSpPr/>
            <p:nvPr/>
          </p:nvSpPr>
          <p:spPr>
            <a:xfrm flipH="1">
              <a:off x="5130720" y="2412720"/>
              <a:ext cx="1790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20"/>
            <p:cNvSpPr/>
            <p:nvPr/>
          </p:nvSpPr>
          <p:spPr>
            <a:xfrm>
              <a:off x="5956200" y="2324160"/>
              <a:ext cx="177840" cy="1774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2"/>
          <p:cNvGrpSpPr/>
          <p:nvPr/>
        </p:nvGrpSpPr>
        <p:grpSpPr>
          <a:xfrm>
            <a:off x="6788160" y="2324160"/>
            <a:ext cx="234720" cy="685800"/>
            <a:chOff x="6788160" y="2324160"/>
            <a:chExt cx="234720" cy="685800"/>
          </a:xfrm>
        </p:grpSpPr>
        <p:sp>
          <p:nvSpPr>
            <p:cNvPr id="297" name="Oval 19"/>
            <p:cNvSpPr/>
            <p:nvPr/>
          </p:nvSpPr>
          <p:spPr>
            <a:xfrm>
              <a:off x="6819840" y="2324160"/>
              <a:ext cx="17784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Picture 21" descr=""/>
            <p:cNvPicPr/>
            <p:nvPr/>
          </p:nvPicPr>
          <p:blipFill>
            <a:blip r:embed="rId5"/>
            <a:srcRect l="50007" t="62076" r="43237" b="0"/>
            <a:stretch/>
          </p:blipFill>
          <p:spPr>
            <a:xfrm>
              <a:off x="6788160" y="2590920"/>
              <a:ext cx="23472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Rectangle 25"/>
          <p:cNvSpPr/>
          <p:nvPr/>
        </p:nvSpPr>
        <p:spPr>
          <a:xfrm>
            <a:off x="1120680" y="3578400"/>
            <a:ext cx="7392960" cy="181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1282680" y="3705120"/>
            <a:ext cx="701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points, segments and rays are collinear if they l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same plane. So, any two opposite ray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near. Segments, rays, and lines are coplanar if the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 on the sam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27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302" name="Picture 28" descr=""/>
            <p:cNvPicPr/>
            <p:nvPr/>
          </p:nvPicPr>
          <p:blipFill>
            <a:blip r:embed="rId6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29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Line 30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35"/>
          <p:cNvSpPr/>
          <p:nvPr/>
        </p:nvSpPr>
        <p:spPr>
          <a:xfrm flipH="1">
            <a:off x="4762080" y="4106880"/>
            <a:ext cx="2700360" cy="495360"/>
          </a:xfrm>
          <a:prstGeom prst="line">
            <a:avLst/>
          </a:prstGeom>
          <a:ln w="50760">
            <a:solidFill>
              <a:srgbClr val="05875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4"/>
          <p:cNvSpPr/>
          <p:nvPr/>
        </p:nvSpPr>
        <p:spPr>
          <a:xfrm>
            <a:off x="6553080" y="2692440"/>
            <a:ext cx="932040" cy="1414440"/>
          </a:xfrm>
          <a:prstGeom prst="line">
            <a:avLst/>
          </a:prstGeom>
          <a:ln w="50760">
            <a:solidFill>
              <a:srgbClr val="08b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3"/>
          <p:cNvGrpSpPr/>
          <p:nvPr/>
        </p:nvGrpSpPr>
        <p:grpSpPr>
          <a:xfrm>
            <a:off x="177840" y="117360"/>
            <a:ext cx="5483520" cy="460440"/>
            <a:chOff x="177840" y="117360"/>
            <a:chExt cx="5483520" cy="460440"/>
          </a:xfrm>
        </p:grpSpPr>
        <p:sp>
          <p:nvSpPr>
            <p:cNvPr id="309" name="Text Box 4"/>
            <p:cNvSpPr/>
            <p:nvPr/>
          </p:nvSpPr>
          <p:spPr>
            <a:xfrm>
              <a:off x="1554840" y="154080"/>
              <a:ext cx="410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awing Lines, Segments, and R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0" name="Picture 5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Line 6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Group 7"/>
          <p:cNvGrpSpPr/>
          <p:nvPr/>
        </p:nvGrpSpPr>
        <p:grpSpPr>
          <a:xfrm>
            <a:off x="1549440" y="2882160"/>
            <a:ext cx="304920" cy="368280"/>
            <a:chOff x="1549440" y="2882160"/>
            <a:chExt cx="304920" cy="368280"/>
          </a:xfrm>
        </p:grpSpPr>
        <p:sp>
          <p:nvSpPr>
            <p:cNvPr id="313" name="Oval 8"/>
            <p:cNvSpPr/>
            <p:nvPr/>
          </p:nvSpPr>
          <p:spPr>
            <a:xfrm>
              <a:off x="1549440" y="290808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9"/>
            <p:cNvSpPr/>
            <p:nvPr/>
          </p:nvSpPr>
          <p:spPr>
            <a:xfrm>
              <a:off x="1549440" y="28821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10"/>
          <p:cNvGrpSpPr/>
          <p:nvPr/>
        </p:nvGrpSpPr>
        <p:grpSpPr>
          <a:xfrm>
            <a:off x="1549440" y="3458520"/>
            <a:ext cx="304920" cy="368280"/>
            <a:chOff x="1549440" y="3458520"/>
            <a:chExt cx="304920" cy="368280"/>
          </a:xfrm>
        </p:grpSpPr>
        <p:sp>
          <p:nvSpPr>
            <p:cNvPr id="316" name="Oval 11"/>
            <p:cNvSpPr/>
            <p:nvPr/>
          </p:nvSpPr>
          <p:spPr>
            <a:xfrm>
              <a:off x="1549440" y="348444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12"/>
            <p:cNvSpPr/>
            <p:nvPr/>
          </p:nvSpPr>
          <p:spPr>
            <a:xfrm>
              <a:off x="1549440" y="34585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13"/>
          <p:cNvGrpSpPr/>
          <p:nvPr/>
        </p:nvGrpSpPr>
        <p:grpSpPr>
          <a:xfrm>
            <a:off x="1549440" y="3988800"/>
            <a:ext cx="304920" cy="368280"/>
            <a:chOff x="1549440" y="3988800"/>
            <a:chExt cx="304920" cy="368280"/>
          </a:xfrm>
        </p:grpSpPr>
        <p:sp>
          <p:nvSpPr>
            <p:cNvPr id="319" name="Oval 14"/>
            <p:cNvSpPr/>
            <p:nvPr/>
          </p:nvSpPr>
          <p:spPr>
            <a:xfrm>
              <a:off x="1549440" y="401472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5"/>
            <p:cNvSpPr/>
            <p:nvPr/>
          </p:nvSpPr>
          <p:spPr>
            <a:xfrm>
              <a:off x="1549440" y="39888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6"/>
          <p:cNvGrpSpPr/>
          <p:nvPr/>
        </p:nvGrpSpPr>
        <p:grpSpPr>
          <a:xfrm>
            <a:off x="1549440" y="4521960"/>
            <a:ext cx="304920" cy="368280"/>
            <a:chOff x="1549440" y="4521960"/>
            <a:chExt cx="304920" cy="368280"/>
          </a:xfrm>
        </p:grpSpPr>
        <p:sp>
          <p:nvSpPr>
            <p:cNvPr id="322" name="Oval 17"/>
            <p:cNvSpPr/>
            <p:nvPr/>
          </p:nvSpPr>
          <p:spPr>
            <a:xfrm>
              <a:off x="1549440" y="454788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18"/>
            <p:cNvSpPr/>
            <p:nvPr/>
          </p:nvSpPr>
          <p:spPr>
            <a:xfrm>
              <a:off x="1549440" y="45219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Text Box 19"/>
          <p:cNvSpPr/>
          <p:nvPr/>
        </p:nvSpPr>
        <p:spPr>
          <a:xfrm>
            <a:off x="1558800" y="808200"/>
            <a:ext cx="6181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three noncollinear point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n draw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K,  K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0"/>
          <p:cNvSpPr/>
          <p:nvPr/>
        </p:nvSpPr>
        <p:spPr>
          <a:xfrm>
            <a:off x="4348080" y="1397160"/>
            <a:ext cx="34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1"/>
          <p:cNvSpPr/>
          <p:nvPr/>
        </p:nvSpPr>
        <p:spPr>
          <a:xfrm>
            <a:off x="3454560" y="140976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2"/>
          <p:cNvSpPr/>
          <p:nvPr/>
        </p:nvSpPr>
        <p:spPr>
          <a:xfrm>
            <a:off x="2959200" y="139716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9"/>
          <p:cNvSpPr/>
          <p:nvPr/>
        </p:nvSpPr>
        <p:spPr>
          <a:xfrm>
            <a:off x="1546200" y="206532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0"/>
          <p:cNvSpPr/>
          <p:nvPr/>
        </p:nvSpPr>
        <p:spPr>
          <a:xfrm>
            <a:off x="1542960" y="20890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2"/>
          <p:cNvSpPr/>
          <p:nvPr/>
        </p:nvSpPr>
        <p:spPr>
          <a:xfrm flipV="1">
            <a:off x="4979880" y="2120760"/>
            <a:ext cx="1984320" cy="2826000"/>
          </a:xfrm>
          <a:prstGeom prst="line">
            <a:avLst/>
          </a:prstGeom>
          <a:ln w="50760">
            <a:solidFill>
              <a:srgbClr val="fe000d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1974960" y="2819520"/>
            <a:ext cx="20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Group 53"/>
          <p:cNvGrpSpPr/>
          <p:nvPr/>
        </p:nvGrpSpPr>
        <p:grpSpPr>
          <a:xfrm>
            <a:off x="1975680" y="3406680"/>
            <a:ext cx="1248840" cy="429120"/>
            <a:chOff x="1975680" y="3406680"/>
            <a:chExt cx="1248840" cy="429120"/>
          </a:xfrm>
        </p:grpSpPr>
        <p:sp>
          <p:nvSpPr>
            <p:cNvPr id="333" name="Rectangle 37"/>
            <p:cNvSpPr/>
            <p:nvPr/>
          </p:nvSpPr>
          <p:spPr>
            <a:xfrm>
              <a:off x="1975680" y="3406680"/>
              <a:ext cx="1248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raw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JK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40"/>
            <p:cNvSpPr/>
            <p:nvPr/>
          </p:nvSpPr>
          <p:spPr>
            <a:xfrm>
              <a:off x="2778120" y="3414600"/>
              <a:ext cx="345960" cy="0"/>
            </a:xfrm>
            <a:prstGeom prst="line">
              <a:avLst/>
            </a:prstGeom>
            <a:ln w="19080">
              <a:solidFill>
                <a:srgbClr val="fe000d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Group 55"/>
          <p:cNvGrpSpPr/>
          <p:nvPr/>
        </p:nvGrpSpPr>
        <p:grpSpPr>
          <a:xfrm>
            <a:off x="1975680" y="4484520"/>
            <a:ext cx="1218600" cy="432360"/>
            <a:chOff x="1975680" y="4484520"/>
            <a:chExt cx="1218600" cy="432360"/>
          </a:xfrm>
        </p:grpSpPr>
        <p:sp>
          <p:nvSpPr>
            <p:cNvPr id="336" name="Rectangle 39"/>
            <p:cNvSpPr/>
            <p:nvPr/>
          </p:nvSpPr>
          <p:spPr>
            <a:xfrm>
              <a:off x="1975680" y="4487760"/>
              <a:ext cx="1218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raw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LJ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42"/>
            <p:cNvSpPr/>
            <p:nvPr/>
          </p:nvSpPr>
          <p:spPr>
            <a:xfrm>
              <a:off x="2755800" y="4484520"/>
              <a:ext cx="346320" cy="0"/>
            </a:xfrm>
            <a:prstGeom prst="line">
              <a:avLst/>
            </a:prstGeom>
            <a:ln w="19080">
              <a:solidFill>
                <a:srgbClr val="05875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48"/>
          <p:cNvGrpSpPr/>
          <p:nvPr/>
        </p:nvGrpSpPr>
        <p:grpSpPr>
          <a:xfrm>
            <a:off x="4877280" y="2227320"/>
            <a:ext cx="2886840" cy="2502720"/>
            <a:chOff x="4877280" y="2227320"/>
            <a:chExt cx="2886840" cy="2502720"/>
          </a:xfrm>
        </p:grpSpPr>
        <p:sp>
          <p:nvSpPr>
            <p:cNvPr id="339" name="Text Box 25"/>
            <p:cNvSpPr/>
            <p:nvPr/>
          </p:nvSpPr>
          <p:spPr>
            <a:xfrm>
              <a:off x="6117120" y="222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7397640" y="4270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3"/>
            <p:cNvSpPr/>
            <p:nvPr/>
          </p:nvSpPr>
          <p:spPr>
            <a:xfrm>
              <a:off x="4877280" y="392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4"/>
            <p:cNvSpPr/>
            <p:nvPr/>
          </p:nvSpPr>
          <p:spPr>
            <a:xfrm>
              <a:off x="6477120" y="2603520"/>
              <a:ext cx="17784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6"/>
            <p:cNvSpPr/>
            <p:nvPr/>
          </p:nvSpPr>
          <p:spPr>
            <a:xfrm>
              <a:off x="7378560" y="4013280"/>
              <a:ext cx="17784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7"/>
            <p:cNvSpPr/>
            <p:nvPr/>
          </p:nvSpPr>
          <p:spPr>
            <a:xfrm>
              <a:off x="5181480" y="4419720"/>
              <a:ext cx="17784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54"/>
          <p:cNvGrpSpPr/>
          <p:nvPr/>
        </p:nvGrpSpPr>
        <p:grpSpPr>
          <a:xfrm>
            <a:off x="1975680" y="3935520"/>
            <a:ext cx="1280880" cy="429120"/>
            <a:chOff x="1975680" y="3935520"/>
            <a:chExt cx="1280880" cy="429120"/>
          </a:xfrm>
        </p:grpSpPr>
        <p:sp>
          <p:nvSpPr>
            <p:cNvPr id="346" name="Rectangle 38"/>
            <p:cNvSpPr/>
            <p:nvPr/>
          </p:nvSpPr>
          <p:spPr>
            <a:xfrm>
              <a:off x="1975680" y="3935520"/>
              <a:ext cx="12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raw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KL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50"/>
            <p:cNvSpPr/>
            <p:nvPr/>
          </p:nvSpPr>
          <p:spPr>
            <a:xfrm>
              <a:off x="2768760" y="3962520"/>
              <a:ext cx="3459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71"/>
          <p:cNvGrpSpPr/>
          <p:nvPr/>
        </p:nvGrpSpPr>
        <p:grpSpPr>
          <a:xfrm>
            <a:off x="2236680" y="5411880"/>
            <a:ext cx="1714680" cy="512640"/>
            <a:chOff x="2236680" y="5411880"/>
            <a:chExt cx="1714680" cy="512640"/>
          </a:xfrm>
        </p:grpSpPr>
        <p:sp>
          <p:nvSpPr>
            <p:cNvPr id="349" name="Rectangle 58"/>
            <p:cNvSpPr/>
            <p:nvPr/>
          </p:nvSpPr>
          <p:spPr>
            <a:xfrm>
              <a:off x="2236680" y="5411880"/>
              <a:ext cx="609840" cy="512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59"/>
            <p:cNvSpPr/>
            <p:nvPr/>
          </p:nvSpPr>
          <p:spPr>
            <a:xfrm>
              <a:off x="3387600" y="5416560"/>
              <a:ext cx="563760" cy="477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64"/>
          <p:cNvGrpSpPr/>
          <p:nvPr/>
        </p:nvGrpSpPr>
        <p:grpSpPr>
          <a:xfrm>
            <a:off x="2173320" y="3672000"/>
            <a:ext cx="1735200" cy="512640"/>
            <a:chOff x="2173320" y="3672000"/>
            <a:chExt cx="1735200" cy="512640"/>
          </a:xfrm>
        </p:grpSpPr>
        <p:sp>
          <p:nvSpPr>
            <p:cNvPr id="352" name="Rectangle 45"/>
            <p:cNvSpPr/>
            <p:nvPr/>
          </p:nvSpPr>
          <p:spPr>
            <a:xfrm>
              <a:off x="2173320" y="3672000"/>
              <a:ext cx="609480" cy="512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48"/>
            <p:cNvSpPr/>
            <p:nvPr/>
          </p:nvSpPr>
          <p:spPr>
            <a:xfrm>
              <a:off x="3344760" y="3689280"/>
              <a:ext cx="563760" cy="478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177840" y="117360"/>
            <a:ext cx="4124880" cy="460440"/>
            <a:chOff x="177840" y="117360"/>
            <a:chExt cx="4124880" cy="460440"/>
          </a:xfrm>
        </p:grpSpPr>
        <p:sp>
          <p:nvSpPr>
            <p:cNvPr id="356" name="Text Box 4"/>
            <p:cNvSpPr/>
            <p:nvPr/>
          </p:nvSpPr>
          <p:spPr>
            <a:xfrm>
              <a:off x="1555560" y="15408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awing Opposite R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" name="Picture 5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Line 6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1622880" y="693720"/>
            <a:ext cx="641232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two lines. Label points on the lines and name 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irs of opposite ray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1628640" y="190980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1625760" y="193356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11" descr=""/>
          <p:cNvPicPr/>
          <p:nvPr/>
        </p:nvPicPr>
        <p:blipFill>
          <a:blip r:embed="rId3"/>
          <a:stretch/>
        </p:blipFill>
        <p:spPr>
          <a:xfrm>
            <a:off x="5486400" y="2209680"/>
            <a:ext cx="3086280" cy="203688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73"/>
          <p:cNvGrpSpPr/>
          <p:nvPr/>
        </p:nvGrpSpPr>
        <p:grpSpPr>
          <a:xfrm>
            <a:off x="5627520" y="2245680"/>
            <a:ext cx="2792880" cy="1845360"/>
            <a:chOff x="5627520" y="2245680"/>
            <a:chExt cx="2792880" cy="1845360"/>
          </a:xfrm>
        </p:grpSpPr>
        <p:sp>
          <p:nvSpPr>
            <p:cNvPr id="364" name="Rectangle 23"/>
            <p:cNvSpPr/>
            <p:nvPr/>
          </p:nvSpPr>
          <p:spPr>
            <a:xfrm rot="1939200">
              <a:off x="5546880" y="2677680"/>
              <a:ext cx="1670040" cy="1825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25"/>
            <p:cNvSpPr/>
            <p:nvPr/>
          </p:nvSpPr>
          <p:spPr>
            <a:xfrm rot="1939200">
              <a:off x="6881760" y="3527280"/>
              <a:ext cx="1627200" cy="139680"/>
            </a:xfrm>
            <a:prstGeom prst="rect">
              <a:avLst/>
            </a:prstGeom>
            <a:solidFill>
              <a:srgbClr val="08b3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72"/>
          <p:cNvGrpSpPr/>
          <p:nvPr/>
        </p:nvGrpSpPr>
        <p:grpSpPr>
          <a:xfrm>
            <a:off x="5595120" y="2252520"/>
            <a:ext cx="2815560" cy="1838520"/>
            <a:chOff x="5595120" y="2252520"/>
            <a:chExt cx="2815560" cy="1838520"/>
          </a:xfrm>
        </p:grpSpPr>
        <p:sp>
          <p:nvSpPr>
            <p:cNvPr id="367" name="Rectangle 39"/>
            <p:cNvSpPr/>
            <p:nvPr/>
          </p:nvSpPr>
          <p:spPr>
            <a:xfrm rot="19665000">
              <a:off x="5514480" y="3505320"/>
              <a:ext cx="1617840" cy="1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40"/>
            <p:cNvSpPr/>
            <p:nvPr/>
          </p:nvSpPr>
          <p:spPr>
            <a:xfrm rot="19635000">
              <a:off x="6892920" y="2678040"/>
              <a:ext cx="1611360" cy="127080"/>
            </a:xfrm>
            <a:prstGeom prst="rect">
              <a:avLst/>
            </a:prstGeom>
            <a:solidFill>
              <a:srgbClr val="08b3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Oval 42"/>
          <p:cNvSpPr/>
          <p:nvPr/>
        </p:nvSpPr>
        <p:spPr>
          <a:xfrm>
            <a:off x="6946920" y="309888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63"/>
          <p:cNvGrpSpPr/>
          <p:nvPr/>
        </p:nvGrpSpPr>
        <p:grpSpPr>
          <a:xfrm>
            <a:off x="5991120" y="2511360"/>
            <a:ext cx="2286000" cy="1481040"/>
            <a:chOff x="5991120" y="2511360"/>
            <a:chExt cx="2286000" cy="1481040"/>
          </a:xfrm>
        </p:grpSpPr>
        <p:sp>
          <p:nvSpPr>
            <p:cNvPr id="371" name="Oval 43"/>
            <p:cNvSpPr/>
            <p:nvPr/>
          </p:nvSpPr>
          <p:spPr>
            <a:xfrm>
              <a:off x="5991120" y="251136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60"/>
            <p:cNvSpPr/>
            <p:nvPr/>
          </p:nvSpPr>
          <p:spPr>
            <a:xfrm>
              <a:off x="6948360" y="311292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Oval 61"/>
            <p:cNvSpPr/>
            <p:nvPr/>
          </p:nvSpPr>
          <p:spPr>
            <a:xfrm>
              <a:off x="8137440" y="385272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69"/>
          <p:cNvGrpSpPr/>
          <p:nvPr/>
        </p:nvGrpSpPr>
        <p:grpSpPr>
          <a:xfrm>
            <a:off x="6041880" y="2417760"/>
            <a:ext cx="2133720" cy="1389240"/>
            <a:chOff x="6041880" y="2417760"/>
            <a:chExt cx="2133720" cy="1389240"/>
          </a:xfrm>
        </p:grpSpPr>
        <p:sp>
          <p:nvSpPr>
            <p:cNvPr id="375" name="Oval 66"/>
            <p:cNvSpPr/>
            <p:nvPr/>
          </p:nvSpPr>
          <p:spPr>
            <a:xfrm>
              <a:off x="6041880" y="3666960"/>
              <a:ext cx="139680" cy="14004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67"/>
            <p:cNvSpPr/>
            <p:nvPr/>
          </p:nvSpPr>
          <p:spPr>
            <a:xfrm>
              <a:off x="6935760" y="310032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68"/>
            <p:cNvSpPr/>
            <p:nvPr/>
          </p:nvSpPr>
          <p:spPr>
            <a:xfrm>
              <a:off x="8035920" y="241776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Text Box 12"/>
          <p:cNvSpPr/>
          <p:nvPr/>
        </p:nvSpPr>
        <p:spPr>
          <a:xfrm>
            <a:off x="1636920" y="2558880"/>
            <a:ext cx="312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s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and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inear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betw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74"/>
          <p:cNvGrpSpPr/>
          <p:nvPr/>
        </p:nvGrpSpPr>
        <p:grpSpPr>
          <a:xfrm>
            <a:off x="1622880" y="3749760"/>
            <a:ext cx="2831040" cy="825480"/>
            <a:chOff x="1622880" y="3749760"/>
            <a:chExt cx="2831040" cy="825480"/>
          </a:xfrm>
        </p:grpSpPr>
        <p:sp>
          <p:nvSpPr>
            <p:cNvPr id="380" name="Line 21"/>
            <p:cNvSpPr/>
            <p:nvPr/>
          </p:nvSpPr>
          <p:spPr>
            <a:xfrm>
              <a:off x="2311560" y="3800520"/>
              <a:ext cx="40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22"/>
            <p:cNvSpPr/>
            <p:nvPr/>
          </p:nvSpPr>
          <p:spPr>
            <a:xfrm>
              <a:off x="3416400" y="3795840"/>
              <a:ext cx="42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20"/>
            <p:cNvSpPr/>
            <p:nvPr/>
          </p:nvSpPr>
          <p:spPr>
            <a:xfrm>
              <a:off x="1622880" y="3749760"/>
              <a:ext cx="283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,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and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posite ray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Rectangle 28"/>
          <p:cNvSpPr/>
          <p:nvPr/>
        </p:nvSpPr>
        <p:spPr>
          <a:xfrm>
            <a:off x="1647000" y="4821120"/>
            <a:ext cx="708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s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and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collinear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betwe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75"/>
          <p:cNvGrpSpPr/>
          <p:nvPr/>
        </p:nvGrpSpPr>
        <p:grpSpPr>
          <a:xfrm>
            <a:off x="1714680" y="5497560"/>
            <a:ext cx="4743360" cy="459720"/>
            <a:chOff x="1714680" y="5497560"/>
            <a:chExt cx="4743360" cy="459720"/>
          </a:xfrm>
        </p:grpSpPr>
        <p:sp>
          <p:nvSpPr>
            <p:cNvPr id="385" name="Line 35"/>
            <p:cNvSpPr/>
            <p:nvPr/>
          </p:nvSpPr>
          <p:spPr>
            <a:xfrm>
              <a:off x="2347920" y="5532480"/>
              <a:ext cx="42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3492360" y="5529240"/>
              <a:ext cx="42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34"/>
            <p:cNvSpPr/>
            <p:nvPr/>
          </p:nvSpPr>
          <p:spPr>
            <a:xfrm>
              <a:off x="1714680" y="5497560"/>
              <a:ext cx="474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,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and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are opposite ray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"/>
          <p:cNvSpPr/>
          <p:nvPr/>
        </p:nvSpPr>
        <p:spPr>
          <a:xfrm>
            <a:off x="1432080" y="1330200"/>
            <a:ext cx="7245360" cy="1489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5192640" y="1576440"/>
            <a:ext cx="1209600" cy="307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5234040" y="1944720"/>
            <a:ext cx="1535040" cy="28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0" y="61707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3"/>
          <p:cNvSpPr/>
          <p:nvPr/>
        </p:nvSpPr>
        <p:spPr>
          <a:xfrm>
            <a:off x="1347120" y="212760"/>
            <a:ext cx="683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TCH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ERSECTION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S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176040" y="22536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394" name="Line 5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551600" y="1536840"/>
            <a:ext cx="6956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or more geometric figures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ersect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y have 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 more points in common. The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of the figu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the set of points the figures have in comm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3" descr="thumbnail"/>
          <p:cNvPicPr/>
          <p:nvPr/>
        </p:nvPicPr>
        <p:blipFill>
          <a:blip r:embed="rId3"/>
          <a:stretch/>
        </p:blipFill>
        <p:spPr>
          <a:xfrm>
            <a:off x="709560" y="3728880"/>
            <a:ext cx="28576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Group 2"/>
          <p:cNvGrpSpPr/>
          <p:nvPr/>
        </p:nvGrpSpPr>
        <p:grpSpPr>
          <a:xfrm>
            <a:off x="177840" y="117360"/>
            <a:ext cx="4136760" cy="460440"/>
            <a:chOff x="177840" y="117360"/>
            <a:chExt cx="4136760" cy="460440"/>
          </a:xfrm>
        </p:grpSpPr>
        <p:sp>
          <p:nvSpPr>
            <p:cNvPr id="398" name="Text Box 3"/>
            <p:cNvSpPr/>
            <p:nvPr/>
          </p:nvSpPr>
          <p:spPr>
            <a:xfrm>
              <a:off x="1555200" y="154080"/>
              <a:ext cx="275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ketching Interse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9" name="Picture 4" descr=""/>
            <p:cNvPicPr/>
            <p:nvPr/>
          </p:nvPicPr>
          <p:blipFill>
            <a:blip r:embed="rId1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Line 5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0" y="61707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7"/>
          <p:cNvSpPr/>
          <p:nvPr/>
        </p:nvSpPr>
        <p:spPr>
          <a:xfrm>
            <a:off x="1533960" y="825480"/>
            <a:ext cx="55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etch a line that intersects a plane at one poi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1512720" y="1496880"/>
            <a:ext cx="1447920" cy="419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1509840" y="152100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1506600" y="2097000"/>
            <a:ext cx="289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a plane and a li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1506600" y="276084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phasize the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 they me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1507320" y="3722760"/>
            <a:ext cx="269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shes indicate 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line is hidden b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la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4737240" y="2514600"/>
            <a:ext cx="3919320" cy="1295280"/>
          </a:xfrm>
          <a:prstGeom prst="parallelogram">
            <a:avLst>
              <a:gd name="adj" fmla="val 7564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>
            <a:off x="6730920" y="1574640"/>
            <a:ext cx="0" cy="313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1"/>
          <p:cNvSpPr/>
          <p:nvPr/>
        </p:nvSpPr>
        <p:spPr>
          <a:xfrm>
            <a:off x="6730920" y="3146400"/>
            <a:ext cx="0" cy="654120"/>
          </a:xfrm>
          <a:prstGeom prst="line">
            <a:avLst/>
          </a:prstGeom>
          <a:ln w="3816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18"/>
          <p:cNvSpPr/>
          <p:nvPr/>
        </p:nvSpPr>
        <p:spPr>
          <a:xfrm>
            <a:off x="6664320" y="3032280"/>
            <a:ext cx="1396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23" descr="thumbnail"/>
          <p:cNvPicPr/>
          <p:nvPr/>
        </p:nvPicPr>
        <p:blipFill>
          <a:blip r:embed="rId3"/>
          <a:stretch/>
        </p:blipFill>
        <p:spPr>
          <a:xfrm>
            <a:off x="184320" y="4911840"/>
            <a:ext cx="28573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0" y="61707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5"/>
          <p:cNvSpPr/>
          <p:nvPr/>
        </p:nvSpPr>
        <p:spPr>
          <a:xfrm>
            <a:off x="1534680" y="808200"/>
            <a:ext cx="475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etch two planes that intersect in a li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7"/>
          <p:cNvGrpSpPr/>
          <p:nvPr/>
        </p:nvGrpSpPr>
        <p:grpSpPr>
          <a:xfrm>
            <a:off x="177840" y="117360"/>
            <a:ext cx="4136760" cy="460440"/>
            <a:chOff x="177840" y="117360"/>
            <a:chExt cx="4136760" cy="460440"/>
          </a:xfrm>
        </p:grpSpPr>
        <p:sp>
          <p:nvSpPr>
            <p:cNvPr id="416" name="Text Box 8"/>
            <p:cNvSpPr/>
            <p:nvPr/>
          </p:nvSpPr>
          <p:spPr>
            <a:xfrm>
              <a:off x="1555200" y="154080"/>
              <a:ext cx="275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ketching Interse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7" name="Picture 9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Line 10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1525680" y="1433520"/>
            <a:ext cx="144756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3"/>
          <p:cNvSpPr/>
          <p:nvPr/>
        </p:nvSpPr>
        <p:spPr>
          <a:xfrm>
            <a:off x="1522440" y="14572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1512000" y="2255760"/>
            <a:ext cx="214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two pla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1512720" y="2890800"/>
            <a:ext cx="305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phasize the line 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me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7"/>
          <p:cNvSpPr/>
          <p:nvPr/>
        </p:nvSpPr>
        <p:spPr>
          <a:xfrm>
            <a:off x="1512000" y="3911760"/>
            <a:ext cx="269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shes indicate 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plane is h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the other pl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4946760" y="3211560"/>
            <a:ext cx="3571920" cy="2101680"/>
          </a:xfrm>
          <a:prstGeom prst="parallelogram">
            <a:avLst>
              <a:gd name="adj" fmla="val 31135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5"/>
          <p:cNvSpPr/>
          <p:nvPr/>
        </p:nvSpPr>
        <p:spPr>
          <a:xfrm flipV="1">
            <a:off x="5310360" y="3213000"/>
            <a:ext cx="280800" cy="88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52"/>
          <p:cNvGrpSpPr/>
          <p:nvPr/>
        </p:nvGrpSpPr>
        <p:grpSpPr>
          <a:xfrm>
            <a:off x="5311800" y="2819520"/>
            <a:ext cx="2908440" cy="2646360"/>
            <a:chOff x="5311800" y="2819520"/>
            <a:chExt cx="2908440" cy="2646360"/>
          </a:xfrm>
        </p:grpSpPr>
        <p:sp>
          <p:nvSpPr>
            <p:cNvPr id="427" name="Rectangle 42"/>
            <p:cNvSpPr/>
            <p:nvPr/>
          </p:nvSpPr>
          <p:spPr>
            <a:xfrm>
              <a:off x="5313240" y="2819520"/>
              <a:ext cx="2890800" cy="26463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43"/>
            <p:cNvSpPr/>
            <p:nvPr/>
          </p:nvSpPr>
          <p:spPr>
            <a:xfrm>
              <a:off x="5311800" y="4108320"/>
              <a:ext cx="2908440" cy="1206720"/>
            </a:xfrm>
            <a:custGeom>
              <a:avLst/>
              <a:gdLst/>
              <a:ahLst/>
              <a:rect l="l" t="t" r="r" b="b"/>
              <a:pathLst>
                <a:path w="2528" h="885">
                  <a:moveTo>
                    <a:pt x="0" y="0"/>
                  </a:moveTo>
                  <a:lnTo>
                    <a:pt x="0" y="885"/>
                  </a:lnTo>
                  <a:lnTo>
                    <a:pt x="2208" y="885"/>
                  </a:lnTo>
                  <a:lnTo>
                    <a:pt x="25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Line 44"/>
          <p:cNvSpPr/>
          <p:nvPr/>
        </p:nvSpPr>
        <p:spPr>
          <a:xfrm>
            <a:off x="5313240" y="4108320"/>
            <a:ext cx="290520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46"/>
          <p:cNvSpPr/>
          <p:nvPr/>
        </p:nvSpPr>
        <p:spPr>
          <a:xfrm>
            <a:off x="5595840" y="3213000"/>
            <a:ext cx="2608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47"/>
          <p:cNvSpPr/>
          <p:nvPr/>
        </p:nvSpPr>
        <p:spPr>
          <a:xfrm>
            <a:off x="5315040" y="4091040"/>
            <a:ext cx="0" cy="125100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try is a branch of mathematics that deals with points, lines, planes and solids, and examines their properties, measurement, and mutual relationship in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ag00291_"/>
          <p:cNvPicPr/>
          <p:nvPr/>
        </p:nvPicPr>
        <p:blipFill>
          <a:blip r:embed="rId1"/>
          <a:stretch/>
        </p:blipFill>
        <p:spPr>
          <a:xfrm>
            <a:off x="6324480" y="5486400"/>
            <a:ext cx="1952640" cy="82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MC900055588[1]"/>
          <p:cNvPicPr/>
          <p:nvPr/>
        </p:nvPicPr>
        <p:blipFill>
          <a:blip r:embed="rId2"/>
          <a:stretch/>
        </p:blipFill>
        <p:spPr>
          <a:xfrm>
            <a:off x="4876920" y="1371600"/>
            <a:ext cx="377964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 was used by ancient Egypt to measure land and build pyramids. The Greeks used a straightedge and a compass to draw lines and circles. They discovered ways to calculate distances without actually measuring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21701878"/>
          <p:cNvPicPr/>
          <p:nvPr/>
        </p:nvPicPr>
        <p:blipFill>
          <a:blip r:embed="rId1"/>
          <a:stretch/>
        </p:blipFill>
        <p:spPr>
          <a:xfrm>
            <a:off x="7543800" y="4648320"/>
            <a:ext cx="723960" cy="1123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greece_map_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4952880"/>
            <a:ext cx="1505160" cy="1076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egypt_map_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5334120"/>
            <a:ext cx="99036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in many fields use geometry. For example, engineers, rocket scientists, surveyors, designers, graphic artists, carpenters, astronomers, plumbers, laboratory technologists, advertising copywriters, construction workers, chemists, astronauts, and many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M900356782[1]"/>
          <p:cNvPicPr/>
          <p:nvPr/>
        </p:nvPicPr>
        <p:blipFill>
          <a:blip r:embed="rId1"/>
          <a:stretch/>
        </p:blipFill>
        <p:spPr>
          <a:xfrm>
            <a:off x="6705720" y="5715000"/>
            <a:ext cx="1028520" cy="942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MM900354623[1]"/>
          <p:cNvPicPr/>
          <p:nvPr/>
        </p:nvPicPr>
        <p:blipFill>
          <a:blip r:embed="rId2"/>
          <a:stretch/>
        </p:blipFill>
        <p:spPr>
          <a:xfrm>
            <a:off x="2590920" y="5638680"/>
            <a:ext cx="1143000" cy="86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MM900303368[1]"/>
          <p:cNvPicPr/>
          <p:nvPr/>
        </p:nvPicPr>
        <p:blipFill>
          <a:blip r:embed="rId3"/>
          <a:stretch/>
        </p:blipFill>
        <p:spPr>
          <a:xfrm>
            <a:off x="8001000" y="281952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MM900234677[1]"/>
          <p:cNvPicPr/>
          <p:nvPr/>
        </p:nvPicPr>
        <p:blipFill>
          <a:blip r:embed="rId4"/>
          <a:stretch/>
        </p:blipFill>
        <p:spPr>
          <a:xfrm>
            <a:off x="6934320" y="647640"/>
            <a:ext cx="1152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 is used by anyone who needs to draw a circle, line, or line segment. The name geometry comes from two Greek words: geo, meaning “land,” and metry, meaning “to measur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21702126"/>
          <p:cNvPicPr/>
          <p:nvPr/>
        </p:nvPicPr>
        <p:blipFill>
          <a:blip r:embed="rId1"/>
          <a:stretch/>
        </p:blipFill>
        <p:spPr>
          <a:xfrm>
            <a:off x="7086600" y="4572000"/>
            <a:ext cx="905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 is used by anyone who needs to draw a circle, line, or line segment. The name geometry comes from two Greek words: geo, meaning “land,” and metry, meaning “to measur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21702126"/>
          <p:cNvPicPr/>
          <p:nvPr/>
        </p:nvPicPr>
        <p:blipFill>
          <a:blip r:embed="rId1"/>
          <a:stretch/>
        </p:blipFill>
        <p:spPr>
          <a:xfrm>
            <a:off x="7086600" y="4572000"/>
            <a:ext cx="905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eek mathematician named Euclid brought together most of the knowledge of geometry. He set down general rules that he called axioms, postulates, and theorems. He published a 13-volume work called The Elements. Euclid’s system of geometry is called Euclidean Geometry. Students study Euclidean Geometry in high sch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ALIEN048"/>
          <p:cNvPicPr/>
          <p:nvPr/>
        </p:nvPicPr>
        <p:blipFill>
          <a:blip r:embed="rId1"/>
          <a:stretch/>
        </p:blipFill>
        <p:spPr>
          <a:xfrm>
            <a:off x="6006960" y="762120"/>
            <a:ext cx="118116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mathematicians who contributed to the formation of geometry are Pythagoras, Gauss, Lewis Carroll, Johannes Kepler, and many oth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21702407"/>
          <p:cNvPicPr/>
          <p:nvPr/>
        </p:nvPicPr>
        <p:blipFill>
          <a:blip r:embed="rId1"/>
          <a:stretch/>
        </p:blipFill>
        <p:spPr>
          <a:xfrm>
            <a:off x="6400800" y="4114800"/>
            <a:ext cx="933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20:03:18Z</dcterms:created>
  <dc:creator>McDougal Littell</dc:creator>
  <dc:description/>
  <dc:language>en-US</dc:language>
  <cp:lastModifiedBy>Administrative Services</cp:lastModifiedBy>
  <dcterms:modified xsi:type="dcterms:W3CDTF">2013-08-15T14:11:30Z</dcterms:modified>
  <cp:revision>107</cp:revision>
  <dc:subject/>
  <dc:title>No Slide Title</dc:title>
</cp:coreProperties>
</file>