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1.gif" ContentType="image/gif"/>
  <Override PartName="/ppt/media/image3.gif" ContentType="image/gif"/>
  <Override PartName="/ppt/media/image6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2.jpeg" ContentType="image/jpeg"/>
  <Override PartName="/ppt/media/image10.gif" ContentType="image/gif"/>
  <Override PartName="/ppt/media/image13.wmf" ContentType="image/x-wmf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gif" ContentType="image/gif"/>
  <Override PartName="/ppt/media/image4.wmf" ContentType="image/x-wm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027-0D68-4185-9FBB-EF604F34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4A0-535C-4F02-A6DD-36F0E2A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469-BB53-45A9-AF45-21002B36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109-7CBF-47C7-AB87-431FD7B9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172-D679-472C-B4FC-50F299DF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BDE-885D-41F1-AD6C-85755558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616-0921-4AF3-B058-9BA55EDB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1EC-33B8-4FC1-AB48-0994521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E0A-4638-4938-9F83-50879757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5A8-9421-410E-8111-F3300EB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16A-A28F-45AA-AD95-A2E7FFE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BDD-A82C-4286-BA7B-77D25AF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AF33-5852-4A25-825B-A38E17BCD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7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greece.phillipmartin.info/index.htm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egypt.phillipmartin.info/index.htm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4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umbnail"/>
          <p:cNvPicPr/>
          <p:nvPr/>
        </p:nvPicPr>
        <p:blipFill>
          <a:blip r:embed="rId1"/>
          <a:stretch/>
        </p:blipFill>
        <p:spPr>
          <a:xfrm>
            <a:off x="361800" y="5072040"/>
            <a:ext cx="214488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7893000" y="3514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-A boundless, three-dimensional set of all points.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thumbnail"/>
          <p:cNvPicPr/>
          <p:nvPr/>
        </p:nvPicPr>
        <p:blipFill>
          <a:blip r:embed="rId1"/>
          <a:stretch/>
        </p:blipFill>
        <p:spPr>
          <a:xfrm>
            <a:off x="3346560" y="3098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 Plane, points, lines, and Pl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llinear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model points, lines,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coplanar points and intersecting lines and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humbnail"/>
          <p:cNvPicPr/>
          <p:nvPr/>
        </p:nvPicPr>
        <p:blipFill>
          <a:blip r:embed="rId1"/>
          <a:stretch/>
        </p:blipFill>
        <p:spPr>
          <a:xfrm>
            <a:off x="6961320" y="5334120"/>
            <a:ext cx="1796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1633680" y="890640"/>
            <a:ext cx="9144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295280" y="8380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s no dimen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88800" y="1577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represented by a small d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949280" y="306396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7"/>
          <p:cNvGrpSpPr/>
          <p:nvPr/>
        </p:nvGrpSpPr>
        <p:grpSpPr>
          <a:xfrm>
            <a:off x="4782240" y="2265480"/>
            <a:ext cx="1845000" cy="1050120"/>
            <a:chOff x="4782240" y="2265480"/>
            <a:chExt cx="1845000" cy="1050120"/>
          </a:xfrm>
        </p:grpSpPr>
        <p:sp>
          <p:nvSpPr>
            <p:cNvPr id="104" name="Text Box 10"/>
            <p:cNvSpPr/>
            <p:nvPr/>
          </p:nvSpPr>
          <p:spPr>
            <a:xfrm>
              <a:off x="4782240" y="28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5383080" y="2265480"/>
              <a:ext cx="1168560" cy="504720"/>
            </a:xfrm>
            <a:prstGeom prst="wedgeRectCallout">
              <a:avLst>
                <a:gd name="adj1" fmla="val -65083"/>
                <a:gd name="adj2" fmla="val 138365"/>
              </a:avLst>
            </a:prstGeom>
            <a:solidFill>
              <a:srgbClr val="ccec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5410800" y="22849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167520" y="22860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09" name="Picture 19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0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33" descr="thumbnail"/>
          <p:cNvPicPr/>
          <p:nvPr/>
        </p:nvPicPr>
        <p:blipFill>
          <a:blip r:embed="rId3"/>
          <a:stretch/>
        </p:blipFill>
        <p:spPr>
          <a:xfrm>
            <a:off x="426960" y="3554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1" descr=""/>
          <p:cNvPicPr/>
          <p:nvPr/>
        </p:nvPicPr>
        <p:blipFill>
          <a:blip r:embed="rId1"/>
          <a:stretch/>
        </p:blipFill>
        <p:spPr>
          <a:xfrm>
            <a:off x="3124080" y="2371680"/>
            <a:ext cx="27306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9"/>
          <p:cNvSpPr/>
          <p:nvPr/>
        </p:nvSpPr>
        <p:spPr>
          <a:xfrm>
            <a:off x="1366920" y="5381640"/>
            <a:ext cx="22478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5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1724040" y="828720"/>
            <a:ext cx="68112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352160" y="793800"/>
            <a:ext cx="73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ends in one dimension. It is usually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straight line with two arrowheads to indicate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extends without end in two direction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4002120" y="431964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2"/>
          <p:cNvGrpSpPr/>
          <p:nvPr/>
        </p:nvGrpSpPr>
        <p:grpSpPr>
          <a:xfrm>
            <a:off x="3338640" y="4273560"/>
            <a:ext cx="1827000" cy="552600"/>
            <a:chOff x="3338640" y="4273560"/>
            <a:chExt cx="1827000" cy="552600"/>
          </a:xfrm>
        </p:grpSpPr>
        <p:pic>
          <p:nvPicPr>
            <p:cNvPr id="122" name="Picture 22" descr=""/>
            <p:cNvPicPr/>
            <p:nvPr/>
          </p:nvPicPr>
          <p:blipFill>
            <a:blip r:embed="rId5"/>
            <a:srcRect l="0" t="0" r="81380" b="0"/>
            <a:stretch/>
          </p:blipFill>
          <p:spPr>
            <a:xfrm>
              <a:off x="4087800" y="4273560"/>
              <a:ext cx="177840" cy="55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51"/>
            <p:cNvGrpSpPr/>
            <p:nvPr/>
          </p:nvGrpSpPr>
          <p:grpSpPr>
            <a:xfrm>
              <a:off x="3338640" y="4344840"/>
              <a:ext cx="1827000" cy="416520"/>
              <a:chOff x="3338640" y="4344840"/>
              <a:chExt cx="1827000" cy="416520"/>
            </a:xfrm>
          </p:grpSpPr>
          <p:sp>
            <p:nvSpPr>
              <p:cNvPr id="124" name="Text Box 24"/>
              <p:cNvSpPr/>
              <p:nvPr/>
            </p:nvSpPr>
            <p:spPr>
              <a:xfrm>
                <a:off x="3338640" y="4362480"/>
                <a:ext cx="182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r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4726080" y="4344840"/>
                <a:ext cx="3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Rectangle 31"/>
          <p:cNvSpPr/>
          <p:nvPr/>
        </p:nvSpPr>
        <p:spPr>
          <a:xfrm>
            <a:off x="3316320" y="2160720"/>
            <a:ext cx="330120" cy="42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3" descr=""/>
          <p:cNvPicPr/>
          <p:nvPr/>
        </p:nvPicPr>
        <p:blipFill>
          <a:blip r:embed="rId6"/>
          <a:srcRect l="0" t="0" r="81380" b="0"/>
          <a:stretch/>
        </p:blipFill>
        <p:spPr>
          <a:xfrm>
            <a:off x="3411360" y="2133720"/>
            <a:ext cx="177840" cy="552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8"/>
          <p:cNvSpPr/>
          <p:nvPr/>
        </p:nvSpPr>
        <p:spPr>
          <a:xfrm>
            <a:off x="1323000" y="5334120"/>
            <a:ext cx="66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3787920" y="2990880"/>
            <a:ext cx="1344600" cy="868320"/>
            <a:chOff x="3787920" y="2990880"/>
            <a:chExt cx="1344600" cy="868320"/>
          </a:xfrm>
        </p:grpSpPr>
        <p:sp>
          <p:nvSpPr>
            <p:cNvPr id="130" name="Oval 37"/>
            <p:cNvSpPr/>
            <p:nvPr/>
          </p:nvSpPr>
          <p:spPr>
            <a:xfrm>
              <a:off x="3787920" y="2990880"/>
              <a:ext cx="13644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9"/>
            <p:cNvSpPr/>
            <p:nvPr/>
          </p:nvSpPr>
          <p:spPr>
            <a:xfrm>
              <a:off x="4995720" y="3722760"/>
              <a:ext cx="136800" cy="136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4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33" name="Picture 47" descr=""/>
            <p:cNvPicPr/>
            <p:nvPr/>
          </p:nvPicPr>
          <p:blipFill>
            <a:blip r:embed="rId7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4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4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647640"/>
            <a:ext cx="9144000" cy="5626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876240" y="635040"/>
            <a:ext cx="7340760" cy="5448240"/>
          </a:xfrm>
          <a:custGeom>
            <a:avLst/>
            <a:gdLst>
              <a:gd name="textAreaLeft" fmla="*/ 1165320 w 7340760"/>
              <a:gd name="textAreaRight" fmla="*/ 6175440 w 7340760"/>
              <a:gd name="textAreaTop" fmla="*/ 1915560 h 5448240"/>
              <a:gd name="textAreaBottom" fmla="*/ 3532680 h 5448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620"/>
                </a:lnTo>
                <a:lnTo>
                  <a:pt x="7594" y="4620"/>
                </a:lnTo>
                <a:lnTo>
                  <a:pt x="7594" y="7594"/>
                </a:lnTo>
                <a:lnTo>
                  <a:pt x="4620" y="7594"/>
                </a:lnTo>
                <a:lnTo>
                  <a:pt x="4620" y="6480"/>
                </a:lnTo>
                <a:lnTo>
                  <a:pt x="0" y="10800"/>
                </a:lnTo>
                <a:lnTo>
                  <a:pt x="4620" y="15120"/>
                </a:lnTo>
                <a:lnTo>
                  <a:pt x="4620" y="14006"/>
                </a:lnTo>
                <a:lnTo>
                  <a:pt x="7594" y="14006"/>
                </a:lnTo>
                <a:lnTo>
                  <a:pt x="7594" y="16980"/>
                </a:lnTo>
                <a:lnTo>
                  <a:pt x="6480" y="16980"/>
                </a:lnTo>
                <a:lnTo>
                  <a:pt x="10800" y="21600"/>
                </a:lnTo>
                <a:lnTo>
                  <a:pt x="15120" y="16980"/>
                </a:lnTo>
                <a:lnTo>
                  <a:pt x="14006" y="16980"/>
                </a:lnTo>
                <a:lnTo>
                  <a:pt x="14006" y="14006"/>
                </a:lnTo>
                <a:lnTo>
                  <a:pt x="16980" y="14006"/>
                </a:lnTo>
                <a:lnTo>
                  <a:pt x="16980" y="15120"/>
                </a:lnTo>
                <a:lnTo>
                  <a:pt x="21600" y="10800"/>
                </a:lnTo>
                <a:lnTo>
                  <a:pt x="16980" y="6480"/>
                </a:lnTo>
                <a:lnTo>
                  <a:pt x="16980" y="7594"/>
                </a:lnTo>
                <a:lnTo>
                  <a:pt x="14006" y="7594"/>
                </a:lnTo>
                <a:lnTo>
                  <a:pt x="14006" y="4620"/>
                </a:lnTo>
                <a:lnTo>
                  <a:pt x="15120" y="4620"/>
                </a:lnTo>
                <a:lnTo>
                  <a:pt x="1080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984240" y="2482920"/>
            <a:ext cx="7263000" cy="1896840"/>
          </a:xfrm>
          <a:prstGeom prst="parallelogram">
            <a:avLst>
              <a:gd name="adj" fmla="val 56176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1960" y="2482920"/>
            <a:ext cx="5203800" cy="1896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98720" y="2494080"/>
            <a:ext cx="5218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tends in two dimensions.  It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represented by a shape that loo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a table or a wall, however you mu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gine that the plane extends without 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43" name="Picture 21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2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Line 23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1373040" y="942840"/>
            <a:ext cx="2248200" cy="38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31640" y="914400"/>
            <a:ext cx="69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points that 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2438280" y="396252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</a:t>
            </a:r>
            <a:r>
              <a:rPr b="1" i="1" lang="en-US" sz="2400" spc="-1" strike="noStrike">
                <a:solidFill>
                  <a:srgbClr val="fe000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pla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2514600" y="1905120"/>
            <a:ext cx="3809880" cy="1828800"/>
          </a:xfrm>
          <a:prstGeom prst="parallelogram">
            <a:avLst>
              <a:gd name="adj" fmla="val 520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8"/>
          <p:cNvGrpSpPr/>
          <p:nvPr/>
        </p:nvGrpSpPr>
        <p:grpSpPr>
          <a:xfrm>
            <a:off x="3341520" y="2133720"/>
            <a:ext cx="2220840" cy="1341360"/>
            <a:chOff x="3341520" y="2133720"/>
            <a:chExt cx="2220840" cy="1341360"/>
          </a:xfrm>
        </p:grpSpPr>
        <p:grpSp>
          <p:nvGrpSpPr>
            <p:cNvPr id="152" name="Group 19"/>
            <p:cNvGrpSpPr/>
            <p:nvPr/>
          </p:nvGrpSpPr>
          <p:grpSpPr>
            <a:xfrm>
              <a:off x="3570120" y="2133720"/>
              <a:ext cx="315720" cy="351000"/>
              <a:chOff x="3570120" y="2133720"/>
              <a:chExt cx="315720" cy="351000"/>
            </a:xfrm>
          </p:grpSpPr>
          <p:sp>
            <p:nvSpPr>
              <p:cNvPr id="153" name="Oval 20"/>
              <p:cNvSpPr/>
              <p:nvPr/>
            </p:nvSpPr>
            <p:spPr>
              <a:xfrm>
                <a:off x="3819960" y="21445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21"/>
              <p:cNvSpPr/>
              <p:nvPr/>
            </p:nvSpPr>
            <p:spPr>
              <a:xfrm>
                <a:off x="3570120" y="21337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2"/>
            <p:cNvGrpSpPr/>
            <p:nvPr/>
          </p:nvGrpSpPr>
          <p:grpSpPr>
            <a:xfrm>
              <a:off x="5246640" y="2362320"/>
              <a:ext cx="315720" cy="351000"/>
              <a:chOff x="5246640" y="2362320"/>
              <a:chExt cx="315720" cy="351000"/>
            </a:xfrm>
          </p:grpSpPr>
          <p:sp>
            <p:nvSpPr>
              <p:cNvPr id="156" name="Oval 23"/>
              <p:cNvSpPr/>
              <p:nvPr/>
            </p:nvSpPr>
            <p:spPr>
              <a:xfrm>
                <a:off x="5496480" y="237312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24"/>
              <p:cNvSpPr/>
              <p:nvPr/>
            </p:nvSpPr>
            <p:spPr>
              <a:xfrm>
                <a:off x="5246640" y="2362320"/>
                <a:ext cx="1998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25"/>
            <p:cNvSpPr/>
            <p:nvPr/>
          </p:nvSpPr>
          <p:spPr>
            <a:xfrm>
              <a:off x="4941720" y="3124440"/>
              <a:ext cx="200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e000d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26"/>
            <p:cNvGrpSpPr/>
            <p:nvPr/>
          </p:nvGrpSpPr>
          <p:grpSpPr>
            <a:xfrm>
              <a:off x="3341520" y="3124440"/>
              <a:ext cx="315720" cy="350640"/>
              <a:chOff x="3341520" y="3124440"/>
              <a:chExt cx="315720" cy="350640"/>
            </a:xfrm>
          </p:grpSpPr>
          <p:sp>
            <p:nvSpPr>
              <p:cNvPr id="160" name="Oval 27"/>
              <p:cNvSpPr/>
              <p:nvPr/>
            </p:nvSpPr>
            <p:spPr>
              <a:xfrm>
                <a:off x="3591360" y="3135240"/>
                <a:ext cx="65880" cy="6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341520" y="3124440"/>
                <a:ext cx="1998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35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163" name="Picture 36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37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Line 38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0" descr="thumbnail"/>
          <p:cNvPicPr/>
          <p:nvPr/>
        </p:nvPicPr>
        <p:blipFill>
          <a:blip r:embed="rId3"/>
          <a:stretch/>
        </p:blipFill>
        <p:spPr>
          <a:xfrm>
            <a:off x="5967360" y="40798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8"/>
          <p:cNvSpPr/>
          <p:nvPr/>
        </p:nvSpPr>
        <p:spPr>
          <a:xfrm>
            <a:off x="457200" y="1473120"/>
            <a:ext cx="4432320" cy="43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57200" y="1943280"/>
            <a:ext cx="478800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457200" y="1003320"/>
            <a:ext cx="4432320" cy="43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"/>
          <p:cNvGrpSpPr/>
          <p:nvPr/>
        </p:nvGrpSpPr>
        <p:grpSpPr>
          <a:xfrm>
            <a:off x="177840" y="117360"/>
            <a:ext cx="5726520" cy="460440"/>
            <a:chOff x="177840" y="117360"/>
            <a:chExt cx="5726520" cy="460440"/>
          </a:xfrm>
        </p:grpSpPr>
        <p:sp>
          <p:nvSpPr>
            <p:cNvPr id="172" name="Text Box 4"/>
            <p:cNvSpPr/>
            <p:nvPr/>
          </p:nvSpPr>
          <p:spPr>
            <a:xfrm>
              <a:off x="1554120" y="154080"/>
              <a:ext cx="435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ing Collinear and Coplanar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12720" y="307656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09480" y="310032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9800" y="3724200"/>
            <a:ext cx="66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line, so they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70880" y="5135400"/>
            <a:ext cx="79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many correct answers. For instance,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e on the same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69080" y="4262400"/>
            <a:ext cx="763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e on the same plane, so they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13160" y="4648320"/>
            <a:ext cx="39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4894200" y="1600200"/>
            <a:ext cx="3936960" cy="1295280"/>
          </a:xfrm>
          <a:prstGeom prst="parallelogram">
            <a:avLst>
              <a:gd name="adj" fmla="val 12672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4932360" y="1219320"/>
            <a:ext cx="3936960" cy="1676160"/>
          </a:xfrm>
          <a:prstGeom prst="parallelogram">
            <a:avLst>
              <a:gd name="adj" fmla="val 9793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3"/>
          <p:cNvSpPr/>
          <p:nvPr/>
        </p:nvSpPr>
        <p:spPr>
          <a:xfrm>
            <a:off x="6908760" y="927000"/>
            <a:ext cx="0" cy="248940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8"/>
          <p:cNvSpPr/>
          <p:nvPr/>
        </p:nvSpPr>
        <p:spPr>
          <a:xfrm>
            <a:off x="6908760" y="2257560"/>
            <a:ext cx="0" cy="653760"/>
          </a:xfrm>
          <a:prstGeom prst="line">
            <a:avLst/>
          </a:prstGeom>
          <a:ln w="381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1"/>
          <p:cNvSpPr/>
          <p:nvPr/>
        </p:nvSpPr>
        <p:spPr>
          <a:xfrm flipV="1">
            <a:off x="5186520" y="1815840"/>
            <a:ext cx="3403440" cy="825480"/>
          </a:xfrm>
          <a:prstGeom prst="line">
            <a:avLst/>
          </a:prstGeom>
          <a:ln w="38160">
            <a:solidFill>
              <a:srgbClr val="08b3e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3"/>
          <p:cNvGrpSpPr/>
          <p:nvPr/>
        </p:nvGrpSpPr>
        <p:grpSpPr>
          <a:xfrm>
            <a:off x="5881680" y="1289160"/>
            <a:ext cx="1603440" cy="1231920"/>
            <a:chOff x="5881680" y="1289160"/>
            <a:chExt cx="1603440" cy="1231920"/>
          </a:xfrm>
        </p:grpSpPr>
        <p:sp>
          <p:nvSpPr>
            <p:cNvPr id="187" name="Oval 23"/>
            <p:cNvSpPr/>
            <p:nvPr/>
          </p:nvSpPr>
          <p:spPr>
            <a:xfrm>
              <a:off x="6253200" y="189864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5881680" y="2384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843600" y="21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7348320" y="20322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837480" y="128916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8"/>
          <p:cNvGrpSpPr/>
          <p:nvPr/>
        </p:nvGrpSpPr>
        <p:grpSpPr>
          <a:xfrm>
            <a:off x="5845320" y="1155600"/>
            <a:ext cx="1913400" cy="1762560"/>
            <a:chOff x="5845320" y="1155600"/>
            <a:chExt cx="1913400" cy="1762560"/>
          </a:xfrm>
        </p:grpSpPr>
        <p:sp>
          <p:nvSpPr>
            <p:cNvPr id="193" name="Text Box 32"/>
            <p:cNvSpPr/>
            <p:nvPr/>
          </p:nvSpPr>
          <p:spPr>
            <a:xfrm>
              <a:off x="6328080" y="18162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6937200" y="115560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5"/>
            <p:cNvSpPr/>
            <p:nvPr/>
          </p:nvSpPr>
          <p:spPr>
            <a:xfrm>
              <a:off x="7407360" y="20829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6"/>
            <p:cNvSpPr/>
            <p:nvPr/>
          </p:nvSpPr>
          <p:spPr>
            <a:xfrm>
              <a:off x="6924600" y="2209680"/>
              <a:ext cx="366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5845320" y="248904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Rectangle 50"/>
          <p:cNvSpPr/>
          <p:nvPr/>
        </p:nvSpPr>
        <p:spPr>
          <a:xfrm>
            <a:off x="361800" y="9399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412920" y="1422360"/>
            <a:ext cx="47116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06520" y="99216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05800" y="1459080"/>
            <a:ext cx="430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our points that are copla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5800" y="1925640"/>
            <a:ext cx="48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three points that are not collin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86"/>
          <p:cNvGrpSpPr/>
          <p:nvPr/>
        </p:nvGrpSpPr>
        <p:grpSpPr>
          <a:xfrm>
            <a:off x="5861160" y="1879560"/>
            <a:ext cx="1647720" cy="669960"/>
            <a:chOff x="5861160" y="1879560"/>
            <a:chExt cx="1647720" cy="669960"/>
          </a:xfrm>
        </p:grpSpPr>
        <p:sp>
          <p:nvSpPr>
            <p:cNvPr id="204" name="Oval 71"/>
            <p:cNvSpPr/>
            <p:nvPr/>
          </p:nvSpPr>
          <p:spPr>
            <a:xfrm>
              <a:off x="6242040" y="187956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3"/>
            <p:cNvSpPr/>
            <p:nvPr/>
          </p:nvSpPr>
          <p:spPr>
            <a:xfrm>
              <a:off x="5861160" y="23749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84"/>
            <p:cNvSpPr/>
            <p:nvPr/>
          </p:nvSpPr>
          <p:spPr>
            <a:xfrm>
              <a:off x="6826320" y="213372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85"/>
            <p:cNvSpPr/>
            <p:nvPr/>
          </p:nvSpPr>
          <p:spPr>
            <a:xfrm>
              <a:off x="7321680" y="2019240"/>
              <a:ext cx="187200" cy="1746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89"/>
          <p:cNvGrpSpPr/>
          <p:nvPr/>
        </p:nvGrpSpPr>
        <p:grpSpPr>
          <a:xfrm>
            <a:off x="5423040" y="1879560"/>
            <a:ext cx="2933640" cy="711360"/>
            <a:chOff x="5423040" y="1879560"/>
            <a:chExt cx="2933640" cy="711360"/>
          </a:xfrm>
        </p:grpSpPr>
        <p:sp>
          <p:nvSpPr>
            <p:cNvPr id="209" name="Line 54"/>
            <p:cNvSpPr/>
            <p:nvPr/>
          </p:nvSpPr>
          <p:spPr>
            <a:xfrm flipV="1">
              <a:off x="5423040" y="1879560"/>
              <a:ext cx="2933640" cy="711360"/>
            </a:xfrm>
            <a:prstGeom prst="line">
              <a:avLst/>
            </a:prstGeom>
            <a:ln w="76320">
              <a:solidFill>
                <a:srgbClr val="ff33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7308720" y="20001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87"/>
            <p:cNvSpPr/>
            <p:nvPr/>
          </p:nvSpPr>
          <p:spPr>
            <a:xfrm>
              <a:off x="6819840" y="2120760"/>
              <a:ext cx="200160" cy="2001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88"/>
            <p:cNvSpPr/>
            <p:nvPr/>
          </p:nvSpPr>
          <p:spPr>
            <a:xfrm>
              <a:off x="5842080" y="2362320"/>
              <a:ext cx="19980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97"/>
          <p:cNvGrpSpPr/>
          <p:nvPr/>
        </p:nvGrpSpPr>
        <p:grpSpPr>
          <a:xfrm>
            <a:off x="6229440" y="1238400"/>
            <a:ext cx="796320" cy="1063080"/>
            <a:chOff x="6229440" y="1238400"/>
            <a:chExt cx="796320" cy="1063080"/>
          </a:xfrm>
        </p:grpSpPr>
        <p:sp>
          <p:nvSpPr>
            <p:cNvPr id="214" name="Oval 92"/>
            <p:cNvSpPr/>
            <p:nvPr/>
          </p:nvSpPr>
          <p:spPr>
            <a:xfrm>
              <a:off x="6229440" y="1860480"/>
              <a:ext cx="199800" cy="1994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95"/>
            <p:cNvSpPr/>
            <p:nvPr/>
          </p:nvSpPr>
          <p:spPr>
            <a:xfrm>
              <a:off x="6826320" y="123840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96"/>
            <p:cNvSpPr/>
            <p:nvPr/>
          </p:nvSpPr>
          <p:spPr>
            <a:xfrm>
              <a:off x="6826320" y="2101680"/>
              <a:ext cx="199440" cy="19980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99"/>
          <p:cNvGrpSpPr/>
          <p:nvPr/>
        </p:nvGrpSpPr>
        <p:grpSpPr>
          <a:xfrm>
            <a:off x="5856120" y="1252440"/>
            <a:ext cx="1644840" cy="1278000"/>
            <a:chOff x="5856120" y="1252440"/>
            <a:chExt cx="1644840" cy="1278000"/>
          </a:xfrm>
        </p:grpSpPr>
        <p:sp>
          <p:nvSpPr>
            <p:cNvPr id="218" name="Oval 78"/>
            <p:cNvSpPr/>
            <p:nvPr/>
          </p:nvSpPr>
          <p:spPr>
            <a:xfrm>
              <a:off x="7321680" y="202248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79"/>
            <p:cNvSpPr/>
            <p:nvPr/>
          </p:nvSpPr>
          <p:spPr>
            <a:xfrm>
              <a:off x="5856120" y="2360520"/>
              <a:ext cx="17964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80"/>
            <p:cNvSpPr/>
            <p:nvPr/>
          </p:nvSpPr>
          <p:spPr>
            <a:xfrm>
              <a:off x="6821640" y="213192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1"/>
            <p:cNvSpPr/>
            <p:nvPr/>
          </p:nvSpPr>
          <p:spPr>
            <a:xfrm>
              <a:off x="6821640" y="1252440"/>
              <a:ext cx="179280" cy="16992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1492200" y="1284120"/>
            <a:ext cx="7299360" cy="198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4"/>
          <p:cNvSpPr/>
          <p:nvPr/>
        </p:nvSpPr>
        <p:spPr>
          <a:xfrm>
            <a:off x="1647000" y="1476360"/>
            <a:ext cx="700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undefined concept in geometry is the idea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on a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ther points on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is idea to define other important ter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6"/>
          <p:cNvGrpSpPr/>
          <p:nvPr/>
        </p:nvGrpSpPr>
        <p:grpSpPr>
          <a:xfrm>
            <a:off x="195120" y="195120"/>
            <a:ext cx="6992280" cy="446400"/>
            <a:chOff x="195120" y="195120"/>
            <a:chExt cx="6992280" cy="446400"/>
          </a:xfrm>
        </p:grpSpPr>
        <p:pic>
          <p:nvPicPr>
            <p:cNvPr id="226" name="Picture 17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8"/>
            <p:cNvSpPr/>
            <p:nvPr/>
          </p:nvSpPr>
          <p:spPr>
            <a:xfrm>
              <a:off x="1346400" y="206280"/>
              <a:ext cx="584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TERMS AND D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1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036" descr="thumbnail"/>
          <p:cNvPicPr/>
          <p:nvPr/>
        </p:nvPicPr>
        <p:blipFill>
          <a:blip r:embed="rId3"/>
          <a:stretch/>
        </p:blipFill>
        <p:spPr>
          <a:xfrm>
            <a:off x="5618160" y="37544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1370160" y="3832200"/>
            <a:ext cx="128880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1941480" y="2975040"/>
            <a:ext cx="3141720" cy="352440"/>
            <a:chOff x="1941480" y="2975040"/>
            <a:chExt cx="3141720" cy="352440"/>
          </a:xfrm>
        </p:grpSpPr>
        <p:sp>
          <p:nvSpPr>
            <p:cNvPr id="232" name="Rectangle 12"/>
            <p:cNvSpPr/>
            <p:nvPr/>
          </p:nvSpPr>
          <p:spPr>
            <a:xfrm>
              <a:off x="3892680" y="2975040"/>
              <a:ext cx="1190520" cy="344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1941480" y="2983320"/>
              <a:ext cx="1633680" cy="3441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2895480" y="917640"/>
            <a:ext cx="64620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5708520" y="1498680"/>
            <a:ext cx="3062520" cy="976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6"/>
          <p:cNvSpPr/>
          <p:nvPr/>
        </p:nvSpPr>
        <p:spPr>
          <a:xfrm>
            <a:off x="5549760" y="1549440"/>
            <a:ext cx="3327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3"/>
          <a:stretch/>
        </p:blipFill>
        <p:spPr>
          <a:xfrm>
            <a:off x="6337440" y="1460520"/>
            <a:ext cx="16333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31"/>
          <p:cNvGrpSpPr/>
          <p:nvPr/>
        </p:nvGrpSpPr>
        <p:grpSpPr>
          <a:xfrm>
            <a:off x="1346760" y="2870280"/>
            <a:ext cx="4779720" cy="1836360"/>
            <a:chOff x="1346760" y="2870280"/>
            <a:chExt cx="4779720" cy="1836360"/>
          </a:xfrm>
        </p:grpSpPr>
        <p:sp>
          <p:nvSpPr>
            <p:cNvPr id="240" name="Rectangle 10"/>
            <p:cNvSpPr/>
            <p:nvPr/>
          </p:nvSpPr>
          <p:spPr>
            <a:xfrm>
              <a:off x="1346760" y="2870280"/>
              <a:ext cx="47797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 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or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consists of th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ndpoint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all points o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at are between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3261960" y="34261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>
              <a:off x="5702040" y="3835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Rectangle 24"/>
          <p:cNvSpPr/>
          <p:nvPr/>
        </p:nvSpPr>
        <p:spPr>
          <a:xfrm rot="5400">
            <a:off x="6435360" y="1914480"/>
            <a:ext cx="1433520" cy="150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8"/>
          <p:cNvGrpSpPr/>
          <p:nvPr/>
        </p:nvGrpSpPr>
        <p:grpSpPr>
          <a:xfrm>
            <a:off x="6432480" y="1914480"/>
            <a:ext cx="1447920" cy="162000"/>
            <a:chOff x="6432480" y="1914480"/>
            <a:chExt cx="1447920" cy="162000"/>
          </a:xfrm>
        </p:grpSpPr>
        <p:sp>
          <p:nvSpPr>
            <p:cNvPr id="245" name="Oval 26"/>
            <p:cNvSpPr/>
            <p:nvPr/>
          </p:nvSpPr>
          <p:spPr>
            <a:xfrm>
              <a:off x="6432480" y="191772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27"/>
            <p:cNvSpPr/>
            <p:nvPr/>
          </p:nvSpPr>
          <p:spPr>
            <a:xfrm>
              <a:off x="7718400" y="1914480"/>
              <a:ext cx="162000" cy="15876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48" name="Picture 33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34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Line 35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2"/>
          <p:cNvGrpSpPr/>
          <p:nvPr/>
        </p:nvGrpSpPr>
        <p:grpSpPr>
          <a:xfrm>
            <a:off x="1335240" y="878040"/>
            <a:ext cx="5033160" cy="764280"/>
            <a:chOff x="1335240" y="878040"/>
            <a:chExt cx="5033160" cy="764280"/>
          </a:xfrm>
        </p:grpSpPr>
        <p:sp>
          <p:nvSpPr>
            <p:cNvPr id="252" name="Rectangle 3"/>
            <p:cNvSpPr/>
            <p:nvPr/>
          </p:nvSpPr>
          <p:spPr>
            <a:xfrm>
              <a:off x="1335240" y="878040"/>
              <a:ext cx="50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nsider the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(symbolized by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5791320" y="914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Picture 44" descr="thumbnail"/>
          <p:cNvPicPr/>
          <p:nvPr/>
        </p:nvPicPr>
        <p:blipFill>
          <a:blip r:embed="rId5"/>
          <a:stretch/>
        </p:blipFill>
        <p:spPr>
          <a:xfrm>
            <a:off x="6048360" y="40924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9"/>
          <p:cNvSpPr/>
          <p:nvPr/>
        </p:nvSpPr>
        <p:spPr>
          <a:xfrm>
            <a:off x="2263680" y="1368360"/>
            <a:ext cx="148752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048040" y="961920"/>
            <a:ext cx="53496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0"/>
          <p:cNvSpPr/>
          <p:nvPr/>
        </p:nvSpPr>
        <p:spPr>
          <a:xfrm>
            <a:off x="4857840" y="965160"/>
            <a:ext cx="215640" cy="31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d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445400" y="873000"/>
            <a:ext cx="5006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ymbolized by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consi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l 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ll points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lie on the same sid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poi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0" y="61801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2"/>
          <a:stretch/>
        </p:blipFill>
        <p:spPr>
          <a:xfrm>
            <a:off x="5950080" y="2087640"/>
            <a:ext cx="2743200" cy="1104840"/>
          </a:xfrm>
          <a:prstGeom prst="rect">
            <a:avLst/>
          </a:prstGeom>
          <a:ln w="0">
            <a:noFill/>
          </a:ln>
        </p:spPr>
      </p:pic>
      <p:sp>
        <p:nvSpPr>
          <p:cNvPr id="261" name="Line 14"/>
          <p:cNvSpPr/>
          <p:nvPr/>
        </p:nvSpPr>
        <p:spPr>
          <a:xfrm>
            <a:off x="4863960" y="9399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3"/>
          <a:stretch/>
        </p:blipFill>
        <p:spPr>
          <a:xfrm>
            <a:off x="6006960" y="5029200"/>
            <a:ext cx="2476800" cy="1104840"/>
          </a:xfrm>
          <a:prstGeom prst="rect">
            <a:avLst/>
          </a:prstGeom>
          <a:ln w="0">
            <a:noFill/>
          </a:ln>
        </p:spPr>
      </p:pic>
      <p:sp>
        <p:nvSpPr>
          <p:cNvPr id="263" name="Line 20"/>
          <p:cNvSpPr/>
          <p:nvPr/>
        </p:nvSpPr>
        <p:spPr>
          <a:xfrm>
            <a:off x="6045120" y="13460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1" descr=""/>
          <p:cNvPicPr/>
          <p:nvPr/>
        </p:nvPicPr>
        <p:blipFill>
          <a:blip r:embed="rId4"/>
          <a:stretch/>
        </p:blipFill>
        <p:spPr>
          <a:xfrm>
            <a:off x="5688000" y="3606840"/>
            <a:ext cx="3062160" cy="9763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4"/>
          <p:cNvGrpSpPr/>
          <p:nvPr/>
        </p:nvGrpSpPr>
        <p:grpSpPr>
          <a:xfrm>
            <a:off x="1451160" y="3332160"/>
            <a:ext cx="4601520" cy="898200"/>
            <a:chOff x="1451160" y="3332160"/>
            <a:chExt cx="4601520" cy="898200"/>
          </a:xfrm>
        </p:grpSpPr>
        <p:sp>
          <p:nvSpPr>
            <p:cNvPr id="266" name="Rectangle 16"/>
            <p:cNvSpPr/>
            <p:nvPr/>
          </p:nvSpPr>
          <p:spPr>
            <a:xfrm>
              <a:off x="1451160" y="3332160"/>
              <a:ext cx="460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s the same a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654280" y="34164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4686480" y="34034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5638680" y="341640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3174840" y="380988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42"/>
          <p:cNvSpPr/>
          <p:nvPr/>
        </p:nvSpPr>
        <p:spPr>
          <a:xfrm>
            <a:off x="3594240" y="4616280"/>
            <a:ext cx="203040" cy="26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767d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5"/>
          <p:cNvGrpSpPr/>
          <p:nvPr/>
        </p:nvGrpSpPr>
        <p:grpSpPr>
          <a:xfrm>
            <a:off x="1450440" y="4525920"/>
            <a:ext cx="4561560" cy="1099440"/>
            <a:chOff x="1450440" y="4525920"/>
            <a:chExt cx="4561560" cy="1099440"/>
          </a:xfrm>
        </p:grpSpPr>
        <p:sp>
          <p:nvSpPr>
            <p:cNvPr id="273" name="Rectangle 17"/>
            <p:cNvSpPr/>
            <p:nvPr/>
          </p:nvSpPr>
          <p:spPr>
            <a:xfrm>
              <a:off x="1450440" y="4525920"/>
              <a:ext cx="4561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owever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re not the sam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y have different initial points and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tend in different direction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92440" y="45590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3594240" y="45716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Oval 32"/>
          <p:cNvSpPr/>
          <p:nvPr/>
        </p:nvSpPr>
        <p:spPr>
          <a:xfrm>
            <a:off x="6058080" y="2565360"/>
            <a:ext cx="177480" cy="177840"/>
          </a:xfrm>
          <a:prstGeom prst="ellipse">
            <a:avLst/>
          </a:prstGeom>
          <a:solidFill>
            <a:srgbClr val="fe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3"/>
          <p:cNvSpPr/>
          <p:nvPr/>
        </p:nvSpPr>
        <p:spPr>
          <a:xfrm>
            <a:off x="8204040" y="5511960"/>
            <a:ext cx="177840" cy="177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279" name="Picture 37" descr=""/>
            <p:cNvPicPr/>
            <p:nvPr/>
          </p:nvPicPr>
          <p:blipFill>
            <a:blip r:embed="rId5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8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39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Line 3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2746440" y="1457280"/>
            <a:ext cx="1779480" cy="344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2"/>
          <a:srcRect l="13554" t="0" r="21985" b="59774"/>
          <a:stretch/>
        </p:blipFill>
        <p:spPr>
          <a:xfrm>
            <a:off x="5727600" y="1663560"/>
            <a:ext cx="2235240" cy="4446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1355760" y="947880"/>
            <a:ext cx="4197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fe000d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r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4826160" y="101592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943280" y="14349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23"/>
          <p:cNvGrpSpPr/>
          <p:nvPr/>
        </p:nvGrpSpPr>
        <p:grpSpPr>
          <a:xfrm>
            <a:off x="6908760" y="2324160"/>
            <a:ext cx="1841400" cy="673200"/>
            <a:chOff x="6908760" y="2324160"/>
            <a:chExt cx="1841400" cy="673200"/>
          </a:xfrm>
        </p:grpSpPr>
        <p:pic>
          <p:nvPicPr>
            <p:cNvPr id="289" name="Picture 14" descr=""/>
            <p:cNvPicPr/>
            <p:nvPr/>
          </p:nvPicPr>
          <p:blipFill>
            <a:blip r:embed="rId3"/>
            <a:srcRect l="62093" t="62076" r="28215" b="0"/>
            <a:stretch/>
          </p:blipFill>
          <p:spPr>
            <a:xfrm>
              <a:off x="7232400" y="2578320"/>
              <a:ext cx="33660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Line 17"/>
            <p:cNvSpPr/>
            <p:nvPr/>
          </p:nvSpPr>
          <p:spPr>
            <a:xfrm>
              <a:off x="6908760" y="2413080"/>
              <a:ext cx="184140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7315200" y="2324160"/>
              <a:ext cx="177840" cy="177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5130720" y="2324160"/>
            <a:ext cx="1790640" cy="659880"/>
            <a:chOff x="5130720" y="2324160"/>
            <a:chExt cx="1790640" cy="659880"/>
          </a:xfrm>
        </p:grpSpPr>
        <p:pic>
          <p:nvPicPr>
            <p:cNvPr id="293" name="Picture 13" descr=""/>
            <p:cNvPicPr/>
            <p:nvPr/>
          </p:nvPicPr>
          <p:blipFill>
            <a:blip r:embed="rId4"/>
            <a:srcRect l="21252" t="60947" r="68877" b="0"/>
            <a:stretch/>
          </p:blipFill>
          <p:spPr>
            <a:xfrm>
              <a:off x="5842080" y="2552400"/>
              <a:ext cx="34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16"/>
            <p:cNvSpPr/>
            <p:nvPr/>
          </p:nvSpPr>
          <p:spPr>
            <a:xfrm flipH="1">
              <a:off x="5130720" y="2412720"/>
              <a:ext cx="1790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0"/>
            <p:cNvSpPr/>
            <p:nvPr/>
          </p:nvSpPr>
          <p:spPr>
            <a:xfrm>
              <a:off x="5956200" y="2324160"/>
              <a:ext cx="177840" cy="1774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2"/>
          <p:cNvGrpSpPr/>
          <p:nvPr/>
        </p:nvGrpSpPr>
        <p:grpSpPr>
          <a:xfrm>
            <a:off x="6788160" y="2324160"/>
            <a:ext cx="234720" cy="685800"/>
            <a:chOff x="6788160" y="2324160"/>
            <a:chExt cx="234720" cy="685800"/>
          </a:xfrm>
        </p:grpSpPr>
        <p:sp>
          <p:nvSpPr>
            <p:cNvPr id="297" name="Oval 19"/>
            <p:cNvSpPr/>
            <p:nvPr/>
          </p:nvSpPr>
          <p:spPr>
            <a:xfrm>
              <a:off x="6819840" y="232416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Picture 21" descr=""/>
            <p:cNvPicPr/>
            <p:nvPr/>
          </p:nvPicPr>
          <p:blipFill>
            <a:blip r:embed="rId5"/>
            <a:srcRect l="50007" t="62076" r="43237" b="0"/>
            <a:stretch/>
          </p:blipFill>
          <p:spPr>
            <a:xfrm>
              <a:off x="6788160" y="2590920"/>
              <a:ext cx="23472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25"/>
          <p:cNvSpPr/>
          <p:nvPr/>
        </p:nvSpPr>
        <p:spPr>
          <a:xfrm>
            <a:off x="1120680" y="3578400"/>
            <a:ext cx="7392960" cy="181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1282680" y="3705120"/>
            <a:ext cx="701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points, segments and rays are collinear if they 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ame plane. So, any two opposite ray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near. Segments, rays, and lines are coplanar if the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7"/>
          <p:cNvGrpSpPr/>
          <p:nvPr/>
        </p:nvGrpSpPr>
        <p:grpSpPr>
          <a:xfrm>
            <a:off x="195120" y="195120"/>
            <a:ext cx="7025040" cy="446400"/>
            <a:chOff x="195120" y="195120"/>
            <a:chExt cx="7025040" cy="446400"/>
          </a:xfrm>
        </p:grpSpPr>
        <p:pic>
          <p:nvPicPr>
            <p:cNvPr id="302" name="Picture 28" descr=""/>
            <p:cNvPicPr/>
            <p:nvPr/>
          </p:nvPicPr>
          <p:blipFill>
            <a:blip r:embed="rId6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9"/>
            <p:cNvSpPr/>
            <p:nvPr/>
          </p:nvSpPr>
          <p:spPr>
            <a:xfrm>
              <a:off x="1347120" y="206280"/>
              <a:ext cx="587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DEFINE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S AND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IN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Line 30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5"/>
          <p:cNvSpPr/>
          <p:nvPr/>
        </p:nvSpPr>
        <p:spPr>
          <a:xfrm flipH="1">
            <a:off x="4762080" y="4106880"/>
            <a:ext cx="2700360" cy="495360"/>
          </a:xfrm>
          <a:prstGeom prst="line">
            <a:avLst/>
          </a:prstGeom>
          <a:ln w="50760">
            <a:solidFill>
              <a:srgbClr val="05875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4"/>
          <p:cNvSpPr/>
          <p:nvPr/>
        </p:nvSpPr>
        <p:spPr>
          <a:xfrm>
            <a:off x="6553080" y="2692440"/>
            <a:ext cx="932040" cy="1414440"/>
          </a:xfrm>
          <a:prstGeom prst="line">
            <a:avLst/>
          </a:prstGeom>
          <a:ln w="50760">
            <a:solidFill>
              <a:srgbClr val="08b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3"/>
          <p:cNvGrpSpPr/>
          <p:nvPr/>
        </p:nvGrpSpPr>
        <p:grpSpPr>
          <a:xfrm>
            <a:off x="177840" y="117360"/>
            <a:ext cx="5483520" cy="460440"/>
            <a:chOff x="177840" y="117360"/>
            <a:chExt cx="5483520" cy="460440"/>
          </a:xfrm>
        </p:grpSpPr>
        <p:sp>
          <p:nvSpPr>
            <p:cNvPr id="309" name="Text Box 4"/>
            <p:cNvSpPr/>
            <p:nvPr/>
          </p:nvSpPr>
          <p:spPr>
            <a:xfrm>
              <a:off x="1554840" y="154080"/>
              <a:ext cx="41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Lines, Segments, and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7"/>
          <p:cNvGrpSpPr/>
          <p:nvPr/>
        </p:nvGrpSpPr>
        <p:grpSpPr>
          <a:xfrm>
            <a:off x="1549440" y="2882160"/>
            <a:ext cx="304920" cy="368280"/>
            <a:chOff x="1549440" y="2882160"/>
            <a:chExt cx="304920" cy="368280"/>
          </a:xfrm>
        </p:grpSpPr>
        <p:sp>
          <p:nvSpPr>
            <p:cNvPr id="313" name="Oval 8"/>
            <p:cNvSpPr/>
            <p:nvPr/>
          </p:nvSpPr>
          <p:spPr>
            <a:xfrm>
              <a:off x="1549440" y="29080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1549440" y="28821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0"/>
          <p:cNvGrpSpPr/>
          <p:nvPr/>
        </p:nvGrpSpPr>
        <p:grpSpPr>
          <a:xfrm>
            <a:off x="1549440" y="3458520"/>
            <a:ext cx="304920" cy="368280"/>
            <a:chOff x="1549440" y="3458520"/>
            <a:chExt cx="304920" cy="368280"/>
          </a:xfrm>
        </p:grpSpPr>
        <p:sp>
          <p:nvSpPr>
            <p:cNvPr id="316" name="Oval 11"/>
            <p:cNvSpPr/>
            <p:nvPr/>
          </p:nvSpPr>
          <p:spPr>
            <a:xfrm>
              <a:off x="1549440" y="34844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1549440" y="34585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3"/>
          <p:cNvGrpSpPr/>
          <p:nvPr/>
        </p:nvGrpSpPr>
        <p:grpSpPr>
          <a:xfrm>
            <a:off x="1549440" y="3988800"/>
            <a:ext cx="304920" cy="368280"/>
            <a:chOff x="1549440" y="3988800"/>
            <a:chExt cx="304920" cy="368280"/>
          </a:xfrm>
        </p:grpSpPr>
        <p:sp>
          <p:nvSpPr>
            <p:cNvPr id="319" name="Oval 14"/>
            <p:cNvSpPr/>
            <p:nvPr/>
          </p:nvSpPr>
          <p:spPr>
            <a:xfrm>
              <a:off x="1549440" y="40147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1549440" y="39888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6"/>
          <p:cNvGrpSpPr/>
          <p:nvPr/>
        </p:nvGrpSpPr>
        <p:grpSpPr>
          <a:xfrm>
            <a:off x="1549440" y="4521960"/>
            <a:ext cx="304920" cy="368280"/>
            <a:chOff x="1549440" y="4521960"/>
            <a:chExt cx="304920" cy="368280"/>
          </a:xfrm>
        </p:grpSpPr>
        <p:sp>
          <p:nvSpPr>
            <p:cNvPr id="322" name="Oval 17"/>
            <p:cNvSpPr/>
            <p:nvPr/>
          </p:nvSpPr>
          <p:spPr>
            <a:xfrm>
              <a:off x="1549440" y="45478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18"/>
            <p:cNvSpPr/>
            <p:nvPr/>
          </p:nvSpPr>
          <p:spPr>
            <a:xfrm>
              <a:off x="1549440" y="45219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19"/>
          <p:cNvSpPr/>
          <p:nvPr/>
        </p:nvSpPr>
        <p:spPr>
          <a:xfrm>
            <a:off x="1558800" y="808200"/>
            <a:ext cx="6181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hree noncollinear point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K,  K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4348080" y="139716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3454560" y="14097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2"/>
          <p:cNvSpPr/>
          <p:nvPr/>
        </p:nvSpPr>
        <p:spPr>
          <a:xfrm>
            <a:off x="2959200" y="139716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6200" y="206532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542960" y="20890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2"/>
          <p:cNvSpPr/>
          <p:nvPr/>
        </p:nvSpPr>
        <p:spPr>
          <a:xfrm flipV="1">
            <a:off x="4979880" y="2120760"/>
            <a:ext cx="1984320" cy="2826000"/>
          </a:xfrm>
          <a:prstGeom prst="line">
            <a:avLst/>
          </a:prstGeom>
          <a:ln w="50760">
            <a:solidFill>
              <a:srgbClr val="fe000d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1974960" y="2819520"/>
            <a:ext cx="20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53"/>
          <p:cNvGrpSpPr/>
          <p:nvPr/>
        </p:nvGrpSpPr>
        <p:grpSpPr>
          <a:xfrm>
            <a:off x="1975680" y="3406680"/>
            <a:ext cx="1248840" cy="429120"/>
            <a:chOff x="1975680" y="3406680"/>
            <a:chExt cx="1248840" cy="429120"/>
          </a:xfrm>
        </p:grpSpPr>
        <p:sp>
          <p:nvSpPr>
            <p:cNvPr id="333" name="Rectangle 37"/>
            <p:cNvSpPr/>
            <p:nvPr/>
          </p:nvSpPr>
          <p:spPr>
            <a:xfrm>
              <a:off x="1975680" y="3406680"/>
              <a:ext cx="124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K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>
              <a:off x="2778120" y="3414600"/>
              <a:ext cx="345960" cy="0"/>
            </a:xfrm>
            <a:prstGeom prst="line">
              <a:avLst/>
            </a:prstGeom>
            <a:ln w="19080">
              <a:solidFill>
                <a:srgbClr val="fe000d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55"/>
          <p:cNvGrpSpPr/>
          <p:nvPr/>
        </p:nvGrpSpPr>
        <p:grpSpPr>
          <a:xfrm>
            <a:off x="1975680" y="4484520"/>
            <a:ext cx="1218600" cy="432360"/>
            <a:chOff x="1975680" y="4484520"/>
            <a:chExt cx="1218600" cy="432360"/>
          </a:xfrm>
        </p:grpSpPr>
        <p:sp>
          <p:nvSpPr>
            <p:cNvPr id="336" name="Rectangle 39"/>
            <p:cNvSpPr/>
            <p:nvPr/>
          </p:nvSpPr>
          <p:spPr>
            <a:xfrm>
              <a:off x="1975680" y="4487760"/>
              <a:ext cx="121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LJ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2"/>
            <p:cNvSpPr/>
            <p:nvPr/>
          </p:nvSpPr>
          <p:spPr>
            <a:xfrm>
              <a:off x="2755800" y="4484520"/>
              <a:ext cx="346320" cy="0"/>
            </a:xfrm>
            <a:prstGeom prst="line">
              <a:avLst/>
            </a:prstGeom>
            <a:ln w="19080">
              <a:solidFill>
                <a:srgbClr val="05875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4877280" y="2227320"/>
            <a:ext cx="2886840" cy="2502720"/>
            <a:chOff x="4877280" y="2227320"/>
            <a:chExt cx="2886840" cy="2502720"/>
          </a:xfrm>
        </p:grpSpPr>
        <p:sp>
          <p:nvSpPr>
            <p:cNvPr id="339" name="Text Box 25"/>
            <p:cNvSpPr/>
            <p:nvPr/>
          </p:nvSpPr>
          <p:spPr>
            <a:xfrm>
              <a:off x="6117120" y="222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7397640" y="4270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3"/>
            <p:cNvSpPr/>
            <p:nvPr/>
          </p:nvSpPr>
          <p:spPr>
            <a:xfrm>
              <a:off x="4877280" y="392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4"/>
            <p:cNvSpPr/>
            <p:nvPr/>
          </p:nvSpPr>
          <p:spPr>
            <a:xfrm>
              <a:off x="6477120" y="26035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6"/>
            <p:cNvSpPr/>
            <p:nvPr/>
          </p:nvSpPr>
          <p:spPr>
            <a:xfrm>
              <a:off x="7378560" y="401328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7"/>
            <p:cNvSpPr/>
            <p:nvPr/>
          </p:nvSpPr>
          <p:spPr>
            <a:xfrm>
              <a:off x="5181480" y="4419720"/>
              <a:ext cx="17784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54"/>
          <p:cNvGrpSpPr/>
          <p:nvPr/>
        </p:nvGrpSpPr>
        <p:grpSpPr>
          <a:xfrm>
            <a:off x="1975680" y="3935520"/>
            <a:ext cx="1280880" cy="429120"/>
            <a:chOff x="1975680" y="3935520"/>
            <a:chExt cx="1280880" cy="429120"/>
          </a:xfrm>
        </p:grpSpPr>
        <p:sp>
          <p:nvSpPr>
            <p:cNvPr id="346" name="Rectangle 38"/>
            <p:cNvSpPr/>
            <p:nvPr/>
          </p:nvSpPr>
          <p:spPr>
            <a:xfrm>
              <a:off x="1975680" y="3935520"/>
              <a:ext cx="12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raw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50"/>
            <p:cNvSpPr/>
            <p:nvPr/>
          </p:nvSpPr>
          <p:spPr>
            <a:xfrm>
              <a:off x="2768760" y="3962520"/>
              <a:ext cx="3459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71"/>
          <p:cNvGrpSpPr/>
          <p:nvPr/>
        </p:nvGrpSpPr>
        <p:grpSpPr>
          <a:xfrm>
            <a:off x="2236680" y="5411880"/>
            <a:ext cx="1714680" cy="512640"/>
            <a:chOff x="2236680" y="5411880"/>
            <a:chExt cx="1714680" cy="512640"/>
          </a:xfrm>
        </p:grpSpPr>
        <p:sp>
          <p:nvSpPr>
            <p:cNvPr id="349" name="Rectangle 58"/>
            <p:cNvSpPr/>
            <p:nvPr/>
          </p:nvSpPr>
          <p:spPr>
            <a:xfrm>
              <a:off x="2236680" y="5411880"/>
              <a:ext cx="60984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9"/>
            <p:cNvSpPr/>
            <p:nvPr/>
          </p:nvSpPr>
          <p:spPr>
            <a:xfrm>
              <a:off x="3387600" y="5416560"/>
              <a:ext cx="563760" cy="47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64"/>
          <p:cNvGrpSpPr/>
          <p:nvPr/>
        </p:nvGrpSpPr>
        <p:grpSpPr>
          <a:xfrm>
            <a:off x="2173320" y="3672000"/>
            <a:ext cx="1735200" cy="512640"/>
            <a:chOff x="2173320" y="3672000"/>
            <a:chExt cx="1735200" cy="512640"/>
          </a:xfrm>
        </p:grpSpPr>
        <p:sp>
          <p:nvSpPr>
            <p:cNvPr id="352" name="Rectangle 45"/>
            <p:cNvSpPr/>
            <p:nvPr/>
          </p:nvSpPr>
          <p:spPr>
            <a:xfrm>
              <a:off x="2173320" y="3672000"/>
              <a:ext cx="609480" cy="512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8"/>
            <p:cNvSpPr/>
            <p:nvPr/>
          </p:nvSpPr>
          <p:spPr>
            <a:xfrm>
              <a:off x="3344760" y="3689280"/>
              <a:ext cx="563760" cy="478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177840" y="117360"/>
            <a:ext cx="4124880" cy="460440"/>
            <a:chOff x="177840" y="117360"/>
            <a:chExt cx="4124880" cy="460440"/>
          </a:xfrm>
        </p:grpSpPr>
        <p:sp>
          <p:nvSpPr>
            <p:cNvPr id="356" name="Text Box 4"/>
            <p:cNvSpPr/>
            <p:nvPr/>
          </p:nvSpPr>
          <p:spPr>
            <a:xfrm>
              <a:off x="1555560" y="15408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ing Opposite 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80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Line 6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622880" y="693720"/>
            <a:ext cx="6412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lines. Label points on the lines and nam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irs of opposite ray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1628640" y="190980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1625760" y="193356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3086280" cy="20368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73"/>
          <p:cNvGrpSpPr/>
          <p:nvPr/>
        </p:nvGrpSpPr>
        <p:grpSpPr>
          <a:xfrm>
            <a:off x="5627520" y="2245680"/>
            <a:ext cx="2792880" cy="1845360"/>
            <a:chOff x="5627520" y="2245680"/>
            <a:chExt cx="2792880" cy="1845360"/>
          </a:xfrm>
        </p:grpSpPr>
        <p:sp>
          <p:nvSpPr>
            <p:cNvPr id="364" name="Rectangle 23"/>
            <p:cNvSpPr/>
            <p:nvPr/>
          </p:nvSpPr>
          <p:spPr>
            <a:xfrm rot="1939200">
              <a:off x="5546880" y="2677680"/>
              <a:ext cx="1670040" cy="1825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 rot="1939200">
              <a:off x="6881760" y="3527280"/>
              <a:ext cx="1627200" cy="1396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2"/>
          <p:cNvGrpSpPr/>
          <p:nvPr/>
        </p:nvGrpSpPr>
        <p:grpSpPr>
          <a:xfrm>
            <a:off x="5595120" y="2252520"/>
            <a:ext cx="2815560" cy="1838520"/>
            <a:chOff x="5595120" y="2252520"/>
            <a:chExt cx="2815560" cy="1838520"/>
          </a:xfrm>
        </p:grpSpPr>
        <p:sp>
          <p:nvSpPr>
            <p:cNvPr id="367" name="Rectangle 39"/>
            <p:cNvSpPr/>
            <p:nvPr/>
          </p:nvSpPr>
          <p:spPr>
            <a:xfrm rot="19665000">
              <a:off x="5514480" y="3505320"/>
              <a:ext cx="1617840" cy="1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0"/>
            <p:cNvSpPr/>
            <p:nvPr/>
          </p:nvSpPr>
          <p:spPr>
            <a:xfrm rot="19635000">
              <a:off x="6892920" y="2678040"/>
              <a:ext cx="1611360" cy="127080"/>
            </a:xfrm>
            <a:prstGeom prst="rect">
              <a:avLst/>
            </a:prstGeom>
            <a:solidFill>
              <a:srgbClr val="08b3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Oval 42"/>
          <p:cNvSpPr/>
          <p:nvPr/>
        </p:nvSpPr>
        <p:spPr>
          <a:xfrm>
            <a:off x="6946920" y="3098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63"/>
          <p:cNvGrpSpPr/>
          <p:nvPr/>
        </p:nvGrpSpPr>
        <p:grpSpPr>
          <a:xfrm>
            <a:off x="5991120" y="2511360"/>
            <a:ext cx="2286000" cy="1481040"/>
            <a:chOff x="5991120" y="2511360"/>
            <a:chExt cx="2286000" cy="1481040"/>
          </a:xfrm>
        </p:grpSpPr>
        <p:sp>
          <p:nvSpPr>
            <p:cNvPr id="371" name="Oval 43"/>
            <p:cNvSpPr/>
            <p:nvPr/>
          </p:nvSpPr>
          <p:spPr>
            <a:xfrm>
              <a:off x="5991120" y="25113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60"/>
            <p:cNvSpPr/>
            <p:nvPr/>
          </p:nvSpPr>
          <p:spPr>
            <a:xfrm>
              <a:off x="6948360" y="31129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61"/>
            <p:cNvSpPr/>
            <p:nvPr/>
          </p:nvSpPr>
          <p:spPr>
            <a:xfrm>
              <a:off x="8137440" y="38527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69"/>
          <p:cNvGrpSpPr/>
          <p:nvPr/>
        </p:nvGrpSpPr>
        <p:grpSpPr>
          <a:xfrm>
            <a:off x="6041880" y="2417760"/>
            <a:ext cx="2133720" cy="1389240"/>
            <a:chOff x="6041880" y="2417760"/>
            <a:chExt cx="2133720" cy="1389240"/>
          </a:xfrm>
        </p:grpSpPr>
        <p:sp>
          <p:nvSpPr>
            <p:cNvPr id="375" name="Oval 66"/>
            <p:cNvSpPr/>
            <p:nvPr/>
          </p:nvSpPr>
          <p:spPr>
            <a:xfrm>
              <a:off x="6041880" y="3666960"/>
              <a:ext cx="139680" cy="14004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67"/>
            <p:cNvSpPr/>
            <p:nvPr/>
          </p:nvSpPr>
          <p:spPr>
            <a:xfrm>
              <a:off x="6935760" y="310032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68"/>
            <p:cNvSpPr/>
            <p:nvPr/>
          </p:nvSpPr>
          <p:spPr>
            <a:xfrm>
              <a:off x="8035920" y="2417760"/>
              <a:ext cx="139680" cy="139680"/>
            </a:xfrm>
            <a:prstGeom prst="ellipse">
              <a:avLst/>
            </a:prstGeom>
            <a:solidFill>
              <a:srgbClr val="fe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1636920" y="255888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74"/>
          <p:cNvGrpSpPr/>
          <p:nvPr/>
        </p:nvGrpSpPr>
        <p:grpSpPr>
          <a:xfrm>
            <a:off x="1622880" y="3749760"/>
            <a:ext cx="2831040" cy="825480"/>
            <a:chOff x="1622880" y="3749760"/>
            <a:chExt cx="2831040" cy="825480"/>
          </a:xfrm>
        </p:grpSpPr>
        <p:sp>
          <p:nvSpPr>
            <p:cNvPr id="380" name="Line 21"/>
            <p:cNvSpPr/>
            <p:nvPr/>
          </p:nvSpPr>
          <p:spPr>
            <a:xfrm>
              <a:off x="2311560" y="380052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3416400" y="3795840"/>
              <a:ext cx="42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1622880" y="3749760"/>
              <a:ext cx="283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28"/>
          <p:cNvSpPr/>
          <p:nvPr/>
        </p:nvSpPr>
        <p:spPr>
          <a:xfrm>
            <a:off x="1647000" y="4821120"/>
            <a:ext cx="708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and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llinear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75"/>
          <p:cNvGrpSpPr/>
          <p:nvPr/>
        </p:nvGrpSpPr>
        <p:grpSpPr>
          <a:xfrm>
            <a:off x="1714680" y="5497560"/>
            <a:ext cx="4743360" cy="459720"/>
            <a:chOff x="1714680" y="5497560"/>
            <a:chExt cx="4743360" cy="459720"/>
          </a:xfrm>
        </p:grpSpPr>
        <p:sp>
          <p:nvSpPr>
            <p:cNvPr id="385" name="Line 35"/>
            <p:cNvSpPr/>
            <p:nvPr/>
          </p:nvSpPr>
          <p:spPr>
            <a:xfrm>
              <a:off x="2347920" y="553248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3492360" y="5529240"/>
              <a:ext cx="42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1714680" y="5497560"/>
              <a:ext cx="47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nd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are opposite 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"/>
          <p:cNvSpPr/>
          <p:nvPr/>
        </p:nvSpPr>
        <p:spPr>
          <a:xfrm>
            <a:off x="1432080" y="1330200"/>
            <a:ext cx="7245360" cy="148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5192640" y="1576440"/>
            <a:ext cx="1209600" cy="30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5234040" y="1944720"/>
            <a:ext cx="1535040" cy="28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1347120" y="212760"/>
            <a:ext cx="683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TCH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ERSECTION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S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394" name="Line 5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551600" y="1536840"/>
            <a:ext cx="695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or more geometric figures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y have 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more points in common. The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figu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the set of points the figures have in comm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3" descr="thumbnail"/>
          <p:cNvPicPr/>
          <p:nvPr/>
        </p:nvPicPr>
        <p:blipFill>
          <a:blip r:embed="rId3"/>
          <a:stretch/>
        </p:blipFill>
        <p:spPr>
          <a:xfrm>
            <a:off x="709560" y="37288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398" name="Text Box 3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Picture 4" descr=""/>
            <p:cNvPicPr/>
            <p:nvPr/>
          </p:nvPicPr>
          <p:blipFill>
            <a:blip r:embed="rId1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Line 5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1533960" y="825480"/>
            <a:ext cx="55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a line that intersects a plane at one poi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1512720" y="149688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1509840" y="152100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506600" y="2097000"/>
            <a:ext cx="28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plane and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506600" y="276084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507320" y="3722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ine is hidden b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la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4737240" y="2514600"/>
            <a:ext cx="3919320" cy="1295280"/>
          </a:xfrm>
          <a:prstGeom prst="parallelogram">
            <a:avLst>
              <a:gd name="adj" fmla="val 756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6730920" y="1574640"/>
            <a:ext cx="0" cy="313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6730920" y="3146400"/>
            <a:ext cx="0" cy="654120"/>
          </a:xfrm>
          <a:prstGeom prst="line">
            <a:avLst/>
          </a:prstGeom>
          <a:ln w="3816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18"/>
          <p:cNvSpPr/>
          <p:nvPr/>
        </p:nvSpPr>
        <p:spPr>
          <a:xfrm>
            <a:off x="6664320" y="303228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23" descr="thumbnail"/>
          <p:cNvPicPr/>
          <p:nvPr/>
        </p:nvPicPr>
        <p:blipFill>
          <a:blip r:embed="rId3"/>
          <a:stretch/>
        </p:blipFill>
        <p:spPr>
          <a:xfrm>
            <a:off x="184320" y="4911840"/>
            <a:ext cx="2857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0" y="617076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534680" y="80820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etch two planes that intersect in a l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7"/>
          <p:cNvGrpSpPr/>
          <p:nvPr/>
        </p:nvGrpSpPr>
        <p:grpSpPr>
          <a:xfrm>
            <a:off x="177840" y="117360"/>
            <a:ext cx="4136760" cy="460440"/>
            <a:chOff x="177840" y="117360"/>
            <a:chExt cx="4136760" cy="460440"/>
          </a:xfrm>
        </p:grpSpPr>
        <p:sp>
          <p:nvSpPr>
            <p:cNvPr id="416" name="Text Box 8"/>
            <p:cNvSpPr/>
            <p:nvPr/>
          </p:nvSpPr>
          <p:spPr>
            <a:xfrm>
              <a:off x="1555200" y="15408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etching Inters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Picture 9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Line 10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525680" y="143352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522440" y="14572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512000" y="2255760"/>
            <a:ext cx="214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two pla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512720" y="2890800"/>
            <a:ext cx="30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hasize the lin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e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512000" y="3911760"/>
            <a:ext cx="269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shes indicate 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plane is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the other pl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4946760" y="3211560"/>
            <a:ext cx="3571920" cy="2101680"/>
          </a:xfrm>
          <a:prstGeom prst="parallelogram">
            <a:avLst>
              <a:gd name="adj" fmla="val 3113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5"/>
          <p:cNvSpPr/>
          <p:nvPr/>
        </p:nvSpPr>
        <p:spPr>
          <a:xfrm flipV="1">
            <a:off x="5310360" y="3213000"/>
            <a:ext cx="280800" cy="88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2"/>
          <p:cNvGrpSpPr/>
          <p:nvPr/>
        </p:nvGrpSpPr>
        <p:grpSpPr>
          <a:xfrm>
            <a:off x="5311800" y="2819520"/>
            <a:ext cx="2908440" cy="2646360"/>
            <a:chOff x="5311800" y="2819520"/>
            <a:chExt cx="2908440" cy="2646360"/>
          </a:xfrm>
        </p:grpSpPr>
        <p:sp>
          <p:nvSpPr>
            <p:cNvPr id="427" name="Rectangle 42"/>
            <p:cNvSpPr/>
            <p:nvPr/>
          </p:nvSpPr>
          <p:spPr>
            <a:xfrm>
              <a:off x="5313240" y="2819520"/>
              <a:ext cx="2890800" cy="2646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5311800" y="4108320"/>
              <a:ext cx="2908440" cy="1206720"/>
            </a:xfrm>
            <a:custGeom>
              <a:avLst/>
              <a:gdLst/>
              <a:ahLst/>
              <a:rect l="l" t="t" r="r" b="b"/>
              <a:pathLst>
                <a:path w="2528" h="885">
                  <a:moveTo>
                    <a:pt x="0" y="0"/>
                  </a:moveTo>
                  <a:lnTo>
                    <a:pt x="0" y="885"/>
                  </a:lnTo>
                  <a:lnTo>
                    <a:pt x="2208" y="885"/>
                  </a:lnTo>
                  <a:lnTo>
                    <a:pt x="25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Line 44"/>
          <p:cNvSpPr/>
          <p:nvPr/>
        </p:nvSpPr>
        <p:spPr>
          <a:xfrm>
            <a:off x="5313240" y="4108320"/>
            <a:ext cx="290520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6"/>
          <p:cNvSpPr/>
          <p:nvPr/>
        </p:nvSpPr>
        <p:spPr>
          <a:xfrm>
            <a:off x="5595840" y="3213000"/>
            <a:ext cx="2608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7"/>
          <p:cNvSpPr/>
          <p:nvPr/>
        </p:nvSpPr>
        <p:spPr>
          <a:xfrm>
            <a:off x="5315040" y="4091040"/>
            <a:ext cx="0" cy="125100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y is a branch of mathematics that deals with points, lines, planes and solids, and examines their properties, measurement, and mutual relationship i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ag00291_"/>
          <p:cNvPicPr/>
          <p:nvPr/>
        </p:nvPicPr>
        <p:blipFill>
          <a:blip r:embed="rId1"/>
          <a:stretch/>
        </p:blipFill>
        <p:spPr>
          <a:xfrm>
            <a:off x="6324480" y="5486400"/>
            <a:ext cx="195264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055588[1]"/>
          <p:cNvPicPr/>
          <p:nvPr/>
        </p:nvPicPr>
        <p:blipFill>
          <a:blip r:embed="rId2"/>
          <a:stretch/>
        </p:blipFill>
        <p:spPr>
          <a:xfrm>
            <a:off x="4876920" y="1371600"/>
            <a:ext cx="377964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was used by ancient Egypt to measure land and build pyramids. The Greeks used a straightedge and a compass to draw lines and circles. They discovered ways to calculate distances without actually measur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21701878"/>
          <p:cNvPicPr/>
          <p:nvPr/>
        </p:nvPicPr>
        <p:blipFill>
          <a:blip r:embed="rId1"/>
          <a:stretch/>
        </p:blipFill>
        <p:spPr>
          <a:xfrm>
            <a:off x="7543800" y="4648320"/>
            <a:ext cx="723960" cy="112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greece_map_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4952880"/>
            <a:ext cx="150516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gypt_map_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5334120"/>
            <a:ext cx="99036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in many fields use geometry. For example, engineers, rocket scientists, surveyors, designers, graphic artists, carpenters, astronomers, plumbers, laboratory technologists, advertising copywriters, construction workers, chemists, astronauts, and many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M900356782[1]"/>
          <p:cNvPicPr/>
          <p:nvPr/>
        </p:nvPicPr>
        <p:blipFill>
          <a:blip r:embed="rId1"/>
          <a:stretch/>
        </p:blipFill>
        <p:spPr>
          <a:xfrm>
            <a:off x="6705720" y="5715000"/>
            <a:ext cx="102852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M900354623[1]"/>
          <p:cNvPicPr/>
          <p:nvPr/>
        </p:nvPicPr>
        <p:blipFill>
          <a:blip r:embed="rId2"/>
          <a:stretch/>
        </p:blipFill>
        <p:spPr>
          <a:xfrm>
            <a:off x="2590920" y="5638680"/>
            <a:ext cx="114300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M900303368[1]"/>
          <p:cNvPicPr/>
          <p:nvPr/>
        </p:nvPicPr>
        <p:blipFill>
          <a:blip r:embed="rId3"/>
          <a:stretch/>
        </p:blipFill>
        <p:spPr>
          <a:xfrm>
            <a:off x="8001000" y="281952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M900234677[1]"/>
          <p:cNvPicPr/>
          <p:nvPr/>
        </p:nvPicPr>
        <p:blipFill>
          <a:blip r:embed="rId4"/>
          <a:stretch/>
        </p:blipFill>
        <p:spPr>
          <a:xfrm>
            <a:off x="6934320" y="647640"/>
            <a:ext cx="1152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is used by anyone who needs to draw a circle, line, or line segment. The name geometry comes from two Greek words: geo, meaning “land,” and metry, meaning “to m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21702126"/>
          <p:cNvPicPr/>
          <p:nvPr/>
        </p:nvPicPr>
        <p:blipFill>
          <a:blip r:embed="rId1"/>
          <a:stretch/>
        </p:blipFill>
        <p:spPr>
          <a:xfrm>
            <a:off x="7086600" y="4572000"/>
            <a:ext cx="905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k mathematician named Euclid brought together most of the knowledge of geometry. He set down general rules that he called axioms, postulates, and theorems. He published a 13-volume work called The Elements. Euclid’s system of geometry is called Euclidean Geometry. Students study Euclidean Geometry in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IEN048"/>
          <p:cNvPicPr/>
          <p:nvPr/>
        </p:nvPicPr>
        <p:blipFill>
          <a:blip r:embed="rId1"/>
          <a:stretch/>
        </p:blipFill>
        <p:spPr>
          <a:xfrm>
            <a:off x="6006960" y="762120"/>
            <a:ext cx="11811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athematicians who contributed to the formation of geometry are Pythagoras, Gauss, Lewis Carroll, Johannes Kepler, and many oth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21702407"/>
          <p:cNvPicPr/>
          <p:nvPr/>
        </p:nvPicPr>
        <p:blipFill>
          <a:blip r:embed="rId1"/>
          <a:stretch/>
        </p:blipFill>
        <p:spPr>
          <a:xfrm>
            <a:off x="6400800" y="4114800"/>
            <a:ext cx="933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03:18Z</dcterms:created>
  <dc:creator>McDougal Littell</dc:creator>
  <dc:description/>
  <dc:language>en-US</dc:language>
  <cp:lastModifiedBy>Administrative Services</cp:lastModifiedBy>
  <dcterms:modified xsi:type="dcterms:W3CDTF">2013-08-15T14:11:30Z</dcterms:modified>
  <cp:revision>107</cp:revision>
  <dc:subject/>
  <dc:title>No Slide Title</dc:title>
</cp:coreProperties>
</file>